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050-43F7-410D-8066-EFFBC364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E8E-5CBF-4308-83AB-C71C365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B3B-1FE7-4F17-82C1-CB2EE19B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81D-B617-4F39-8896-7E3BD876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241-D2C4-4626-B03D-198E5DC8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872-B04F-48F5-9685-C0E40EDE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2AE-7500-4BCB-83EC-9DFAF1B0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D46C-1C8C-4178-B281-C2F0BE8A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16D-07AE-4800-AD34-B1EDCA83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EEB-6B33-4CB1-AF2D-DED6BBB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D842-B8CE-42FA-A632-E13AF286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0F2-B872-40DE-AA5C-52485EC7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101-C7A3-4CD6-B6AC-0D749D0AE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agram 3" descr=""/>
          <p:cNvPicPr/>
          <p:nvPr/>
        </p:nvPicPr>
        <p:blipFill>
          <a:blip r:embed="rId1"/>
          <a:stretch/>
        </p:blipFill>
        <p:spPr>
          <a:xfrm>
            <a:off x="1706400" y="334800"/>
            <a:ext cx="7364520" cy="55785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236520" y="228600"/>
            <a:ext cx="296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NS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mpro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530600" y="2362320"/>
            <a:ext cx="1565280" cy="131076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 each box to view latest status;   </a:t>
            </a:r>
            <a:br>
              <a:rPr sz="1600"/>
            </a:br>
            <a:r>
              <a:rPr b="1" i="1" lang="en-US" sz="1600" spc="-1" strike="noStrike">
                <a:solidFill>
                  <a:srgbClr val="ff0000"/>
                </a:solidFill>
                <a:latin typeface="Calibri"/>
              </a:rPr>
              <a:t>Click this box to see Next Ste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600" y="1982880"/>
            <a:ext cx="14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Updated: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18 October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33520" y="6059520"/>
            <a:ext cx="8076960" cy="6415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:  This status format is a relatively new innovation proposed by the ICANN Board’s Structural Improvements Committee (SIC) and developed by ICANN Staff.  The Staff welcomes any community feedback and suggestions for improvements at: policy-staff@icann.or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1201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15"/>
          <p:cNvGrpSpPr/>
          <p:nvPr/>
        </p:nvGrpSpPr>
        <p:grpSpPr>
          <a:xfrm>
            <a:off x="1752480" y="542880"/>
            <a:ext cx="5486400" cy="1041480"/>
            <a:chOff x="1752480" y="542880"/>
            <a:chExt cx="5486400" cy="1041480"/>
          </a:xfrm>
        </p:grpSpPr>
        <p:grpSp>
          <p:nvGrpSpPr>
            <p:cNvPr id="48" name="Rounded Rectangle 16"/>
            <p:cNvGrpSpPr/>
            <p:nvPr/>
          </p:nvGrpSpPr>
          <p:grpSpPr>
            <a:xfrm>
              <a:off x="1752480" y="542880"/>
              <a:ext cx="5486400" cy="1041480"/>
              <a:chOff x="1752480" y="542880"/>
              <a:chExt cx="5486400" cy="1041480"/>
            </a:xfrm>
          </p:grpSpPr>
          <p:pic>
            <p:nvPicPr>
              <p:cNvPr id="49" name="Rounded 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542880"/>
                <a:ext cx="54864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852920" y="616680"/>
                <a:ext cx="52794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Rounded Rectangle 4"/>
            <p:cNvSpPr/>
            <p:nvPr/>
          </p:nvSpPr>
          <p:spPr>
            <a:xfrm>
              <a:off x="1803240" y="788760"/>
              <a:ext cx="537912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t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GNSO Council Restructur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14480" indent="-114480" algn="ctr">
                <a:lnSpc>
                  <a:spcPct val="90000"/>
                </a:lnSpc>
                <a:spcAft>
                  <a:spcPts val="601"/>
                </a:spcAft>
                <a:buClr>
                  <a:srgbClr val="ffffff"/>
                </a:buClr>
                <a:buFont typeface="Calibri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280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1832040" y="482760"/>
            <a:ext cx="5486400" cy="1041120"/>
            <a:chOff x="1832040" y="482760"/>
            <a:chExt cx="5486400" cy="1041120"/>
          </a:xfrm>
        </p:grpSpPr>
        <p:grpSp>
          <p:nvGrpSpPr>
            <p:cNvPr id="54" name="Rounded Rectangle 6"/>
            <p:cNvGrpSpPr/>
            <p:nvPr/>
          </p:nvGrpSpPr>
          <p:grpSpPr>
            <a:xfrm>
              <a:off x="1832040" y="482760"/>
              <a:ext cx="5486400" cy="1041120"/>
              <a:chOff x="1832040" y="482760"/>
              <a:chExt cx="5486400" cy="1041120"/>
            </a:xfrm>
          </p:grpSpPr>
          <p:pic>
            <p:nvPicPr>
              <p:cNvPr id="55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2040" y="482760"/>
                <a:ext cx="5486400" cy="104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932480" y="556920"/>
                <a:ext cx="5279400" cy="84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" name="Rounded Rectangle 4"/>
            <p:cNvSpPr/>
            <p:nvPr/>
          </p:nvSpPr>
          <p:spPr>
            <a:xfrm>
              <a:off x="2061720" y="556920"/>
              <a:ext cx="502092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Adopt a WG Mode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280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1752480" y="457200"/>
            <a:ext cx="5486400" cy="1041480"/>
            <a:chOff x="1752480" y="457200"/>
            <a:chExt cx="5486400" cy="1041480"/>
          </a:xfrm>
        </p:grpSpPr>
        <p:grpSp>
          <p:nvGrpSpPr>
            <p:cNvPr id="60" name="Rounded Rectangle 6"/>
            <p:cNvGrpSpPr/>
            <p:nvPr/>
          </p:nvGrpSpPr>
          <p:grpSpPr>
            <a:xfrm>
              <a:off x="1752480" y="457200"/>
              <a:ext cx="5486400" cy="1041480"/>
              <a:chOff x="1752480" y="457200"/>
              <a:chExt cx="5486400" cy="1041480"/>
            </a:xfrm>
          </p:grpSpPr>
          <p:pic>
            <p:nvPicPr>
              <p:cNvPr id="61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457200"/>
                <a:ext cx="548640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1852920" y="530640"/>
                <a:ext cx="527940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Rounded Rectangle 4"/>
            <p:cNvSpPr/>
            <p:nvPr/>
          </p:nvSpPr>
          <p:spPr>
            <a:xfrm>
              <a:off x="1982160" y="532080"/>
              <a:ext cx="502092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Enhance &amp; Support SGs/Constituenci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535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5"/>
          <p:cNvGrpSpPr/>
          <p:nvPr/>
        </p:nvGrpSpPr>
        <p:grpSpPr>
          <a:xfrm>
            <a:off x="1752480" y="533520"/>
            <a:ext cx="5486400" cy="1031760"/>
            <a:chOff x="1752480" y="533520"/>
            <a:chExt cx="5486400" cy="1031760"/>
          </a:xfrm>
        </p:grpSpPr>
        <p:grpSp>
          <p:nvGrpSpPr>
            <p:cNvPr id="66" name="Rounded Rectangle 6"/>
            <p:cNvGrpSpPr/>
            <p:nvPr/>
          </p:nvGrpSpPr>
          <p:grpSpPr>
            <a:xfrm>
              <a:off x="1752480" y="533520"/>
              <a:ext cx="5486400" cy="1031760"/>
              <a:chOff x="1752480" y="533520"/>
              <a:chExt cx="5486400" cy="1031760"/>
            </a:xfrm>
          </p:grpSpPr>
          <p:pic>
            <p:nvPicPr>
              <p:cNvPr id="67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533520"/>
                <a:ext cx="5486400" cy="103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852560" y="603720"/>
                <a:ext cx="5280120" cy="84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" name="Rounded Rectangle 4"/>
            <p:cNvSpPr/>
            <p:nvPr/>
          </p:nvSpPr>
          <p:spPr>
            <a:xfrm>
              <a:off x="1982160" y="604080"/>
              <a:ext cx="502092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Revise the Policy </a:t>
              </a:r>
              <a:br>
                <a:rPr sz="2800"/>
              </a:b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Development Proc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Diagram 3" descr=""/>
          <p:cNvPicPr/>
          <p:nvPr/>
        </p:nvPicPr>
        <p:blipFill>
          <a:blip r:embed="rId1"/>
          <a:stretch/>
        </p:blipFill>
        <p:spPr>
          <a:xfrm>
            <a:off x="536400" y="1676520"/>
            <a:ext cx="8034480" cy="50292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5"/>
          <p:cNvGrpSpPr/>
          <p:nvPr/>
        </p:nvGrpSpPr>
        <p:grpSpPr>
          <a:xfrm>
            <a:off x="1773360" y="533520"/>
            <a:ext cx="5465520" cy="1038240"/>
            <a:chOff x="1773360" y="533520"/>
            <a:chExt cx="5465520" cy="1038240"/>
          </a:xfrm>
        </p:grpSpPr>
        <p:grpSp>
          <p:nvGrpSpPr>
            <p:cNvPr id="72" name="Rounded Rectangle 6"/>
            <p:cNvGrpSpPr/>
            <p:nvPr/>
          </p:nvGrpSpPr>
          <p:grpSpPr>
            <a:xfrm>
              <a:off x="1773360" y="533520"/>
              <a:ext cx="5465520" cy="1038240"/>
              <a:chOff x="1773360" y="533520"/>
              <a:chExt cx="5465520" cy="1038240"/>
            </a:xfrm>
          </p:grpSpPr>
          <p:pic>
            <p:nvPicPr>
              <p:cNvPr id="73" name="Rounded Rectangl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3360" y="533520"/>
                <a:ext cx="5465520" cy="103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1875960" y="604080"/>
                <a:ext cx="525672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" name="Rounded Rectangle 4"/>
            <p:cNvSpPr/>
            <p:nvPr/>
          </p:nvSpPr>
          <p:spPr>
            <a:xfrm>
              <a:off x="2005200" y="604080"/>
              <a:ext cx="4998240" cy="8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Improve Communications &amp; Coord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GNSO Improvement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Next Steps (Q4 2010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365040" y="1219320"/>
            <a:ext cx="840744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480" y="0"/>
            <a:ext cx="892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NSO Improvements:  Key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Notched Right Arrow 3"/>
          <p:cNvGrpSpPr/>
          <p:nvPr/>
        </p:nvGrpSpPr>
        <p:grpSpPr>
          <a:xfrm>
            <a:off x="30240" y="2743200"/>
            <a:ext cx="9040680" cy="853920"/>
            <a:chOff x="30240" y="2743200"/>
            <a:chExt cx="9040680" cy="853920"/>
          </a:xfrm>
        </p:grpSpPr>
        <p:pic>
          <p:nvPicPr>
            <p:cNvPr id="80" name="Notched Right Arrow 3" descr=""/>
            <p:cNvPicPr/>
            <p:nvPr/>
          </p:nvPicPr>
          <p:blipFill>
            <a:blip r:embed="rId1"/>
            <a:stretch/>
          </p:blipFill>
          <p:spPr>
            <a:xfrm>
              <a:off x="30240" y="2743200"/>
              <a:ext cx="90406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66760" y="2976480"/>
              <a:ext cx="8578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2" name="Straight Arrow Connector 5"/>
          <p:cNvCxnSpPr/>
          <p:nvPr/>
        </p:nvCxnSpPr>
        <p:spPr>
          <a:xfrm>
            <a:off x="609120" y="2505240"/>
            <a:ext cx="1080" cy="4896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83" name="TextBox 6"/>
          <p:cNvSpPr/>
          <p:nvPr/>
        </p:nvSpPr>
        <p:spPr>
          <a:xfrm>
            <a:off x="397440" y="2994120"/>
            <a:ext cx="188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2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08]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Q3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2607480" y="2982960"/>
            <a:ext cx="28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1       Q2   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09]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3   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44360" y="2238480"/>
            <a:ext cx="895320" cy="2764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GC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>
            <a:off x="2428920" y="2938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884200" y="2994120"/>
            <a:ext cx="28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1       Q2      </a:t>
            </a:r>
            <a:r>
              <a:rPr b="0" lang="en-US" sz="1600" spc="-1" strike="noStrike">
                <a:solidFill>
                  <a:srgbClr val="ffff00"/>
                </a:solidFill>
                <a:latin typeface="Calibri"/>
              </a:rPr>
              <a:t>[2010]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Q3       Q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19"/>
          <p:cNvSpPr/>
          <p:nvPr/>
        </p:nvSpPr>
        <p:spPr>
          <a:xfrm>
            <a:off x="5638680" y="29383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2052720" y="1731960"/>
            <a:ext cx="1376280" cy="64152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ork Teams Formed (Mexico C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24"/>
          <p:cNvCxnSpPr/>
          <p:nvPr/>
        </p:nvCxnSpPr>
        <p:spPr>
          <a:xfrm>
            <a:off x="2739600" y="2376360"/>
            <a:ext cx="10440" cy="605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cxnSp>
        <p:nvCxnSpPr>
          <p:cNvPr id="91" name="Straight Arrow Connector 27"/>
          <p:cNvCxnSpPr>
            <a:stCxn id="92" idx="0"/>
          </p:cNvCxnSpPr>
          <p:nvPr/>
        </p:nvCxnSpPr>
        <p:spPr>
          <a:xfrm flipV="1">
            <a:off x="7689960" y="3351960"/>
            <a:ext cx="302400" cy="3056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3" name="Rectangle 30"/>
          <p:cNvSpPr/>
          <p:nvPr/>
        </p:nvSpPr>
        <p:spPr>
          <a:xfrm>
            <a:off x="4029120" y="1346040"/>
            <a:ext cx="1152360" cy="10065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oard Approved Bylaws &amp; Transitional SG Ch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31"/>
          <p:cNvCxnSpPr/>
          <p:nvPr/>
        </p:nvCxnSpPr>
        <p:spPr>
          <a:xfrm>
            <a:off x="4707000" y="2371320"/>
            <a:ext cx="18000" cy="599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5" name="Rectangle 33"/>
          <p:cNvSpPr/>
          <p:nvPr/>
        </p:nvSpPr>
        <p:spPr>
          <a:xfrm>
            <a:off x="3733920" y="3635280"/>
            <a:ext cx="1676160" cy="45900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ew GNSO Council &amp; Bicameral House (Seo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35"/>
          <p:cNvCxnSpPr/>
          <p:nvPr/>
        </p:nvCxnSpPr>
        <p:spPr>
          <a:xfrm flipV="1">
            <a:off x="5028840" y="3342600"/>
            <a:ext cx="168840" cy="292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7" name="Rectangle 41"/>
          <p:cNvSpPr/>
          <p:nvPr/>
        </p:nvSpPr>
        <p:spPr>
          <a:xfrm>
            <a:off x="3094200" y="4387680"/>
            <a:ext cx="216360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uncil Approved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GNSO Operating Procedures–v1.0 (Seou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42"/>
          <p:cNvCxnSpPr/>
          <p:nvPr/>
        </p:nvCxnSpPr>
        <p:spPr>
          <a:xfrm flipV="1">
            <a:off x="4724280" y="4103280"/>
            <a:ext cx="140400" cy="2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9" name="Rectangle 46"/>
          <p:cNvSpPr/>
          <p:nvPr/>
        </p:nvSpPr>
        <p:spPr>
          <a:xfrm>
            <a:off x="3352680" y="5334120"/>
            <a:ext cx="1609920" cy="64152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ist of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“Toolkit” Servi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pproved by Counc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48"/>
          <p:cNvCxnSpPr/>
          <p:nvPr/>
        </p:nvCxnSpPr>
        <p:spPr>
          <a:xfrm flipV="1">
            <a:off x="4343400" y="5047920"/>
            <a:ext cx="140400" cy="286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92" name="Rectangle 50"/>
          <p:cNvSpPr/>
          <p:nvPr/>
        </p:nvSpPr>
        <p:spPr>
          <a:xfrm>
            <a:off x="6929280" y="3657600"/>
            <a:ext cx="1519560" cy="641520"/>
          </a:xfrm>
          <a:prstGeom prst="rect">
            <a:avLst/>
          </a:prstGeom>
          <a:solidFill>
            <a:srgbClr val="d7e4b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SG Work Team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ask #1 Final Report Approved by Counc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2"/>
          <p:cNvSpPr/>
          <p:nvPr/>
        </p:nvSpPr>
        <p:spPr>
          <a:xfrm>
            <a:off x="5611680" y="3998880"/>
            <a:ext cx="1208160" cy="641520"/>
          </a:xfrm>
          <a:prstGeom prst="rect">
            <a:avLst/>
          </a:prstGeom>
          <a:solidFill>
            <a:srgbClr val="b7dee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DP Work Team Published Initial Re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54"/>
          <p:cNvCxnSpPr>
            <a:stCxn id="101" idx="0"/>
          </p:cNvCxnSpPr>
          <p:nvPr/>
        </p:nvCxnSpPr>
        <p:spPr>
          <a:xfrm flipV="1">
            <a:off x="6214680" y="3351960"/>
            <a:ext cx="415080" cy="646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3" name="TextBox 56"/>
          <p:cNvSpPr/>
          <p:nvPr/>
        </p:nvSpPr>
        <p:spPr>
          <a:xfrm>
            <a:off x="57240" y="5353200"/>
            <a:ext cx="2666880" cy="1448280"/>
          </a:xfrm>
          <a:prstGeom prst="rect">
            <a:avLst/>
          </a:prstGeom>
          <a:gradFill rotWithShape="0">
            <a:gsLst>
              <a:gs pos="0">
                <a:srgbClr val="e5e5e5"/>
              </a:gs>
              <a:gs pos="100000">
                <a:srgbClr val="f2f2f2"/>
              </a:gs>
            </a:gsLst>
            <a:lin ang="5400000"/>
          </a:gra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</a:rPr>
              <a:t>Legend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d99694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GNSO Council Restruct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c3d69b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Enhance &amp; Support SGs/Constituenc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ac090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Adopt a Working Group Mod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93cddd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Improve the Policy Development Proc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b3a2c7"/>
              </a:buClr>
              <a:buSzPct val="150000"/>
              <a:buFont typeface="Arial Narrow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Improve Communications &amp; Coordin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Black Text = Complet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Yellow Text = Schedul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0"/>
          <p:cNvSpPr/>
          <p:nvPr/>
        </p:nvSpPr>
        <p:spPr>
          <a:xfrm>
            <a:off x="5600880" y="5580000"/>
            <a:ext cx="1638000" cy="459000"/>
          </a:xfrm>
          <a:prstGeom prst="rect">
            <a:avLst/>
          </a:prstGeom>
          <a:solidFill>
            <a:srgbClr val="ccc1da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uncil Approved CCT Work Team Final Re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Straight Arrow Connector 62"/>
          <p:cNvCxnSpPr/>
          <p:nvPr/>
        </p:nvCxnSpPr>
        <p:spPr>
          <a:xfrm flipV="1">
            <a:off x="6248160" y="4644720"/>
            <a:ext cx="108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6" name="Rectangle 63"/>
          <p:cNvSpPr/>
          <p:nvPr/>
        </p:nvSpPr>
        <p:spPr>
          <a:xfrm>
            <a:off x="7513560" y="1927080"/>
            <a:ext cx="132552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Board Review of </a:t>
            </a: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Constituency &amp; SG Ch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64"/>
          <p:cNvCxnSpPr/>
          <p:nvPr/>
        </p:nvCxnSpPr>
        <p:spPr>
          <a:xfrm>
            <a:off x="8152920" y="2584080"/>
            <a:ext cx="305640" cy="399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08" name="Rectangle 65"/>
          <p:cNvSpPr/>
          <p:nvPr/>
        </p:nvSpPr>
        <p:spPr>
          <a:xfrm>
            <a:off x="6313320" y="914400"/>
            <a:ext cx="145908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Resolve Individual User Membership in Constituencies/S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Straight Arrow Connector 66"/>
          <p:cNvCxnSpPr/>
          <p:nvPr/>
        </p:nvCxnSpPr>
        <p:spPr>
          <a:xfrm>
            <a:off x="7467120" y="1574640"/>
            <a:ext cx="229320" cy="3402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0" name="Rectangle 72"/>
          <p:cNvSpPr/>
          <p:nvPr/>
        </p:nvSpPr>
        <p:spPr>
          <a:xfrm>
            <a:off x="5608800" y="4886280"/>
            <a:ext cx="1752480" cy="459000"/>
          </a:xfrm>
          <a:prstGeom prst="rect">
            <a:avLst/>
          </a:prstGeom>
          <a:solidFill>
            <a:srgbClr val="fcd5b5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G Work Team Published Draft Guide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83"/>
          <p:cNvCxnSpPr/>
          <p:nvPr/>
        </p:nvCxnSpPr>
        <p:spPr>
          <a:xfrm flipV="1">
            <a:off x="6248160" y="5347800"/>
            <a:ext cx="1080" cy="2325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2" name="Rectangle 84"/>
          <p:cNvSpPr/>
          <p:nvPr/>
        </p:nvSpPr>
        <p:spPr>
          <a:xfrm>
            <a:off x="6041880" y="1751040"/>
            <a:ext cx="1182960" cy="64152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Resolve NCSG Structural Design Propos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85"/>
          <p:cNvCxnSpPr/>
          <p:nvPr/>
        </p:nvCxnSpPr>
        <p:spPr>
          <a:xfrm>
            <a:off x="6781320" y="2417760"/>
            <a:ext cx="1143720" cy="559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4" name="Rectangle 90"/>
          <p:cNvSpPr/>
          <p:nvPr/>
        </p:nvSpPr>
        <p:spPr>
          <a:xfrm>
            <a:off x="717480" y="1219320"/>
            <a:ext cx="1035000" cy="8240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taff Program &amp; Project Support Plans Comple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Straight Arrow Connector 92"/>
          <p:cNvCxnSpPr>
            <a:stCxn id="114" idx="2"/>
          </p:cNvCxnSpPr>
          <p:nvPr/>
        </p:nvCxnSpPr>
        <p:spPr>
          <a:xfrm>
            <a:off x="1235160" y="2049120"/>
            <a:ext cx="375120" cy="9104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6" name="Rectangle 95"/>
          <p:cNvSpPr/>
          <p:nvPr/>
        </p:nvSpPr>
        <p:spPr>
          <a:xfrm>
            <a:off x="628560" y="3930480"/>
            <a:ext cx="1505160" cy="641520"/>
          </a:xfrm>
          <a:prstGeom prst="rect">
            <a:avLst/>
          </a:prstGeom>
          <a:solidFill>
            <a:srgbClr val="e6b9b8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ouncil Implementation Plan Appro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96"/>
          <p:cNvCxnSpPr/>
          <p:nvPr/>
        </p:nvCxnSpPr>
        <p:spPr>
          <a:xfrm flipV="1">
            <a:off x="1752480" y="3352320"/>
            <a:ext cx="294480" cy="56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18" name="Rectangle 106"/>
          <p:cNvSpPr/>
          <p:nvPr/>
        </p:nvSpPr>
        <p:spPr>
          <a:xfrm>
            <a:off x="7513560" y="4611600"/>
            <a:ext cx="1522440" cy="824040"/>
          </a:xfrm>
          <a:prstGeom prst="rect">
            <a:avLst/>
          </a:prstGeom>
          <a:solidFill>
            <a:srgbClr val="7f7f7f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 Narrow"/>
              </a:rPr>
              <a:t>Work Teams Complete Final Deliverables for OSC/PPSC Appro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07"/>
          <p:cNvCxnSpPr/>
          <p:nvPr/>
        </p:nvCxnSpPr>
        <p:spPr>
          <a:xfrm flipV="1">
            <a:off x="8534160" y="3384720"/>
            <a:ext cx="1080" cy="1227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headEnd len="lg" type="stealth" w="lg"/>
          </a:ln>
        </p:spPr>
      </p:cxnSp>
      <p:sp>
        <p:nvSpPr>
          <p:cNvPr id="120" name="Rectangle 2"/>
          <p:cNvSpPr/>
          <p:nvPr/>
        </p:nvSpPr>
        <p:spPr>
          <a:xfrm>
            <a:off x="2971800" y="6248520"/>
            <a:ext cx="5942160" cy="5508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Calibri"/>
              </a:rPr>
              <a:t>Note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:  This status format is a relatively new innovation proposed by the ICANN Board’s Structural Improvements Committee (SIOC) and developed by ICANN Staff.  The Staff welcomes any community feedback and suggestions for improvements at: policy-staff@icann.org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7:41:11Z</dcterms:created>
  <dc:creator>Ken Bour</dc:creator>
  <dc:description/>
  <dc:language>en-US</dc:language>
  <cp:lastModifiedBy>Ken Bour</cp:lastModifiedBy>
  <dcterms:modified xsi:type="dcterms:W3CDTF">2010-10-21T21:10:49Z</dcterms:modified>
  <cp:revision>134</cp:revision>
  <dc:subject/>
  <dc:title>PowerPoint Presentation</dc:title>
</cp:coreProperties>
</file>