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A17-2B86-45EC-BFD8-FEC9F760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EF8-8F49-4EF7-AD1F-C75C1466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F8B-5789-4D59-A091-9CE63001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3AE-2351-49DF-BF8C-C82B0F6C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4CC-4B61-43B1-BC6A-63B8FC1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D86-AC92-4B59-A036-12FF9FA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CBD-FD86-4FC4-922B-6EC8715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7CF-63C6-475A-8B9B-1273469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797-9B4E-453B-A69E-91921930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E19-B869-4606-AD47-115A93D3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BA4-DB48-4FCC-AA69-0C55334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BAA-BB15-456E-9764-8C4D9C1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263-CC09-4B75-9EAC-2FC3DBD8D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1706400" y="334800"/>
            <a:ext cx="7364520" cy="5578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36520" y="22860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ro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530600" y="2362320"/>
            <a:ext cx="1565280" cy="1310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each box to view latest status;   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this box to see Next Ste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198288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Updated: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18 October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3520" y="6059520"/>
            <a:ext cx="8076960" cy="641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C) and developed by ICANN Staff.  The Staff welcomes any community feedback and suggestions for improvements at: policy-staff@icann.or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1201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1752480" y="542880"/>
            <a:ext cx="5486400" cy="1041480"/>
            <a:chOff x="1752480" y="542880"/>
            <a:chExt cx="5486400" cy="1041480"/>
          </a:xfrm>
        </p:grpSpPr>
        <p:grpSp>
          <p:nvGrpSpPr>
            <p:cNvPr id="48" name="Rounded Rectangle 16"/>
            <p:cNvGrpSpPr/>
            <p:nvPr/>
          </p:nvGrpSpPr>
          <p:grpSpPr>
            <a:xfrm>
              <a:off x="1752480" y="542880"/>
              <a:ext cx="5486400" cy="1041480"/>
              <a:chOff x="1752480" y="542880"/>
              <a:chExt cx="5486400" cy="1041480"/>
            </a:xfrm>
          </p:grpSpPr>
          <p:pic>
            <p:nvPicPr>
              <p:cNvPr id="49" name="Rounded 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4288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852920" y="61668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Rounded Rectangle 4"/>
            <p:cNvSpPr/>
            <p:nvPr/>
          </p:nvSpPr>
          <p:spPr>
            <a:xfrm>
              <a:off x="1803240" y="788760"/>
              <a:ext cx="53791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t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GNSO Council Restructu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14480" indent="-114480" algn="ctr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1832040" y="482760"/>
            <a:ext cx="5486400" cy="1041120"/>
            <a:chOff x="1832040" y="482760"/>
            <a:chExt cx="5486400" cy="1041120"/>
          </a:xfrm>
        </p:grpSpPr>
        <p:grpSp>
          <p:nvGrpSpPr>
            <p:cNvPr id="54" name="Rounded Rectangle 6"/>
            <p:cNvGrpSpPr/>
            <p:nvPr/>
          </p:nvGrpSpPr>
          <p:grpSpPr>
            <a:xfrm>
              <a:off x="1832040" y="482760"/>
              <a:ext cx="5486400" cy="1041120"/>
              <a:chOff x="1832040" y="482760"/>
              <a:chExt cx="5486400" cy="1041120"/>
            </a:xfrm>
          </p:grpSpPr>
          <p:pic>
            <p:nvPicPr>
              <p:cNvPr id="55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040" y="482760"/>
                <a:ext cx="5486400" cy="104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932480" y="556920"/>
                <a:ext cx="5279400" cy="84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" name="Rounded Rectangle 4"/>
            <p:cNvSpPr/>
            <p:nvPr/>
          </p:nvSpPr>
          <p:spPr>
            <a:xfrm>
              <a:off x="2061720" y="556920"/>
              <a:ext cx="50209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dopt a WG Mode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1752480" y="457200"/>
            <a:ext cx="5486400" cy="1041480"/>
            <a:chOff x="1752480" y="457200"/>
            <a:chExt cx="5486400" cy="1041480"/>
          </a:xfrm>
        </p:grpSpPr>
        <p:grpSp>
          <p:nvGrpSpPr>
            <p:cNvPr id="60" name="Rounded Rectangle 6"/>
            <p:cNvGrpSpPr/>
            <p:nvPr/>
          </p:nvGrpSpPr>
          <p:grpSpPr>
            <a:xfrm>
              <a:off x="1752480" y="457200"/>
              <a:ext cx="5486400" cy="1041480"/>
              <a:chOff x="1752480" y="457200"/>
              <a:chExt cx="5486400" cy="1041480"/>
            </a:xfrm>
          </p:grpSpPr>
          <p:pic>
            <p:nvPicPr>
              <p:cNvPr id="61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5720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1852920" y="53064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Rounded Rectangle 4"/>
            <p:cNvSpPr/>
            <p:nvPr/>
          </p:nvSpPr>
          <p:spPr>
            <a:xfrm>
              <a:off x="1982160" y="532080"/>
              <a:ext cx="50209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Enhance &amp; Support SGs/Constituenci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535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"/>
          <p:cNvGrpSpPr/>
          <p:nvPr/>
        </p:nvGrpSpPr>
        <p:grpSpPr>
          <a:xfrm>
            <a:off x="1752480" y="533520"/>
            <a:ext cx="5486400" cy="1031760"/>
            <a:chOff x="1752480" y="533520"/>
            <a:chExt cx="5486400" cy="1031760"/>
          </a:xfrm>
        </p:grpSpPr>
        <p:grpSp>
          <p:nvGrpSpPr>
            <p:cNvPr id="66" name="Rounded Rectangle 6"/>
            <p:cNvGrpSpPr/>
            <p:nvPr/>
          </p:nvGrpSpPr>
          <p:grpSpPr>
            <a:xfrm>
              <a:off x="1752480" y="533520"/>
              <a:ext cx="5486400" cy="1031760"/>
              <a:chOff x="1752480" y="533520"/>
              <a:chExt cx="5486400" cy="1031760"/>
            </a:xfrm>
          </p:grpSpPr>
          <p:pic>
            <p:nvPicPr>
              <p:cNvPr id="67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33520"/>
                <a:ext cx="5486400" cy="103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852560" y="603720"/>
                <a:ext cx="5280120" cy="84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Rounded Rectangle 4"/>
            <p:cNvSpPr/>
            <p:nvPr/>
          </p:nvSpPr>
          <p:spPr>
            <a:xfrm>
              <a:off x="1982160" y="604080"/>
              <a:ext cx="50209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Revise the Policy 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Development Proc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34480" cy="5029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1773360" y="533520"/>
            <a:ext cx="5465520" cy="1038240"/>
            <a:chOff x="1773360" y="533520"/>
            <a:chExt cx="5465520" cy="1038240"/>
          </a:xfrm>
        </p:grpSpPr>
        <p:grpSp>
          <p:nvGrpSpPr>
            <p:cNvPr id="72" name="Rounded Rectangle 6"/>
            <p:cNvGrpSpPr/>
            <p:nvPr/>
          </p:nvGrpSpPr>
          <p:grpSpPr>
            <a:xfrm>
              <a:off x="1773360" y="533520"/>
              <a:ext cx="5465520" cy="1038240"/>
              <a:chOff x="1773360" y="533520"/>
              <a:chExt cx="5465520" cy="1038240"/>
            </a:xfrm>
          </p:grpSpPr>
          <p:pic>
            <p:nvPicPr>
              <p:cNvPr id="73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3360" y="533520"/>
                <a:ext cx="546552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875960" y="604080"/>
                <a:ext cx="525672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" name="Rounded Rectangle 4"/>
            <p:cNvSpPr/>
            <p:nvPr/>
          </p:nvSpPr>
          <p:spPr>
            <a:xfrm>
              <a:off x="2005200" y="604080"/>
              <a:ext cx="499824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Improve Communications &amp; Coord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GNSO Improvement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Next Steps (Q4 20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4074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892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Improvements:  Key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Notched Right Arrow 3"/>
          <p:cNvGrpSpPr/>
          <p:nvPr/>
        </p:nvGrpSpPr>
        <p:grpSpPr>
          <a:xfrm>
            <a:off x="30240" y="2743200"/>
            <a:ext cx="9040680" cy="853920"/>
            <a:chOff x="30240" y="2743200"/>
            <a:chExt cx="9040680" cy="853920"/>
          </a:xfrm>
        </p:grpSpPr>
        <p:pic>
          <p:nvPicPr>
            <p:cNvPr id="80" name="Notched Right Arrow 3" descr=""/>
            <p:cNvPicPr/>
            <p:nvPr/>
          </p:nvPicPr>
          <p:blipFill>
            <a:blip r:embed="rId1"/>
            <a:stretch/>
          </p:blipFill>
          <p:spPr>
            <a:xfrm>
              <a:off x="30240" y="2743200"/>
              <a:ext cx="90406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66760" y="2976480"/>
              <a:ext cx="857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2" name="Straight Arrow Connector 5"/>
          <p:cNvCxnSpPr/>
          <p:nvPr/>
        </p:nvCxnSpPr>
        <p:spPr>
          <a:xfrm>
            <a:off x="609120" y="2505240"/>
            <a:ext cx="108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83" name="TextBox 6"/>
          <p:cNvSpPr/>
          <p:nvPr/>
        </p:nvSpPr>
        <p:spPr>
          <a:xfrm>
            <a:off x="397440" y="29941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2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8]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Q3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607480" y="298296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9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44360" y="2238480"/>
            <a:ext cx="895320" cy="276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GC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>
            <a:off x="242892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884200" y="299412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10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19"/>
          <p:cNvSpPr/>
          <p:nvPr/>
        </p:nvSpPr>
        <p:spPr>
          <a:xfrm>
            <a:off x="563868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2052720" y="1731960"/>
            <a:ext cx="1376280" cy="6415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ork Teams Formed (Mexico C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24"/>
          <p:cNvCxnSpPr/>
          <p:nvPr/>
        </p:nvCxnSpPr>
        <p:spPr>
          <a:xfrm>
            <a:off x="2739600" y="2376360"/>
            <a:ext cx="10440" cy="605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cxnSp>
        <p:nvCxnSpPr>
          <p:cNvPr id="91" name="Straight Arrow Connector 27"/>
          <p:cNvCxnSpPr>
            <a:stCxn id="92" idx="0"/>
          </p:cNvCxnSpPr>
          <p:nvPr/>
        </p:nvCxnSpPr>
        <p:spPr>
          <a:xfrm flipV="1">
            <a:off x="7689960" y="3351960"/>
            <a:ext cx="302400" cy="305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3" name="Rectangle 30"/>
          <p:cNvSpPr/>
          <p:nvPr/>
        </p:nvSpPr>
        <p:spPr>
          <a:xfrm>
            <a:off x="4029120" y="1346040"/>
            <a:ext cx="1152360" cy="10065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ard Approved Bylaws &amp; Transitional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31"/>
          <p:cNvCxnSpPr/>
          <p:nvPr/>
        </p:nvCxnSpPr>
        <p:spPr>
          <a:xfrm>
            <a:off x="4707000" y="2371320"/>
            <a:ext cx="18000" cy="599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5" name="Rectangle 33"/>
          <p:cNvSpPr/>
          <p:nvPr/>
        </p:nvSpPr>
        <p:spPr>
          <a:xfrm>
            <a:off x="3733920" y="3635280"/>
            <a:ext cx="1676160" cy="45900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ew GNSO Council &amp; Bicameral House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35"/>
          <p:cNvCxnSpPr/>
          <p:nvPr/>
        </p:nvCxnSpPr>
        <p:spPr>
          <a:xfrm flipV="1">
            <a:off x="5028840" y="3342600"/>
            <a:ext cx="168840" cy="29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7" name="Rectangle 41"/>
          <p:cNvSpPr/>
          <p:nvPr/>
        </p:nvSpPr>
        <p:spPr>
          <a:xfrm>
            <a:off x="3094200" y="4387680"/>
            <a:ext cx="216360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uncil Approved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NSO Operating Procedures–v1.0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42"/>
          <p:cNvCxnSpPr/>
          <p:nvPr/>
        </p:nvCxnSpPr>
        <p:spPr>
          <a:xfrm flipV="1">
            <a:off x="4724280" y="410328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9" name="Rectangle 46"/>
          <p:cNvSpPr/>
          <p:nvPr/>
        </p:nvSpPr>
        <p:spPr>
          <a:xfrm>
            <a:off x="3352680" y="5334120"/>
            <a:ext cx="160992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ist of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“Toolkit” Ser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8"/>
          <p:cNvCxnSpPr/>
          <p:nvPr/>
        </p:nvCxnSpPr>
        <p:spPr>
          <a:xfrm flipV="1">
            <a:off x="4343400" y="504792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2" name="Rectangle 50"/>
          <p:cNvSpPr/>
          <p:nvPr/>
        </p:nvSpPr>
        <p:spPr>
          <a:xfrm>
            <a:off x="6929280" y="3657600"/>
            <a:ext cx="151956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SG Work Te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ask #1 Final Report 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2"/>
          <p:cNvSpPr/>
          <p:nvPr/>
        </p:nvSpPr>
        <p:spPr>
          <a:xfrm>
            <a:off x="5611680" y="3998880"/>
            <a:ext cx="1208160" cy="641520"/>
          </a:xfrm>
          <a:prstGeom prst="rect">
            <a:avLst/>
          </a:prstGeom>
          <a:solidFill>
            <a:srgbClr val="b7dee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DP Work Team Published Initial Re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54"/>
          <p:cNvCxnSpPr>
            <a:stCxn id="101" idx="0"/>
          </p:cNvCxnSpPr>
          <p:nvPr/>
        </p:nvCxnSpPr>
        <p:spPr>
          <a:xfrm flipV="1">
            <a:off x="6214680" y="3351960"/>
            <a:ext cx="415080" cy="646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3" name="TextBox 56"/>
          <p:cNvSpPr/>
          <p:nvPr/>
        </p:nvSpPr>
        <p:spPr>
          <a:xfrm>
            <a:off x="57240" y="5353200"/>
            <a:ext cx="2666880" cy="1448280"/>
          </a:xfrm>
          <a:prstGeom prst="rect">
            <a:avLst/>
          </a:prstGeom>
          <a:gradFill rotWithShape="0">
            <a:gsLst>
              <a:gs pos="0">
                <a:srgbClr val="e5e5e5"/>
              </a:gs>
              <a:gs pos="100000">
                <a:srgbClr val="f2f2f2"/>
              </a:gs>
            </a:gsLst>
            <a:lin ang="54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GNSO Council Restruc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3d69b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Enhance &amp; Support SGs/Constituenc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ac090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Adopt a Working Group Mod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3cddd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the Policy Development Proc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b3a2c7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Communications &amp; Coordin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Black Text = Complet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Yellow Text = Schedul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5600880" y="5580000"/>
            <a:ext cx="1638000" cy="45900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Approved CCT Work Team Final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62"/>
          <p:cNvCxnSpPr/>
          <p:nvPr/>
        </p:nvCxnSpPr>
        <p:spPr>
          <a:xfrm flipV="1">
            <a:off x="6248160" y="464472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6" name="Rectangle 63"/>
          <p:cNvSpPr/>
          <p:nvPr/>
        </p:nvSpPr>
        <p:spPr>
          <a:xfrm>
            <a:off x="7513560" y="1927080"/>
            <a:ext cx="132552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oard Review of </a:t>
            </a: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Constituency &amp;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64"/>
          <p:cNvCxnSpPr/>
          <p:nvPr/>
        </p:nvCxnSpPr>
        <p:spPr>
          <a:xfrm>
            <a:off x="8152920" y="2584080"/>
            <a:ext cx="305640" cy="399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8" name="Rectangle 65"/>
          <p:cNvSpPr/>
          <p:nvPr/>
        </p:nvSpPr>
        <p:spPr>
          <a:xfrm>
            <a:off x="6313320" y="914400"/>
            <a:ext cx="145908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Individual User Membership in Constituencies/S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traight Arrow Connector 66"/>
          <p:cNvCxnSpPr/>
          <p:nvPr/>
        </p:nvCxnSpPr>
        <p:spPr>
          <a:xfrm>
            <a:off x="7467120" y="1574640"/>
            <a:ext cx="22932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0" name="Rectangle 72"/>
          <p:cNvSpPr/>
          <p:nvPr/>
        </p:nvSpPr>
        <p:spPr>
          <a:xfrm>
            <a:off x="5608800" y="4886280"/>
            <a:ext cx="1752480" cy="459000"/>
          </a:xfrm>
          <a:prstGeom prst="rect">
            <a:avLst/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G Work Team Published Draft Guide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83"/>
          <p:cNvCxnSpPr/>
          <p:nvPr/>
        </p:nvCxnSpPr>
        <p:spPr>
          <a:xfrm flipV="1">
            <a:off x="6248160" y="534780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2" name="Rectangle 84"/>
          <p:cNvSpPr/>
          <p:nvPr/>
        </p:nvSpPr>
        <p:spPr>
          <a:xfrm>
            <a:off x="6041880" y="1751040"/>
            <a:ext cx="118296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NCSG Structural Design Propo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85"/>
          <p:cNvCxnSpPr/>
          <p:nvPr/>
        </p:nvCxnSpPr>
        <p:spPr>
          <a:xfrm>
            <a:off x="6781320" y="2417760"/>
            <a:ext cx="1143720" cy="559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4" name="Rectangle 90"/>
          <p:cNvSpPr/>
          <p:nvPr/>
        </p:nvSpPr>
        <p:spPr>
          <a:xfrm>
            <a:off x="717480" y="1219320"/>
            <a:ext cx="1035000" cy="8240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aff Program &amp; Project Support Plans Comple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92"/>
          <p:cNvCxnSpPr>
            <a:stCxn id="114" idx="2"/>
          </p:cNvCxnSpPr>
          <p:nvPr/>
        </p:nvCxnSpPr>
        <p:spPr>
          <a:xfrm>
            <a:off x="1235160" y="2049120"/>
            <a:ext cx="375120" cy="9104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6" name="Rectangle 95"/>
          <p:cNvSpPr/>
          <p:nvPr/>
        </p:nvSpPr>
        <p:spPr>
          <a:xfrm>
            <a:off x="628560" y="3930480"/>
            <a:ext cx="150516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Implementation Plan Appro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96"/>
          <p:cNvCxnSpPr/>
          <p:nvPr/>
        </p:nvCxnSpPr>
        <p:spPr>
          <a:xfrm flipV="1">
            <a:off x="1752480" y="3352320"/>
            <a:ext cx="294480" cy="56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8" name="Rectangle 106"/>
          <p:cNvSpPr/>
          <p:nvPr/>
        </p:nvSpPr>
        <p:spPr>
          <a:xfrm>
            <a:off x="7513560" y="4611600"/>
            <a:ext cx="152244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Work Teams Complete Final Deliverables for OSC/PPSC Appr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07"/>
          <p:cNvCxnSpPr/>
          <p:nvPr/>
        </p:nvCxnSpPr>
        <p:spPr>
          <a:xfrm flipV="1">
            <a:off x="8534160" y="3384720"/>
            <a:ext cx="1080" cy="1227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20" name="Rectangle 2"/>
          <p:cNvSpPr/>
          <p:nvPr/>
        </p:nvSpPr>
        <p:spPr>
          <a:xfrm>
            <a:off x="2971800" y="6248520"/>
            <a:ext cx="5942160" cy="550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OC) and developed by ICANN Staff.  The Staff welcomes any community feedback and suggestions for improvements at: policy-staff@icann.org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7:41:11Z</dcterms:created>
  <dc:creator>Ken Bour</dc:creator>
  <dc:description/>
  <dc:language>en-US</dc:language>
  <cp:lastModifiedBy>Ken Bour</cp:lastModifiedBy>
  <dcterms:modified xsi:type="dcterms:W3CDTF">2010-10-21T21:10:49Z</dcterms:modified>
  <cp:revision>134</cp:revision>
  <dc:subject/>
  <dc:title>PowerPoint Presentation</dc:title>
</cp:coreProperties>
</file>