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78CA-1B13-45BA-9D9D-2ACEEE27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551-6145-4B39-9459-DD45191A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B15-3357-4D89-B556-B3BC4CB7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FCF-26AB-4951-BF6C-FC93110A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977A-F876-47D1-A53D-63154435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015B-C163-4A16-A4A7-364440E6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09BC-F8B0-4F37-BB41-B714C754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37BC-2CBC-4FA6-B88D-E7E3AC9A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FBB8-8A8E-4ACA-8ECD-7FCE7683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4992-D71B-47A4-8790-4734DC55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0616-7E39-4F17-A7EF-36E531F3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343-3FAB-4B3F-A279-344183CB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8834-F260-4D1A-8646-85489D7B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817C-F84F-4E9E-805F-ED78AFB4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3CAD-4C33-4D6D-9465-E7F5A573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7615-E2E0-4AF5-9402-3E67EBBA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CB6F-6B39-4965-BB23-08D1A541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AC2-F3A6-4A09-A2E9-0E5994F0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61EB-48DA-461A-9D2E-3E7A57C5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8BB-7410-45E4-890D-40671A12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913-CEFF-4141-A073-37132538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DDB-90EE-465E-8672-ED58E971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8F6-B199-4521-A289-7E6E4A41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055D-8719-4EB9-B916-14BA870D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C799-FFC9-47FC-8517-C87E6195C767}" type="slidenum"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C994-9EDA-45EC-987F-49439E493945}" type="slidenum"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ALAC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WG on IPv4v6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Feb 9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ew Delh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Timeframe – for 2008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b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ize Action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 for Issue Pap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e Short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ion Pap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hop at Paris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hop at Africa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hop at IGF in Delh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Additional resour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Cost for this activ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Partners involve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O/N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from Operators Comm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NOG, SANOG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Ps &amp; ASP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oogle, Yahoo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nd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s/GAC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cy Ma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List of expected outcomes and outpu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ear understanding of the is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rted Actions taken by all stakeholders concer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ress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ors: ISP, ASP, IX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cy Ma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U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ublic U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Evaluation indicators and instru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Go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o give a clear picture of the IPv4 depletion and the IPv6 migration issues to the end u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o convey the users’ messages and opinions back to the technical community and the decision ma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Obj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o create a useful tool to help engage and inform the Internet Using Public about the is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o advise ICANN Board on the issue from the perspective of the Internet Using 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Background Descrip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Pv4 address pool is estimated to expire sometime around 201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easures are taken to address this issue by technical community including NRO/address community, but much has to be done by all operators of global Internet and decision makers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LAC made a statement at a ASO Workshop on IPv6 Migration at ICANN LA meeting in Nov 2007, calling for further collabo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Workshop on IPv4v6 was organized at IGF in Rio, December 2007 including members of ALAC, ICANN technical and business community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Main Issu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Pv4 addresses are running out, but IPv4 network is not going a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Pv6 has to co-exist with IPv4 network – not transition or mig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How do we do it without breaking the Internet’s end to end connectivit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hallenges are broad and d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echnical, operational, economic, policy, business, us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Target Grou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ternet Using 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Global Operational Comm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CANN Bo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olicy makers and experts in policy ar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Action Pl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List of activi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rganize workshop at coming ICANN meetings starting from Pa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vite experts/stakeholders and policy ma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sk questions of mutual inter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onitor the developing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Task div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lan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formation gath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echnical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perational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olicy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conomic/business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ocial/user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utre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9:34:24Z</dcterms:created>
  <dc:creator>l</dc:creator>
  <dc:description/>
  <dc:language>en-US</dc:language>
  <cp:lastModifiedBy>Izumi Aizu</cp:lastModifiedBy>
  <dcterms:modified xsi:type="dcterms:W3CDTF">2008-02-12T04:55:38Z</dcterms:modified>
  <cp:revision>11</cp:revision>
  <dc:subject/>
  <dc:title>Slide 1</dc:title>
</cp:coreProperties>
</file>