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36A-FB47-4618-B841-28D2AD1A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3CB-DD64-4455-8C2E-F1858AC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D01-B959-4D8B-BB90-82D6A7D5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2E2-E963-4BCC-997E-CDCCAE06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7D9-773C-4AB1-8D4E-14CA6810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6F17-D38A-4319-B059-F343DCB9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42BF-1426-404C-9EAD-94ACFCF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53A4-6C64-4E26-9F00-DC39F9C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8811-7625-4BC2-AD8E-02C83DF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7C50-3E0F-46AF-A681-8CF11F2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46A-F8E8-4DA9-B3BB-228C166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B4A-8292-4B22-9B60-3903372D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EA0-F459-42E8-9F18-BC48BF7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F03A-1C1D-42B7-B1FF-EFC8053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5B35-5437-4A1D-A4E5-E5CE0403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A11E-C256-4EB0-9935-A5CE2EAC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DEBD-6165-4B60-96A3-C73CCDD9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CAB-9DD9-4CAA-966A-3CE1845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A26-B47D-45F3-A484-3730571D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B06-1EF4-46BB-B59A-DD854FC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354-1824-4892-87FD-A683185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B0C-1557-494A-8F2F-078A659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87A-3899-475B-9E03-E43F25F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40D-3024-4F2B-85AD-7141D10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9D9F-A333-4DFE-B626-B777FF6D859C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688B-B1FF-4F84-9077-BC7A075D23B0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LAC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WG on IPv4v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eb 9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 Del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imeframe – for 200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 for Issue Pap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hort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ion Pap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Paris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Afric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IGF in Delh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dditional re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Cost for this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Partners involv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O/N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rom Operators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OG, SANOG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Ps &amp; ASP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ogle, Yahoo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s/GA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expected outcomes and outpu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understanding of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ed Actions taken by all stakeholders conce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: ISP, ASP, IX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blic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Evaluation indicators and instru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Go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give a clear picture of the IPv4 depletion and the IPv6 migration issues to the end u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onvey the users’ messages and opinions back to the technical community and the decision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reate a useful tool to help engage and inform the Internet Using Public about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advise ICANN Board on the issue from the perspective of the 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Background Descri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 pool is estimated to expire sometime around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easures are taken to address this issue by technical community including NRO/address community, but much has to be done by all operators of global Internet and decision makers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LAC made a statement at a ASO Workshop on IPv6 Migration at ICANN LA meeting in Nov 2007, calling for further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orkshop on IPv4v6 was organized at IGF in Rio, December 2007 including members of ALAC, ICANN technical and business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Main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es are running out, but IPv4 network is not going a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6 has to co-exist with IPv4 network – not transition or mig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ow do we do it without breaking the Internet’s end to end connectiv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hallenges are broad and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, operational, economic, policy, business, u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rget Gro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Operational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CANN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makers and experts in policy a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ction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rganize workshop at coming ICANN meetings starting from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vite experts/stakeholders and 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sk questions of mutual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onitor the develop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sk div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lan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g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r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conomic/business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cial/user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34:24Z</dcterms:created>
  <dc:creator>l</dc:creator>
  <dc:description/>
  <dc:language>en-US</dc:language>
  <cp:lastModifiedBy>Izumi Aizu</cp:lastModifiedBy>
  <dcterms:modified xsi:type="dcterms:W3CDTF">2008-02-12T04:55:38Z</dcterms:modified>
  <cp:revision>11</cp:revision>
  <dc:subject/>
  <dc:title>Slide 1</dc:title>
</cp:coreProperties>
</file>