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2F82-8F07-4806-86DD-C22631C4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A219-DE42-4FB4-9A14-95636395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EA24-8744-41AB-9251-62C35B2B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F54A-1368-400C-85EE-34B5671D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A4D3-89CB-40B1-8B1E-8FF1A2715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99FB-AC6A-4777-BCE8-C95240A5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7AE7-6671-4F36-A1FA-DDBBD5E2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B8D1-AA37-46B6-9122-4CDC2754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28DE-3093-428A-A83C-81800D02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4AC8-E095-471D-B5CC-CF41A835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97EA-B703-413B-AE58-D3F57937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7090-A8D4-48A5-B61A-0D7A1A4D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24B4-6BF6-4740-9EBA-5191186A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EFF9-D4EE-4116-805A-2CFE4E29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97C6-0D04-493E-B9AF-6D48D1B2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3157-C0B9-4579-9A89-6BEEA689C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6760-31E6-4CA7-B303-ADBBB877E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4520-3C32-4885-928D-D7196C26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9E1D-82A7-490D-9CB4-34F5A9C3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5350-064C-42C0-9F5C-084B4F95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9F58-321C-4E68-A6B8-060DDEBD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FAEE-66E0-4BC8-8122-D835B475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B24F-3668-48B0-A092-C2AF4415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3050-F680-4C54-9290-D2230490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B25C-5094-4E9D-92ED-3DDD3FA03845}" type="slidenum">
              <a: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10F6-F862-4732-B9D3-FFDDC70D15F7}" type="slidenum">
              <a: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ALAC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WG on IPv4v6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Feb 9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New Delh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Timeframe – for 2008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b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alize Action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k for Issue Pap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pare Short 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tion Pap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shop at Paris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shop at Africa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shop at IGF in Delhi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Additional resourc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Cost for this activ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Partners involve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O/N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from Operators Commun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NOG, SANOG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Ps &amp; ASP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oogle, Yahoo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nd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vernments/GAC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cy Mak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List of expected outcomes and outpu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ear understanding of the iss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erted Actions taken by all stakeholders concern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dress com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rators: ISP, ASP, IX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icy Ma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 Us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Public Us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Evaluation indicators and instrume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Goa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To give a clear picture of the IPv4 depletion and the IPv6 migration issues to the end us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To convey the users’ messages and opinions back to the technical community and the decision mak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Objectiv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To create a useful tool to help engage and inform the Internet Using Public about the iss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To advise ICANN Board on the issue from the perspective of the Internet Using Publ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Background Descrip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Pv4 address pool is estimated to expire sometime around 2010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Measures are taken to address this issue by technical community including NRO/address community, but much has to be done by all operators of global Internet and decision makers concern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ALAC made a statement at a ASO Workshop on IPv6 Migration at ICANN LA meeting in Nov 2007, calling for further collabo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Workshop on IPv4v6 was organized at IGF in Rio, December 2007 including members of ALAC, ICANN technical and business community memb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Main Issu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Pv4 addresses are running out, but IPv4 network is not going aw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Pv6 has to co-exist with IPv4 network – not transition or migr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How do we do it without breaking the Internet’s end to end connectivit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Challenges are broad and dee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Technical, operational, economic, policy, business, us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Target Group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nternet Using Publ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Global Operational Commun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CANN Boa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Policy makers and experts in policy ar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Action Pla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List of activiti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Organize workshop at coming ICANN meetings starting from Par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nvite experts/stakeholders and policy ma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Ask questions of mutual inter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Monitor the developing activ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Task divi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Plann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mplem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nformation gathe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Technical iss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Operational iss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Policy iss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Economic/business iss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Social/user iss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Outrea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09:34:24Z</dcterms:created>
  <dc:creator>l</dc:creator>
  <dc:description/>
  <dc:language>en-US</dc:language>
  <cp:lastModifiedBy>Izumi Aizu</cp:lastModifiedBy>
  <dcterms:modified xsi:type="dcterms:W3CDTF">2008-02-12T04:55:38Z</dcterms:modified>
  <cp:revision>11</cp:revision>
  <dc:subject/>
  <dc:title>Slide 1</dc:title>
</cp:coreProperties>
</file>