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F90-FEE9-42C1-A806-119FEB8B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457-531E-4FF0-B272-76586FA3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8A1-30D7-4EFF-B7A3-98146F88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DB49-FDD2-4ABF-9591-CBC7F499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1E80-1EC6-426A-8EFB-696285F6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CA57-A69F-4523-BD91-2D32E8CF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49B2-FFE9-4E9E-B2CF-FF2812FE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E214-54E6-4411-AA73-ECD839DF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07E2-3844-4E6F-BD34-84485E8C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ABB5-C9EE-4852-BD6A-84CE930D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4C24-F430-46F7-AF6B-3F8B5977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BA2-9F22-4173-96BC-CA522917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5D18-F9D4-41DF-BB2D-7F32F11C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24CE-5342-4377-85D2-AE8B8065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A7F8-38F1-4824-A129-A045B8BF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E134-3116-480A-AD5C-B32F4E2B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C043-C8E9-4738-BEF3-4328ABFE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B5D0-0C61-48A6-B2C5-9FDB516B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7C4-C329-4E6B-9D32-F0380F1E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4FC-D15E-499B-815D-71FB22DD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6C45-6E07-4A45-A59D-B3182D92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19F5-936C-4EDC-B42F-7A31410E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0ED0-84C1-423C-8CEB-BCCE683D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3FC4-30CC-4BCB-A8EA-C923F1C6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48FF-845E-4600-8B9B-7978C2FDE53A}" type="slidenum"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E621-2CD0-4153-8D31-A8FAC6CB5F4C}" type="slidenum">
              <a:rPr b="0" lang="ja-JP" sz="1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ALAC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WG on IPv4v6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Feb 9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ew Delh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Timeframe – for 2008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b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ize Action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 for Issue Pap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pare Short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tion Pap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hop at Paris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hop at Africa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hop at IGF in Delh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Additional resour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Cost for this activ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Partners involve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O/N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from Operators Comm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NOG, SANOG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Ps &amp; ASP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oogle, Yahoo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nd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s/GAC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cy Ma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List of expected outcomes and outpu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ear understanding of the iss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rted Actions taken by all stakeholders concer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ress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ors: ISP, ASP, IX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cy Ma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 U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ublic U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Evaluation indicators and instru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Go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o give a clear picture of the IPv4 depletion and the IPv6 migration issues to the end u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o convey the users’ messages and opinions back to the technical community and the decision ma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Objecti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o create a useful tool to help engage and inform the Internet Using Public about the iss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o advise ICANN Board on the issue from the perspective of the Internet Using 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Background Descrip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Pv4 address pool is estimated to expire sometime around 201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easures are taken to address this issue by technical community including NRO/address community, but much has to be done by all operators of global Internet and decision makers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LAC made a statement at a ASO Workshop on IPv6 Migration at ICANN LA meeting in Nov 2007, calling for further collabo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Workshop on IPv4v6 was organized at IGF in Rio, December 2007 including members of ALAC, ICANN technical and business community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Main Issu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Pv4 addresses are running out, but IPv4 network is not going a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Pv6 has to co-exist with IPv4 network – not transition or mig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How do we do it without breaking the Internet’s end to end connectivit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hallenges are broad and de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echnical, operational, economic, policy, business, us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Target Grou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nternet Using 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Global Operational Comm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CANN Bo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olicy makers and experts in policy ar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Action Pla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List of activit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Organize workshop at coming ICANN meetings starting from Pa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nvite experts/stakeholders and policy ma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sk questions of mutual inter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onitor the developing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ＭＳ Ｐゴシック"/>
              </a:rPr>
              <a:t>Task divi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lan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nformation gathe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echnical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Operational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olicy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conomic/business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ocial/user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Outre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9:34:24Z</dcterms:created>
  <dc:creator>l</dc:creator>
  <dc:description/>
  <dc:language>en-US</dc:language>
  <cp:lastModifiedBy>Izumi Aizu</cp:lastModifiedBy>
  <dcterms:modified xsi:type="dcterms:W3CDTF">2008-02-12T04:55:38Z</dcterms:modified>
  <cp:revision>11</cp:revision>
  <dc:subject/>
  <dc:title>Slide 1</dc:title>
</cp:coreProperties>
</file>