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24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24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24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24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/16/07 DR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CANN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91FA8C9B-65C6-4682-94F1-78421A8B33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229600" y="6014880"/>
          <a:ext cx="91440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6014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V. Approve Reserve Fund Level Policy Direction</a:t>
            </a:r>
            <a:endParaRPr b="1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ideal level for ICANN’s Reserve Fun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tuitive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343400"/>
            <a:ext cx="60195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arrow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4" idx="1"/>
            <a:endCxn id="44" idx="1"/>
          </p:cNvCxnSpPr>
          <p:nvPr/>
        </p:nvCxnSpPr>
        <p:spPr>
          <a:xfrm>
            <a:off x="380880" y="3939480"/>
            <a:ext cx="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" name=""/>
          <p:cNvSpPr/>
          <p:nvPr/>
        </p:nvSpPr>
        <p:spPr>
          <a:xfrm flipV="1">
            <a:off x="1980360" y="3430080"/>
            <a:ext cx="1677960" cy="91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924200">
            <a:off x="1647000" y="358092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3 mo - $10 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123360" y="3430080"/>
            <a:ext cx="1677960" cy="91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9924200">
            <a:off x="2942280" y="358092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6 mo - $20 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419000" y="3430080"/>
            <a:ext cx="1677600" cy="91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924200">
            <a:off x="4088160" y="358092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1 year - $40 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Endow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No re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Healthy R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924200">
            <a:off x="5529600" y="3293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Earnings cover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19200" y="3430080"/>
            <a:ext cx="1677600" cy="91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V. Approve Reserve Fund Level Policy Direction</a:t>
            </a:r>
            <a:endParaRPr b="1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ideal level for ICANN’s Reserve Fun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rket Research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CANN has no comparison, bu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rveyed governmental agencies, NGO’s, trade associations, utilities, foundations, universities, other not for profit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ding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 profits reserve funds range from zero to 18 years of ope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tchdog group suggests that six months to one year or more is optimal.  Over three years hurts mission.   Under six months could create financial stress on mi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ties average 6 month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vernmental agencies average 10% or l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ody’s, Fitch, S&amp;P, and other rating agencies emphasize reserve fund size and policy in their rating criter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er reserve funds are largely due to financial stress rather than sound reserve fund poli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er reserve funds is sometimes due to fund raising strate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1"/>
            <a:endCxn id="59" idx="1"/>
          </p:cNvCxnSpPr>
          <p:nvPr/>
        </p:nvCxnSpPr>
        <p:spPr>
          <a:xfrm>
            <a:off x="38052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V. Approve Reserve Fund Level Policy Direction</a:t>
            </a:r>
            <a:endParaRPr b="1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ideal level for ICANN’s Reserve Fun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cademic Research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 fund is needed to survive a 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y reserve fund is a strong indicator of financial str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 strength allows mission to be realized more efficiently and effectiv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ful contributors are attracted to organization.  (e.g., board members, employees, consultants, vendors, and other stakeholders need to trust organization’s financial strengt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ong credit rating allows effective purcha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 fund to be tailored to organization’s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bility and diversity of revenue stre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tial for need for emergency fu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ising rates when revenue is down is problematic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1"/>
            <a:endCxn id="62" idx="1"/>
          </p:cNvCxnSpPr>
          <p:nvPr/>
        </p:nvCxnSpPr>
        <p:spPr>
          <a:xfrm>
            <a:off x="38052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V. Approve Reserve Fund Level Policy Direction</a:t>
            </a:r>
            <a:endParaRPr b="1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ideal level for ICANN’s Reserve Fund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CANN’s emergency expense analysis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respond to urgent infrastructure investment required to address a new threat to the DNS (B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bring forward a major investment that might come out of identifying an upcoming security threat again related to strengthening the infrastructure from a security point of view - in advance of increasing the revenue collection in the following financial year to pay for that investment.  (B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ss (or slow payment) of revenue stream from a major customer or a number of other custom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unexpected expense.   (e.g., lawsuit or clai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5" idx="1"/>
          </p:cNvCxnSpPr>
          <p:nvPr/>
        </p:nvCxnSpPr>
        <p:spPr>
          <a:xfrm>
            <a:off x="38052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V. Approve Reserve Fund Level Policy Direction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Move  to approve the policy direction tha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 Fund target level to be equal to one year of ICANN’s operating expen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 Fund is Separate from Operating Fu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 Fund is Restricted by Board of Directo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be discussed with constituencies and stakeholders as part of budget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econd the motion: 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ny discussio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ll those in favor say “Aye”, all those opposed say “No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1814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8:29:55Z</dcterms:created>
  <dc:creator>Kurt Pritz</dc:creator>
  <dc:description/>
  <dc:language>en-US</dc:language>
  <cp:lastModifiedBy>IT</cp:lastModifiedBy>
  <cp:lastPrinted>2007-02-08T03:26:58Z</cp:lastPrinted>
  <dcterms:modified xsi:type="dcterms:W3CDTF">2007-11-27T20:19:56Z</dcterms:modified>
  <cp:revision>101</cp:revision>
  <dc:subject/>
  <dc:title>Registrar Approval of Fees</dc:title>
</cp:coreProperties>
</file>