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7137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52520" y="4106520"/>
            <a:ext cx="7137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0120" y="173160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52520" y="410652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0120" y="410652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22978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65600" y="1731600"/>
            <a:ext cx="22978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8680" y="1731600"/>
            <a:ext cx="22978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52520" y="4106520"/>
            <a:ext cx="22978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65600" y="4106520"/>
            <a:ext cx="22978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8680" y="4106520"/>
            <a:ext cx="22978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52520" y="1731600"/>
            <a:ext cx="713736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9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71373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34830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0120" y="1731600"/>
            <a:ext cx="34830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46040" y="158400"/>
            <a:ext cx="71344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0120" y="1731600"/>
            <a:ext cx="34830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52520" y="410652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52520" y="1731600"/>
            <a:ext cx="713736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9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34830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0120" y="173160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0120" y="410652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0120" y="173160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52520" y="4106520"/>
            <a:ext cx="7137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7137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52520" y="4106520"/>
            <a:ext cx="7137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0120" y="173160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52520" y="410652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0120" y="410652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22978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65600" y="1731600"/>
            <a:ext cx="22978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8680" y="1731600"/>
            <a:ext cx="22978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52520" y="4106520"/>
            <a:ext cx="22978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65600" y="4106520"/>
            <a:ext cx="22978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8680" y="4106520"/>
            <a:ext cx="22978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71373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34830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0120" y="1731600"/>
            <a:ext cx="34830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46040" y="158400"/>
            <a:ext cx="71344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0120" y="1731600"/>
            <a:ext cx="34830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52520" y="410652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34830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0120" y="173160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0120" y="410652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0120" y="1731600"/>
            <a:ext cx="34830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52520" y="4106520"/>
            <a:ext cx="713736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leu-41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52520" y="1731600"/>
            <a:ext cx="71373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1137"/>
              </a:spcAft>
              <a:buClr>
                <a:srgbClr val="ffcc66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1137"/>
              </a:spcAft>
              <a:buClr>
                <a:srgbClr val="33cc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spcAft>
                <a:spcPts val="1137"/>
              </a:spcAft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1562040" indent="-228600">
              <a:spcBef>
                <a:spcPts val="649"/>
              </a:spcBef>
              <a:spcAft>
                <a:spcPts val="1137"/>
              </a:spcAft>
              <a:buClr>
                <a:srgbClr val="ccffff"/>
              </a:buClr>
              <a:buSzPct val="9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4" marL="1981080" indent="-228600">
              <a:spcBef>
                <a:spcPts val="649"/>
              </a:spcBef>
              <a:spcAft>
                <a:spcPts val="1137"/>
              </a:spcAft>
              <a:buClr>
                <a:srgbClr val="ffffff"/>
              </a:buClr>
              <a:buSzPct val="9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5" marL="1981080" indent="-228600">
              <a:spcBef>
                <a:spcPts val="649"/>
              </a:spcBef>
              <a:spcAft>
                <a:spcPts val="1137"/>
              </a:spcAft>
              <a:buClr>
                <a:srgbClr val="ffffff"/>
              </a:buClr>
              <a:buSzPct val="9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6" marL="1981080" indent="-228600">
              <a:spcBef>
                <a:spcPts val="649"/>
              </a:spcBef>
              <a:spcAft>
                <a:spcPts val="1137"/>
              </a:spcAft>
              <a:buClr>
                <a:srgbClr val="ffffff"/>
              </a:buClr>
              <a:buSzPct val="9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INFSO%20Logo%20Strok" descr=""/>
          <p:cNvPicPr/>
          <p:nvPr/>
        </p:nvPicPr>
        <p:blipFill>
          <a:blip r:embed="rId3"/>
          <a:stretch/>
        </p:blipFill>
        <p:spPr>
          <a:xfrm>
            <a:off x="63360" y="425520"/>
            <a:ext cx="1284480" cy="596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47600" y="6681960"/>
            <a:ext cx="88171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9400" y="1131840"/>
            <a:ext cx="881676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flaginfsostrock2" descr=""/>
          <p:cNvPicPr/>
          <p:nvPr/>
        </p:nvPicPr>
        <p:blipFill>
          <a:blip r:embed="rId4"/>
          <a:stretch/>
        </p:blipFill>
        <p:spPr>
          <a:xfrm>
            <a:off x="123840" y="5981760"/>
            <a:ext cx="1203480" cy="59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leu-41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241200" y="1111320"/>
            <a:ext cx="867276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INFSO%20Logo%20Strok" descr=""/>
          <p:cNvPicPr/>
          <p:nvPr/>
        </p:nvPicPr>
        <p:blipFill>
          <a:blip r:embed="rId3"/>
          <a:stretch/>
        </p:blipFill>
        <p:spPr>
          <a:xfrm>
            <a:off x="241200" y="365040"/>
            <a:ext cx="1414440" cy="657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9120" y="6681960"/>
            <a:ext cx="867276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flaginfsostrock2" descr=""/>
          <p:cNvPicPr/>
          <p:nvPr/>
        </p:nvPicPr>
        <p:blipFill>
          <a:blip r:embed="rId4"/>
          <a:stretch/>
        </p:blipFill>
        <p:spPr>
          <a:xfrm>
            <a:off x="7507440" y="352440"/>
            <a:ext cx="1303200" cy="642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spcAft>
                <a:spcPts val="224"/>
              </a:spcAft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333440" algn="ctr">
              <a:spcBef>
                <a:spcPts val="400"/>
              </a:spcBef>
              <a:spcAft>
                <a:spcPts val="201"/>
              </a:spcAft>
              <a:buClr>
                <a:srgbClr val="ccffff"/>
              </a:buClr>
              <a:buSzPct val="90000"/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1752480" algn="ctr">
              <a:spcBef>
                <a:spcPts val="349"/>
              </a:spcBef>
              <a:spcAft>
                <a:spcPts val="176"/>
              </a:spcAft>
              <a:buClr>
                <a:srgbClr val="ffffff"/>
              </a:buClr>
              <a:buSzPct val="90000"/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1752480">
              <a:spcBef>
                <a:spcPts val="349"/>
              </a:spcBef>
              <a:buClr>
                <a:srgbClr val="ffffff"/>
              </a:buClr>
              <a:buSzPct val="9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1752480">
              <a:spcBef>
                <a:spcPts val="349"/>
              </a:spcBef>
              <a:buClr>
                <a:srgbClr val="ffffff"/>
              </a:buClr>
              <a:buSzPct val="9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WHOIS data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The EU legal principles </a:t>
            </a:r>
            <a:br>
              <a:rPr sz="4000"/>
            </a:br>
            <a:endParaRPr b="1" lang="en-US" sz="40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CANN - GNSO meeting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 March 2004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George Papapavlou, European Commission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-380880"/>
            <a:ext cx="891540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Response to old questions</a:t>
            </a: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71373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Clr>
                <a:srgbClr val="ffcc00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accurate data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s, this is in line with European law - to serve their purpose, data need to be accurat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Response to old questions</a:t>
            </a: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71373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Clr>
                <a:srgbClr val="ffcc00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lk access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, this is a disproportionate privacy infringing step; unless a very convincing, specific case may be made which has to be followed by due pro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applies not only to marketing but to any purp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Response to old questions</a:t>
            </a: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71373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Clr>
                <a:srgbClr val="ffcc00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-criteria searching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spcAft>
                <a:spcPts val="9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, privacy-intrusive, disproportionate, general presumption of gui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IS not a tool for self-policing by various intere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Questions?</a:t>
            </a:r>
            <a:endParaRPr b="1" lang="en-US" sz="44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812772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spcAft>
                <a:spcPts val="1925"/>
              </a:spcAft>
              <a:buClr>
                <a:srgbClr val="ffcc00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orge.Papapavlou@cec.eu.in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-228960"/>
            <a:ext cx="94489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WHOIS - preliminary remarks</a:t>
            </a: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71373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Clr>
                <a:srgbClr val="ffcc66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re a clear definition of what is WHOIS? What data are we talking about? Are we not confusing WHOIS data with registration (customer) data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Clr>
                <a:srgbClr val="ffcc66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purpose of WHOIS data? This is crucial for determining what data may be included and what uses may be made of that da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GNSO questions to GAC</a:t>
            </a: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Clr>
                <a:srgbClr val="ffcc66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Must a data subject consent to the collection and processing of his data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sonal data may be processed only if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data subject has unambiguously consented, 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re is a contract to which the data subject is a par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essing is necessary for compliance with a legal obligation of the data controll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cessary to protect the vital interests of the data subjec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perform a task in the public interest or in the exercise of official autho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itimate interests of the controller or third parties to whom the data are disclosed except where such interests are overridden by the fundamental  interests of the data subj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GNSO questions to GAC</a:t>
            </a: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337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Clr>
                <a:srgbClr val="ffcc66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However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ffcc66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Personal data must be: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ffcc66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processed fairly and lawfull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ffcc66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collected for specified, explicit and legitimate purposes and not further processed in a way incompatible with those purpos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ffcc66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adequate, relevant and not excessive in relation to the processing purpo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ffcc66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accurate and, where necessary, kept up to dat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GNSO questions to GAC</a:t>
            </a: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Clr>
                <a:srgbClr val="ffcc00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Must a data subject consent to the disclosure of his collected data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, if disclosure was part of the processing purpose, of which the data subject has been informe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the time of collection of data from the data subject he must be informed of the (potential) recipients or categories of recipients of the d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GNSO questions to GAC</a:t>
            </a: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71373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Clr>
                <a:srgbClr val="ffcc66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) Can a data subject withdraw his consent to the disclosure of his data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ffcc66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principle yes, but this is not an absolute right - there is room for judging the respective legitimate interests in question; this is first for the data controller to do, at a second stage by the national supervisory authorities and eventually the cour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ffcc66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ata subject has a stronger objection right to the use of his data for direct marketing purpos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GNSO questions to GAC</a:t>
            </a: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2520" y="1731600"/>
            <a:ext cx="713736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Clr>
                <a:srgbClr val="ffcc66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) Has a data subject the right to stay anonymous and not disclose his data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ffcc66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principle yes, there is a right not to be included in directories; but again this is subject to a balance of legitimate interests evalu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ffcc66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east privacy intrusive option has to be given priority for serving the specific purpo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GNSO questions to GAC</a:t>
            </a: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re any regulation on the transmittal of personal data to other countries that is applicable in connection with domain name regist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xplicitly in this connection, but articles 25 and 26 of Directive 95/46/EC deal with transfer of personal data to third countries and apply to all cas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various possibilities foreseen to facilitate international transfers of data while ensuring adequate data protection  (consent, contracts, important public interest grounds, public information register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040" y="158400"/>
            <a:ext cx="7134480" cy="12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GNSO questions to GAC</a:t>
            </a:r>
            <a:endParaRPr b="1" lang="en-US" sz="3600" spc="-1" strike="noStrike">
              <a:solidFill>
                <a:srgbClr val="ffcc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Clr>
                <a:srgbClr val="ffcc00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the applicability of the law of your country depend on the location or nationality of the data subject, the registrar, or the registry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225"/>
              </a:spcAft>
              <a:buClr>
                <a:srgbClr val="ffcc00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rinciple the law of the country where the data controller is applies; this may be the registrar or the registry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225"/>
              </a:spcAft>
              <a:buClr>
                <a:srgbClr val="ffcc00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he data controller is established outside the EU but has processing activities facilities/activities inside the EU, the law of the EU Member State where his processing equipment is used appli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2:52:40Z</dcterms:created>
  <dc:creator>J-FTardif</dc:creator>
  <dc:description/>
  <dc:language>en-US</dc:language>
  <cp:lastModifiedBy>Elana Broitman</cp:lastModifiedBy>
  <cp:lastPrinted>2003-03-05T16:05:39Z</cp:lastPrinted>
  <dcterms:modified xsi:type="dcterms:W3CDTF">2004-03-02T09:33:06Z</dcterms:modified>
  <cp:revision>12</cp:revision>
  <dc:subject/>
  <dc:title>European Commission DG Information Society</dc:title>
</cp:coreProperties>
</file>