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23F9-48E1-4E51-B902-CFBCAA167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1. Registry agreement renewal â€¨â€¨1a. Examine whether or not there should be a policy guiding renewal,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1b. Recognizing that not all existing registry agreements share the same Rights of Renewal, use the findings from above to determine whether or not these conditions should be standardized across all future agreement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2. Relationship between registry agreements and consensus policies </a:t>
            </a:r>
            <a:br>
              <a:rPr sz="800"/>
            </a:br>
            <a:r>
              <a:rPr b="0" lang="en-US" sz="800" spc="-1" strike="noStrike">
                <a:solidFill>
                  <a:srgbClr val="000000"/>
                </a:solidFill>
                <a:latin typeface="Arial"/>
              </a:rPr>
              <a:t>2a. Examine whether consensus policy limitations in registry agreements are appropriate and how these limitations should be determined.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2b. Examine whether the delegation of certain policy making responsibility to sponsored TLD operators is appropriate, and if so, what if any changes are needed.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3. Policy for price controls for registry services </a:t>
            </a:r>
            <a:br>
              <a:rPr sz="800"/>
            </a:br>
            <a:r>
              <a:rPr b="0" lang="en-US" sz="800" spc="-1" strike="noStrike">
                <a:solidFill>
                  <a:srgbClr val="000000"/>
                </a:solidFill>
                <a:latin typeface="Arial"/>
              </a:rPr>
              <a:t>3a. Examine whether or not there should be a policy regarding price controls, and if so, what the elements of that policy should be. (note examples of price controls include price caps, and the same pricing for all registrar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3b. Examine objective measures (cost calculation method, cost elements, reasonable profit margin) for approving an application for a price increase when a price cap exists. </a:t>
            </a:r>
            <a:br>
              <a:rPr sz="800"/>
            </a:br>
            <a:r>
              <a:rPr b="0" lang="en-US" sz="800" spc="-1" strike="noStrike">
                <a:solidFill>
                  <a:srgbClr val="000000"/>
                </a:solidFill>
                <a:latin typeface="Arial"/>
              </a:rPr>
              <a:t>[insert comments] </a:t>
            </a:r>
            <a:br>
              <a:rPr sz="800"/>
            </a:br>
            <a:br>
              <a:rPr sz="800"/>
            </a:br>
            <a:r>
              <a:rPr b="0" lang="en-US" sz="800" spc="-1" strike="noStrike">
                <a:solidFill>
                  <a:srgbClr val="000000"/>
                </a:solidFill>
                <a:latin typeface="Arial"/>
              </a:rPr>
              <a:t>4. ICANN fees </a:t>
            </a:r>
            <a:br>
              <a:rPr sz="800"/>
            </a:br>
            <a:r>
              <a:rPr b="0" lang="en-US" sz="800" spc="-1" strike="noStrike">
                <a:solidFill>
                  <a:srgbClr val="000000"/>
                </a:solidFill>
                <a:latin typeface="Arial"/>
              </a:rPr>
              <a:t>4a. Examine whether or not there should be a policy guiding registry fees to ICANN,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4b. Determine how ICANN's public budgeting process should relate to the negotiation of ICANN fee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5. Uses of registry data </a:t>
            </a:r>
            <a:br>
              <a:rPr sz="800"/>
            </a:br>
            <a:r>
              <a:rPr b="0" lang="en-US" sz="800" spc="-1" strike="noStrike">
                <a:solidFill>
                  <a:srgbClr val="000000"/>
                </a:solidFill>
                <a:latin typeface="Arial"/>
              </a:rPr>
              <a:t>Registry data is available to the registry as a consequence of registry operation. Examples of registry data could include information on domain name registrants, information in domain name records, and trafficâ€¨data associated with providing the DNS resolution services associated with the registry. </a:t>
            </a:r>
            <a:br>
              <a:rPr sz="800"/>
            </a:br>
            <a:r>
              <a:rPr b="0" lang="en-US" sz="800" spc="-1" strike="noStrike">
                <a:solidFill>
                  <a:srgbClr val="000000"/>
                </a:solidFill>
                <a:latin typeface="Arial"/>
              </a:rPr>
              <a:t>5a Examine whether or not there should be a policy regarding the use of registry data for purposes other than for which it was collected,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5b. Determine whether any policy is necessary to ensure non-discriminatory access to registry data that is made available to third partie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6. Investments in development and infrastructure </a:t>
            </a:r>
            <a:br>
              <a:rPr sz="800"/>
            </a:br>
            <a:r>
              <a:rPr b="0" lang="en-US" sz="800" spc="-1" strike="noStrike">
                <a:solidFill>
                  <a:srgbClr val="000000"/>
                </a:solidFill>
                <a:latin typeface="Arial"/>
              </a:rPr>
              <a:t>6a. Examine whether or not there should be a policy guiding investments in development and infrastructure, and if so, what the elements of that policy should be. </a:t>
            </a:r>
            <a:br>
              <a:rPr sz="800"/>
            </a:br>
            <a:r>
              <a:rPr b="0" lang="en-US" sz="800" spc="-1" strike="noStrike">
                <a:solidFill>
                  <a:srgbClr val="000000"/>
                </a:solidFill>
                <a:latin typeface="Arial"/>
              </a:rPr>
              <a:t>[insert comments]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6F122-B417-443A-B09A-058E318D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1D67-18C4-4F3B-9939-69FDDC1E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0DD7A-8210-4B8A-B619-0A63E1C09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5934A-0014-4C16-A48B-7508845CF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9AF62-03D4-4304-ACE5-CAEE3CB56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2FCE6-160D-4751-9F9F-CBE68C8A0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8D233-08DD-4606-893A-49CA4182D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6B0F5-6B96-457F-94D1-3BB179A0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CF0AF-CB13-4843-A2C3-5B779B293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4EE82-879C-4885-B9A9-2577A88F8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DF32-6C50-46C5-B3C6-7C73914F3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1CC4-FED7-4854-8EF4-9F67E5FA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F22B5-8F93-4BA2-BBAF-B748BD404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30595-AEA8-40AB-B8F6-8FAD299E1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5D345-A97A-4365-A92B-810C1F19C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5AD2C-E744-4A9F-98C9-9E43AE1BD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F7586-1FF7-4339-AB5E-F67ED306F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06A90-98D8-48C9-B2A0-E4F26CD78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2DE4-2254-442A-87A4-A3F6ACAC9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B8CF-F042-4E66-AEFE-4F740F3A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E1E6B-D72B-4448-BB71-85CFFDAF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E25D-F1F4-4CEE-A196-830A112D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8FBF-C93A-4E16-A32A-F852334C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A7C8-F65B-4367-A7BA-BCE5F29FE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1805-46E5-4584-8A8D-ADB75AC451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0B43-730B-421A-9327-E89DB8E31DB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GNSO Council Update</a:t>
            </a:r>
            <a:endParaRPr b="0" lang="en-US" sz="4400" spc="-1" strike="noStrike">
              <a:solidFill>
                <a:srgbClr val="ccecff"/>
              </a:solidFill>
              <a:latin typeface="Arial Black"/>
            </a:endParaRPr>
          </a:p>
        </p:txBody>
      </p:sp>
      <p:sp>
        <p:nvSpPr>
          <p:cNvPr id="90" name="PlaceHolder 2"/>
          <p:cNvSpPr>
            <a:spLocks noGrp="1"/>
          </p:cNvSpPr>
          <p:nvPr>
            <p:ph type="subTitle"/>
          </p:nvPr>
        </p:nvSpPr>
        <p:spPr>
          <a:xfrm>
            <a:off x="1523880" y="3504960"/>
            <a:ext cx="640080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llington, New Zealand</a:t>
            </a:r>
            <a:endParaRPr b="1"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ch 2006</a:t>
            </a:r>
            <a:endParaRPr b="1" lang="en-US" sz="32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564000" y="3213000"/>
            <a:ext cx="2303280" cy="223200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technical issues related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ecord configuration</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10" name=""/>
          <p:cNvSpPr/>
          <p:nvPr/>
        </p:nvSpPr>
        <p:spPr>
          <a:xfrm>
            <a:off x="2195640" y="2349360"/>
            <a:ext cx="2376360" cy="2232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 Issue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minal and civil investigation</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P proceeding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2195640" y="4581360"/>
            <a:ext cx="5184720" cy="1440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ical</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ing</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il service</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N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72000" y="2349360"/>
            <a:ext cx="2808360" cy="2232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nspecified catch-all</a:t>
            </a:r>
            <a:endParaRPr b="0" lang="en-US" sz="1800" spc="-1" strike="noStrike">
              <a:solidFill>
                <a:srgbClr val="ffffff"/>
              </a:solidFill>
              <a:latin typeface="Arial"/>
            </a:endParaRPr>
          </a:p>
        </p:txBody>
      </p:sp>
      <p:sp>
        <p:nvSpPr>
          <p:cNvPr id="113" name=""/>
          <p:cNvSpPr/>
          <p:nvPr/>
        </p:nvSpPr>
        <p:spPr>
          <a:xfrm>
            <a:off x="326520" y="400536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cope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tion 2 </a:t>
            </a:r>
            <a:endParaRPr b="0" lang="en-US" sz="1800" spc="-1" strike="noStrike">
              <a:solidFill>
                <a:srgbClr val="ffffff"/>
              </a:solidFill>
              <a:latin typeface="Arial"/>
            </a:endParaRPr>
          </a:p>
        </p:txBody>
      </p:sp>
      <p:sp>
        <p:nvSpPr>
          <p:cNvPr id="114" name=""/>
          <p:cNvSpPr/>
          <p:nvPr/>
        </p:nvSpPr>
        <p:spPr>
          <a:xfrm>
            <a:off x="324000" y="401148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cope of Formulation 1</a:t>
            </a:r>
            <a:endParaRPr b="0" lang="en-US" sz="1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10"/>
                                        </p:tgtEl>
                                      </p:cBhvr>
                                    </p:animEffect>
                                    <p:set>
                                      <p:cBhvr>
                                        <p:cTn id="7" dur="1" fill="hold">
                                          <p:stCondLst>
                                            <p:cond delay="499"/>
                                          </p:stCondLst>
                                        </p:cTn>
                                        <p:tgtEl>
                                          <p:spTgt spid="110"/>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112"/>
                                        </p:tgtEl>
                                      </p:cBhvr>
                                    </p:animEffect>
                                    <p:set>
                                      <p:cBhvr>
                                        <p:cTn id="12" dur="1" fill="hold">
                                          <p:stCondLst>
                                            <p:cond delay="499"/>
                                          </p:stCondLst>
                                        </p:cTn>
                                        <p:tgtEl>
                                          <p:spTgt spid="112"/>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9">
                                  <p:stCondLst>
                                    <p:cond delay="0"/>
                                  </p:stCondLst>
                                  <p:childTnLst>
                                    <p:animEffect filter="dissolve" transition="out">
                                      <p:cBhvr additive="repl">
                                        <p:cTn id="16" dur="500"/>
                                        <p:tgtEl>
                                          <p:spTgt spid="111"/>
                                        </p:tgtEl>
                                      </p:cBhvr>
                                    </p:animEffect>
                                    <p:set>
                                      <p:cBhvr>
                                        <p:cTn id="17" dur="1" fill="hold">
                                          <p:stCondLst>
                                            <p:cond delay="499"/>
                                          </p:stCondLst>
                                        </p:cTn>
                                        <p:tgtEl>
                                          <p:spTgt spid="111"/>
                                        </p:tgtEl>
                                        <p:attrNameLst>
                                          <p:attrName>style.visibility</p:attrName>
                                        </p:attrNameLst>
                                      </p:cBhvr>
                                      <p:to>
                                        <p:strVal val="hidden"/>
                                      </p:to>
                                    </p:set>
                                  </p:childTnLst>
                                </p:cTn>
                              </p:par>
                              <p:par>
                                <p:cTn id="18" nodeType="withEffect" fill="hold" presetClass="entr" presetID="9">
                                  <p:stCondLst>
                                    <p:cond delay="0"/>
                                  </p:stCondLst>
                                  <p:childTnLst>
                                    <p:set>
                                      <p:cBhvr>
                                        <p:cTn id="19" dur="1" fill="hold">
                                          <p:stCondLst>
                                            <p:cond delay="0"/>
                                          </p:stCondLst>
                                        </p:cTn>
                                        <p:tgtEl>
                                          <p:spTgt spid="108"/>
                                        </p:tgtEl>
                                        <p:attrNameLst>
                                          <p:attrName>style.visibility</p:attrName>
                                        </p:attrNameLst>
                                      </p:cBhvr>
                                      <p:to>
                                        <p:strVal val="visible"/>
                                      </p:to>
                                    </p:set>
                                    <p:animEffect filter="dissolve" transition="in">
                                      <p:cBhvr additive="repl">
                                        <p:cTn id="20" dur="500"/>
                                        <p:tgtEl>
                                          <p:spTgt spid="108"/>
                                        </p:tgtEl>
                                      </p:cBhvr>
                                    </p:animEffect>
                                  </p:childTnLst>
                                </p:cTn>
                              </p:par>
                              <p:par>
                                <p:cTn id="21" nodeType="withEffect" fill="hold" presetClass="exit" presetID="9">
                                  <p:stCondLst>
                                    <p:cond delay="0"/>
                                  </p:stCondLst>
                                  <p:childTnLst>
                                    <p:animEffect filter="dissolve" transition="out">
                                      <p:cBhvr additive="repl">
                                        <p:cTn id="22" dur="500"/>
                                        <p:tgtEl>
                                          <p:spTgt spid="113"/>
                                        </p:tgtEl>
                                      </p:cBhvr>
                                    </p:animEffect>
                                    <p:set>
                                      <p:cBhvr>
                                        <p:cTn id="23" dur="1" fill="hold">
                                          <p:stCondLst>
                                            <p:cond delay="499"/>
                                          </p:stCondLst>
                                        </p:cTn>
                                        <p:tgtEl>
                                          <p:spTgt spid="113"/>
                                        </p:tgtEl>
                                        <p:attrNameLst>
                                          <p:attrName>style.visibility</p:attrName>
                                        </p:attrNameLst>
                                      </p:cBhvr>
                                      <p:to>
                                        <p:strVal val="hidden"/>
                                      </p:to>
                                    </p:set>
                                  </p:childTnLst>
                                </p:cTn>
                              </p:par>
                              <p:par>
                                <p:cTn id="24" nodeType="withEffect" fill="hold" presetClass="entr" presetID="9">
                                  <p:stCondLst>
                                    <p:cond delay="0"/>
                                  </p:stCondLst>
                                  <p:childTnLst>
                                    <p:set>
                                      <p:cBhvr>
                                        <p:cTn id="25" dur="1" fill="hold">
                                          <p:stCondLst>
                                            <p:cond delay="0"/>
                                          </p:stCondLst>
                                        </p:cTn>
                                        <p:tgtEl>
                                          <p:spTgt spid="114"/>
                                        </p:tgtEl>
                                        <p:attrNameLst>
                                          <p:attrName>style.visibility</p:attrName>
                                        </p:attrNameLst>
                                      </p:cBhvr>
                                      <p:to>
                                        <p:strVal val="visible"/>
                                      </p:to>
                                    </p:set>
                                    <p:animEffect filter="dissolve" transition="in">
                                      <p:cBhvr additive="repl">
                                        <p:cTn id="2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1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ard to vote on Local exemptions poli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 to vote on Purpose of Whois poli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Force to start development of statement of purpose of Whois contacts. Registrar input will be required</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we keep all of the existing contact?</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ata should be associated with eac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nd contacts published must be consistent with purpose of Whois.</a:t>
            </a:r>
            <a:endParaRPr b="0" lang="en-US" sz="20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a:t>
            </a:r>
            <a:endParaRPr b="0" lang="en-US" sz="3600" spc="-1" strike="noStrike">
              <a:solidFill>
                <a:srgbClr val="ccecff"/>
              </a:solidFill>
              <a:latin typeface="Arial Black"/>
            </a:endParaRPr>
          </a:p>
        </p:txBody>
      </p:sp>
      <p:sp>
        <p:nvSpPr>
          <p:cNvPr id="11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uncil subcommittee tasked with evaluating the implementation of the Transfers Consensus Policy and making recommendations regarding how the policy and current implementation can be reviewed</a:t>
            </a:r>
            <a:endParaRPr b="0" lang="en-US" sz="32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 (cont’)</a:t>
            </a:r>
            <a:endParaRPr b="0" lang="en-US" sz="3600" spc="-1" strike="noStrike">
              <a:solidFill>
                <a:srgbClr val="ccecff"/>
              </a:solidFill>
              <a:latin typeface="Arial Black"/>
            </a:endParaRPr>
          </a:p>
        </p:txBody>
      </p:sp>
      <p:sp>
        <p:nvSpPr>
          <p:cNvPr id="12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 Rui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 Nevett</a:t>
            </a:r>
            <a:endParaRPr b="0" lang="en-US" sz="28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 (cont’)</a:t>
            </a:r>
            <a:endParaRPr b="0" lang="en-US" sz="3600" spc="-1" strike="noStrike">
              <a:solidFill>
                <a:srgbClr val="ccecff"/>
              </a:solidFill>
              <a:latin typeface="Arial Black"/>
            </a:endParaRPr>
          </a:p>
        </p:txBody>
      </p:sp>
      <p:sp>
        <p:nvSpPr>
          <p:cNvPr id="12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of compiling preliminary recommend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steps 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eliminary recommend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e for constituency feedback</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G will vote on recommendations and forward to Council for implementation by ICANN Staff, or consideration as new consensus policy.</a:t>
            </a:r>
            <a:endParaRPr b="0" lang="en-US" sz="28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a:t>
            </a:r>
            <a:endParaRPr b="0" lang="en-US" sz="3600" spc="-1" strike="noStrike">
              <a:solidFill>
                <a:srgbClr val="ccecff"/>
              </a:solidFill>
              <a:latin typeface="Arial Black"/>
            </a:endParaRPr>
          </a:p>
        </p:txBody>
      </p:sp>
      <p:sp>
        <p:nvSpPr>
          <p:cNvPr id="12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uncil subcommittee made up of a representative group of volunteers that are reviewing the effectiveness and compliance of the current contractual requirements with respect to WHOIS accuracy. </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oup will take as input (1) the WDPRS report released on March 31st 2004, (2) the WDRP report released on November 20th 2004, and (3) the impact of ICANN's compliance plan. </a:t>
            </a:r>
            <a:endParaRPr b="0" lang="en-US" sz="28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2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Fares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 Stubbs (Regis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ss Rader (Registr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ce Tonkin (Registra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klas Lagergren (IPC, Chair) </a:t>
            </a:r>
            <a:endParaRPr b="0" lang="en-US" sz="32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2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 has discusse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hois Data Problem Reporting System (WDP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hois Data Reminder Policy (WDR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going attempt put a compliance policy into place within ICANN. </a:t>
            </a:r>
            <a:endParaRPr b="0" lang="en-US" sz="28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3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etings have crystallized three topics for Council to examin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for an overall statistical assessment of Whois accurac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treamline the current process for reporting and addressing Whois problems, an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put theory into practice when it comes to compliance. </a:t>
            </a:r>
            <a:endParaRPr b="0" lang="en-US" sz="28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3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to the GNSO) should be completed by the ICANN meeting in Marrakes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in sco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intended (and is not mandated) to engage in a policy-development effort</a:t>
            </a:r>
            <a:endParaRPr b="0" lang="en-US" sz="28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opics</a:t>
            </a:r>
            <a:endParaRPr b="0" lang="en-US" sz="4000" spc="-1" strike="noStrike">
              <a:solidFill>
                <a:srgbClr val="ccecff"/>
              </a:solidFill>
              <a:latin typeface="Arial Black"/>
            </a:endParaRPr>
          </a:p>
        </p:txBody>
      </p:sp>
      <p:sp>
        <p:nvSpPr>
          <p:cNvPr id="9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is Task Force Recommendations &amp; Next Step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s Implementation Re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is Accuracy Working Group</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DP-Dec05 (New gTL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DP-Feb06 (Contractual Policy Requirement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ed RGP-PDP</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Re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on Council Progress since VC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on Council work in Wellingt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QA</a:t>
            </a:r>
            <a:endParaRPr b="0" lang="en-US" sz="24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PDP-Dec05 (New gTLDs)</a:t>
            </a:r>
            <a:endParaRPr b="0" lang="en-US" sz="4000" spc="-1" strike="noStrike">
              <a:solidFill>
                <a:srgbClr val="ccecff"/>
              </a:solidFill>
              <a:latin typeface="Arial Black"/>
            </a:endParaRPr>
          </a:p>
        </p:txBody>
      </p:sp>
      <p:sp>
        <p:nvSpPr>
          <p:cNvPr id="13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Force was created as a Committee-of-the-Whole (i.e. as a GNSO Council Sub-committe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uce Tonkin (c’ttee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 Kell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3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cy and public comments have been solicited and receiv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tee also requested, and received, white papers from interested parties</a:t>
            </a:r>
            <a:endParaRPr b="0" lang="en-US" sz="28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3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ing of c’ttee held in Washington D.C. on Feb. 24-25, 2006</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White papers were presen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presented Constituency posi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d initial basis for consensu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 initial report has been prepared by ICANN staf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s initial statements and findings of rough consensus, and recommends areas that require further discussion.</a:t>
            </a:r>
            <a:endParaRPr b="0" lang="en-US" sz="28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from Re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port is an evolving draft, recommendations are still flu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introduction of new gTLD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greement on how many, how fast and what kin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ISPC/IPC/BC would like to see *only* sTLDs introduced and would prefer at this time to focus exclusively on introducing IDN new gTLDs</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agreement on standardized registry contracts and improved compliance program</a:t>
            </a:r>
            <a:endParaRPr b="0" lang="en-US" sz="24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from report</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analysis of operational impact of implementation on ICANN staff is required.</a:t>
            </a:r>
            <a:endParaRPr b="0" lang="en-US" sz="2000" spc="-1" strike="noStrike">
              <a:solidFill>
                <a:srgbClr val="ffffff"/>
              </a:solidFill>
              <a:latin typeface="Arial"/>
            </a:endParaRPr>
          </a:p>
          <a:p>
            <a:pPr lvl="2" marL="113148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enable better understanding of actual costs.</a:t>
            </a:r>
            <a:endParaRPr b="0" lang="en-US" sz="18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t based market analysis could be used to inform decisions about desirability of new gTLDs from an end-user perspective.</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consideration of specific ideas and input that have been addressed as part of the consensus building exercise</a:t>
            </a:r>
            <a:endParaRPr b="0" lang="en-US" sz="2000" spc="-1" strike="noStrike">
              <a:solidFill>
                <a:srgbClr val="ffffff"/>
              </a:solidFill>
              <a:latin typeface="Arial"/>
            </a:endParaRPr>
          </a:p>
          <a:p>
            <a:pPr lvl="2" marL="113148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proposal to reclassify gTLDs into “chartered” and “unchartered”</a:t>
            </a:r>
            <a:endParaRPr b="0" lang="en-US" sz="18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WIPO-2 recommendations as separate track PDP.</a:t>
            </a:r>
            <a:endParaRPr b="0" lang="en-US" sz="20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egistrar input requested;</a:t>
            </a:r>
            <a:endParaRPr b="0" lang="en-US" sz="24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the minimum technical criteria for registry operations be set according to the current registry operations of, for example, .NET requirements?</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the minimum technical criteria make some reference to the proposed size of a new registry [to enable appropriate adjustments to be made based on the number of names under management]?</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a separate registry operator’s accreditation scheme be established and, if so, what should that scheme look like. For example, could compliance with existing RFCs and IETF standards be used as objective measures of technical capacity?</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other business operations criteria continue to be included in a registry operator’s application to ensure that any registry operator is adequately funded and professionally managed?</a:t>
            </a:r>
            <a:endParaRPr b="0" lang="en-US" sz="1800" spc="-1" strike="noStrike">
              <a:solidFill>
                <a:srgbClr val="ffffff"/>
              </a:solidFill>
              <a:latin typeface="Arial"/>
            </a:endParaRPr>
          </a:p>
          <a:p>
            <a:pPr lvl="1" marL="950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PDP-Feb06 (Contractual Policy Conditions)</a:t>
            </a:r>
            <a:endParaRPr b="0" lang="en-US" sz="3600" spc="-1" strike="noStrike">
              <a:solidFill>
                <a:srgbClr val="ccecff"/>
              </a:solidFill>
              <a:latin typeface="Arial Black"/>
            </a:endParaRPr>
          </a:p>
        </p:txBody>
      </p:sp>
      <p:sp>
        <p:nvSpPr>
          <p:cNvPr id="1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 Nevett (nominated as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 Eckha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report has been prepared by ICANN staff and accepted by Counc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s of Reference has been determined</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examination of the issues surrounding presumptive renewal, limitations on consensus policy, pricing controls, ICANN fees, uses of registry data (and metadata) and investments in development and infrastructure</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ste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F meeting in Wellingt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cy must prepare and vote on position statement prior to April 30.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comment period is now open</a:t>
            </a:r>
            <a:endParaRPr b="0" lang="en-US" sz="28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a:t>
            </a:r>
            <a:endParaRPr b="0" lang="en-US" sz="4000" spc="-1" strike="noStrike">
              <a:solidFill>
                <a:srgbClr val="ccecff"/>
              </a:solidFill>
              <a:latin typeface="Arial Black"/>
            </a:endParaRPr>
          </a:p>
        </p:txBody>
      </p:sp>
      <p:sp>
        <p:nvSpPr>
          <p:cNvPr id="9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rdyn Buchanan (TF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tahur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 Rui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 Kell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of issues for Constituency State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Proposed RGP-PDP</a:t>
            </a:r>
            <a:endParaRPr b="0" lang="en-US" sz="4000" spc="-1" strike="noStrike">
              <a:solidFill>
                <a:srgbClr val="ccecff"/>
              </a:solidFill>
              <a:latin typeface="Arial Black"/>
            </a:endParaRPr>
          </a:p>
        </p:txBody>
      </p:sp>
      <p:sp>
        <p:nvSpPr>
          <p:cNvPr id="15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mplement Redemption Grace Period as a mandatory offering (as opposed to optional registry servic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 scope/terms of reference for TF/W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intending to look at “expiry-transfer” etc. or modify of RGP practic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 has not yet discussed</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ed in response to recent public criticism of Registrar practi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level of self-regulation is “desirab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GNSO Review</a:t>
            </a:r>
            <a:endParaRPr b="0" lang="en-US" sz="4000" spc="-1" strike="noStrike">
              <a:solidFill>
                <a:srgbClr val="ccecff"/>
              </a:solidFill>
              <a:latin typeface="Arial Black"/>
            </a:endParaRPr>
          </a:p>
        </p:txBody>
      </p:sp>
      <p:sp>
        <p:nvSpPr>
          <p:cNvPr id="15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 of ICANN Bylaw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conducted by representatives of the London School of Economic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areas of focus;</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veness</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is the GNSO reflective of the community?</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ness</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does the GNSO work well?</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cy</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are we accessible? Can the basis for our decisions be demonstrated?</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iance</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do we follow our own rules?</a:t>
            </a:r>
            <a:endParaRPr b="0" lang="en-US" sz="18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GNSO Review</a:t>
            </a:r>
            <a:endParaRPr b="0" lang="en-US" sz="4000" spc="-1" strike="noStrike">
              <a:solidFill>
                <a:srgbClr val="ccecff"/>
              </a:solidFill>
              <a:latin typeface="Arial Black"/>
            </a:endParaRPr>
          </a:p>
        </p:txBody>
      </p:sp>
      <p:sp>
        <p:nvSpPr>
          <p:cNvPr id="16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 and observation is ongo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hear from the constitu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icann.org/gnso/review-reference-terms-27oct05.htm</a:t>
            </a:r>
            <a:endParaRPr b="0" lang="en-US" sz="32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Update on Council Progress since VCR</a:t>
            </a:r>
            <a:endParaRPr b="0" lang="en-US" sz="3600" spc="-1" strike="noStrike">
              <a:solidFill>
                <a:srgbClr val="ccecff"/>
              </a:solidFill>
              <a:latin typeface="Arial Black"/>
            </a:endParaRPr>
          </a:p>
        </p:txBody>
      </p:sp>
      <p:sp>
        <p:nvSpPr>
          <p:cNvPr id="16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Update on Council Work in Wellington</a:t>
            </a:r>
            <a:endParaRPr b="0" lang="en-US" sz="3600" spc="-1" strike="noStrike">
              <a:solidFill>
                <a:srgbClr val="ccecff"/>
              </a:solidFill>
              <a:latin typeface="Arial Black"/>
            </a:endParaRPr>
          </a:p>
        </p:txBody>
      </p:sp>
      <p:sp>
        <p:nvSpPr>
          <p:cNvPr id="16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 Planning Session topic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ncil’s Operational Plan, Council’s Strategic Plan, proposal for improved Administrative function, Council funding, new rules of council proced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TLD Working Group Meet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 and discussion of proposed selection criteria, allocation method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ion with GAC working group on gTL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Public forum (agend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Council Meeting (agenda?)</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Open Forum/QA</a:t>
            </a:r>
            <a:endParaRPr b="0" lang="en-US" sz="4000" spc="-1" strike="noStrike">
              <a:solidFill>
                <a:srgbClr val="ccecff"/>
              </a:solidFill>
              <a:latin typeface="Arial Black"/>
            </a:endParaRPr>
          </a:p>
        </p:txBody>
      </p:sp>
      <p:sp>
        <p:nvSpPr>
          <p:cNvPr id="16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9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F completed Final Report outlining policy and advice for handling conflicts between a registry/registrars legal obligations under privacy laws and their contractual obligations to ICANN (19 Oct. 2005)</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has been adopted as a consensus policy recommendation, and forwarded to the ICANN BoD for ratification as consensus policy (28 Nov. 2005)</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 has not yet voted on this recommendation.</a:t>
            </a:r>
            <a:endParaRPr b="0" lang="en-US" sz="20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9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 Force has completed Final Report on defining Purpose of Whoi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e recently held, report forwarded to GNSO Council (18? Mar. 2006)</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NSO Council has not yet acted on this repor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ar Council reps require input concerning “Formulation 1” and “Formulation 2”</a:t>
            </a:r>
            <a:endParaRPr b="0" lang="en-US" sz="28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 1</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gTLD Whois service is to provide information sufficient to contact a responsible party for a particular gTLD domain name who can resolve, or reliably pass on data to a party who can resolve, issues related to the configuration of the records associated with the domain name within a DNS nameserver." </a:t>
            </a:r>
            <a:endParaRPr b="0" lang="en-US" sz="2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 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gTLD Whois service is to provide information sufficient to contact a responsible party or parties for a particular gTLD domain name who can resolve, or reliably pass on data to a party who can resolve, technical, legal or other issues related to the registration or use of a domain name." </a:t>
            </a:r>
            <a:endParaRPr b="0" lang="en-US" sz="28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4" name="PlaceHolder 2"/>
          <p:cNvSpPr>
            <a:spLocks noGrp="1"/>
          </p:cNvSpPr>
          <p:nvPr>
            <p:ph/>
          </p:nvPr>
        </p:nvSpPr>
        <p:spPr>
          <a:xfrm>
            <a:off x="1218960" y="2285640"/>
            <a:ext cx="3771720" cy="3962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rpose of the gTLD Whois service is to provide information sufficient to contact a responsible party for a particular gTLD domain name who can resolve, or reliably pass on data to a party who can resolve, issues related to the configuration of the records associated with the domain name within a DNS nameserver."</a:t>
            </a:r>
            <a:endParaRPr b="0" lang="en-US" sz="2000" spc="-1" strike="noStrike">
              <a:solidFill>
                <a:srgbClr val="ffffff"/>
              </a:solidFill>
              <a:latin typeface="Arial"/>
            </a:endParaRPr>
          </a:p>
        </p:txBody>
      </p:sp>
      <p:sp>
        <p:nvSpPr>
          <p:cNvPr id="105" name="PlaceHolder 3"/>
          <p:cNvSpPr>
            <a:spLocks noGrp="1"/>
          </p:cNvSpPr>
          <p:nvPr>
            <p:ph/>
          </p:nvPr>
        </p:nvSpPr>
        <p:spPr>
          <a:xfrm>
            <a:off x="5143320" y="2285640"/>
            <a:ext cx="3771720" cy="3962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rpose of the gTLD Whois service is to provide information sufficient to contact a responsible party or parties for a particular gTLD domain name who can resolve, or reliably pass on data to a party who can resolve, technical, legal or other issues related to the registration or use of a domain name."</a:t>
            </a:r>
            <a:endParaRPr b="0" lang="en-US" sz="20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7"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ion 1 was advocated by the RC reps in the TF</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with RC position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with ICANN mission and mand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by other key constituencies (Registry, Non-commercial)</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ion 2 was advocated by the BC/ISP/IPC</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nsistent with ICANN mission and mand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inconsistent with RC position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supported by Registry or Non-commercial constituency</a:t>
            </a:r>
            <a:endParaRPr b="0" lang="en-US" sz="20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0:13:04Z</dcterms:created>
  <dc:creator>Ross Rader</dc:creator>
  <dc:description/>
  <dc:language>en-US</dc:language>
  <cp:lastModifiedBy>Ross Rader</cp:lastModifiedBy>
  <dcterms:modified xsi:type="dcterms:W3CDTF">2006-03-27T00:34:01Z</dcterms:modified>
  <cp:revision>9</cp:revision>
  <dc:subject/>
  <dc:title>GNSO Council Update</dc:title>
</cp:coreProperties>
</file>