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21C-CC01-4A3E-970B-44362580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A35-2D47-4031-A830-AE2DB84B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EE3-F54F-4CAF-9537-1F479564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4C58-A6A6-4F2A-946B-AEBE45B2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8F5-B4DD-49C4-B08B-7FABFEEB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5F8-81DF-485D-BCAF-A35960F4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F39-9DFD-495F-9272-CD380D00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A0D-F3C2-4F48-A230-63517FFF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D491-3F10-42A5-AF5E-28795C04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1EA-3396-41AD-9071-0152C251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0A94-471E-4701-9E1A-11CD5863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D0C-AFF7-4874-BE06-FBE11753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15E8-C6EF-4E84-9AC0-D75C48ECF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cNSO  IDN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uce Tonkin, Chair, GN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 March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g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GNSO and ccNSO jointly “coordinate” policy developmen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dentify initial policies to focus on, and share and divide work appropr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hoose policies that allow timely introduction of “some” IDN TLDs that give the benefits to the greatest number of users and minimise risks/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mportant to make progress this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eek advice from the President’s Advisory Committee for IDNs wher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imely benefit for Internet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Ensure user expectations are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rovide a good user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quest for an policy issues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GNSO Council has requested ICANN staff to produce a report listing the policy issues associated with introducing IDNs in the root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dentify the issues that should be worked on first to allow initial IDN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dentify who should be involved in addressing each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s of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Existing ccTLD (from ISO 3166-1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ist) and gTLD operators want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e an IDN based string that relates to the T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party may introduce an IDN based string that relates to the TLD in competition with the T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oice of IDN 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list of strings equivalent to ISO 3166-1 for countries that use scripts other than the English character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IDN strings per existing opera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d on number of official languages or scripts used within coun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s and scripts used across multipl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el.tldname1 and label.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ldname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 two TLD strings “tldname1” and “tldname2” are associated with the same TLD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label.tldname1 and label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ldname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lve to the same Internet lo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label.tldname1 and label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ldname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igned to the same registrant (name hol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ript at 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level versus 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hould the script used in the string to the left of the “dot”, match the script used in the string to the r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.g english-script.english-script, chinese-script.chinese-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llow mixes as we have to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nglish-script.chinese-script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hinese-script.english-script (as we have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LD String Confli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parties may wish to have the same TLD IDN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decides, what criteria, dispute re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sible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gets to have a new TLD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on crit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deal with contention between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cation method, trademark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e of agreement for using new TLD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 comply with IETF ID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does work get d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GNSO – develops gtld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cNSO – global policies for cct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resident’s Advisory Committee for I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Provides advice – technical/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D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echnical tests – e.g on DNAME and NS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01:50:01Z</dcterms:created>
  <dc:creator>Patrick Sharry</dc:creator>
  <dc:description/>
  <dc:language>en-US</dc:language>
  <cp:lastModifiedBy>bruce tonkin</cp:lastModifiedBy>
  <dcterms:modified xsi:type="dcterms:W3CDTF">2006-03-27T03:38:48Z</dcterms:modified>
  <cp:revision>84</cp:revision>
  <dc:subject/>
  <dc:title>Slide 1</dc:title>
</cp:coreProperties>
</file>