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59BC-AEC8-4564-B19B-AD01564D5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473D-A8C6-4F14-970C-C31F1597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2CAB-2D6E-47C9-BFCB-20DF1635B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7B0D-272C-49FD-83E2-78E57FDE3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E0EF-6211-40E0-B6B6-E6D381B7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6E43-A831-4C2C-97DB-943CEEEA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A8D3-4B44-4344-8256-894039B4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46CC-A65B-43B9-8C4F-2B8E8503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8FCD-5C94-424D-B885-7B8082C5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0262-4DBF-4B5A-9AE0-A21A14EB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EB1B-F22E-483F-A1BD-F47FADC0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CFA7-E734-4C28-B67C-E8F9FDF4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E8F8-4AB8-4812-A4F8-89485166E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ccNSO  IDN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uce Tonkin, Chair, GN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7 March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gg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GNSO and ccNSO jointly “coordinate” policy developmen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Identify initial policies to focus on, and share and divide work appropr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Choose policies that allow timely introduction of “some” IDN TLDs that give the benefits to the greatest number of users and minimise risks/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Important to make progress this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eek advice from the President’s Advisory Committee for IDNs where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Timely benefit for Internet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Ensure user expectations are 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Provide a good user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quest for an policy issues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GNSO Council has requested ICANN staff to produce a report listing the policy issues associated with introducing IDNs in the root z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Identify the issues that should be worked on first to allow initial IDN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Identify who should be involved in addressing each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s of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Existing ccTLD (from ISO 3166-1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list) and gTLD operators want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e an IDN based string that relates to the T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ther party may introduce an IDN based string that relates to the TLD in competition with the T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oice of IDN st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list of strings equivalent to ISO 3166-1 for countries that use scripts other than the English character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IDN strings per existing operat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d on number of official languages or scripts used within coun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nguages and scripts used across multiple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bel.tldname1 and label.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ldname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ume two TLD strings “tldname1” and “tldname2” are associated with the same TLD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label.tldname1 and label.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ldname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olve to the same Internet lo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e label.tldname1 and label.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ldname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igned to the same registrant (name hol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ript at 2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level versus 1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hould the script used in the string to the left of the “dot”, match the script used in the string to the righ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E.g english-script.english-script, chinese-script.chinese-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llow mixes as we have tod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English-script.chinese-script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chinese-script.english-script (as we have to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LD String Confli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parties may wish to have the same TLD IDN 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decides, what criteria, dispute res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ssible poli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gets to have a new TLD 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ion criter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o deal with contention between 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ocation method, trademark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ure of agreement for using new TLD 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g comply with IETF IDN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does work get do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GNSO – develops gtld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ccNSO – global policies for cct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President’s Advisory Committee for ID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Provides advice – technical/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IDN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Technical tests – e.g on DNAME and NS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01:50:01Z</dcterms:created>
  <dc:creator>Patrick Sharry</dc:creator>
  <dc:description/>
  <dc:language>en-US</dc:language>
  <cp:lastModifiedBy>bruce tonkin</cp:lastModifiedBy>
  <dcterms:modified xsi:type="dcterms:W3CDTF">2006-03-27T03:38:48Z</dcterms:modified>
  <cp:revision>84</cp:revision>
  <dc:subject/>
  <dc:title>Slide 1</dc:title>
</cp:coreProperties>
</file>