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3.wmf" ContentType="image/x-wmf"/>
  <Override PartName="/ppt/media/image23.wmf" ContentType="image/x-wmf"/>
  <Override PartName="/ppt/media/image22.wmf" ContentType="image/x-wmf"/>
  <Override PartName="/ppt/media/image20.wmf" ContentType="image/x-wmf"/>
  <Override PartName="/ppt/media/image21.wmf" ContentType="image/x-wmf"/>
  <Override PartName="/ppt/media/image19.wmf" ContentType="image/x-wmf"/>
  <Override PartName="/ppt/media/image18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4.wmf" ContentType="image/x-wmf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58F12E-092A-4DF9-9BCB-4F3737959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21D11D-77F8-4DA8-8CD6-2C353B2C6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43EFE3-3D39-4AA1-9F84-C44690F30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653855-58F3-4AA1-AD48-28B76F514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B70A4-FDA7-4029-A9CE-F87C5EC16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756D0-8CCB-49A4-845A-B7C403A42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094C8-3A13-4FAD-BA07-779CEE11B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98944-49CD-468A-A5C9-81144CB4E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6754E-1C84-44FC-9AD3-F75BEB1E2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CB6D1-DC44-4040-A544-09899A20A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D7875-B02A-40ED-862E-AFDA00534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441832-8060-43AA-9205-D537F75D3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1A7D8-02EF-4827-A07C-062E82B93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0FF42-3CC8-4810-9C08-A0BD6A196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897A7-DFC6-4F9B-9E4B-40E299239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D530E-3957-4989-B6B3-99E0C9F06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114DA-7639-4734-8F38-6AB775874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649D1C-BC11-4534-B2B0-BC725C44F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D7A3DB-3AC1-4240-A00C-522CB0C60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A42E8E-CB95-41F8-A05B-2168AD1A3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A8C454-DA9B-435C-BE7D-4884A4BE5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399461-CF34-4A94-BE2A-C90B1CCEC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ED1C3E-5FA1-4995-8372-75A95EDC6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507992-B6B9-4A50-B164-E4C4A4241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6F979-13A8-44F5-BB54-12F1FA8C49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3"/>
          </p:nvPr>
        </p:nvSpPr>
        <p:spPr>
          <a:xfrm>
            <a:off x="313344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this presentation is for </a:t>
            </a:r>
            <a:r>
              <a:rPr b="1" lang="en-US" sz="900" spc="-1" strike="noStrike" u="sng">
                <a:solidFill>
                  <a:srgbClr val="000000"/>
                </a:solidFill>
                <a:uFillTx/>
                <a:latin typeface="Times New Roman"/>
              </a:rPr>
              <a:t>discussion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purposes only”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2D555-3177-4A2E-8357-90AFA7C89C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3.wmf"/><Relationship Id="rId6" Type="http://schemas.openxmlformats.org/officeDocument/2006/relationships/image" Target="../media/image5.wmf"/><Relationship Id="rId7" Type="http://schemas.openxmlformats.org/officeDocument/2006/relationships/image" Target="../media/image6.wmf"/><Relationship Id="rId8" Type="http://schemas.openxmlformats.org/officeDocument/2006/relationships/image" Target="../media/image5.wmf"/><Relationship Id="rId9" Type="http://schemas.openxmlformats.org/officeDocument/2006/relationships/image" Target="../media/image7.wmf"/><Relationship Id="rId10" Type="http://schemas.openxmlformats.org/officeDocument/2006/relationships/image" Target="../media/image8.wmf"/><Relationship Id="rId11" Type="http://schemas.openxmlformats.org/officeDocument/2006/relationships/image" Target="../media/image7.wmf"/><Relationship Id="rId12" Type="http://schemas.openxmlformats.org/officeDocument/2006/relationships/image" Target="../media/image9.wmf"/><Relationship Id="rId13" Type="http://schemas.openxmlformats.org/officeDocument/2006/relationships/image" Target="../media/image10.wmf"/><Relationship Id="rId14" Type="http://schemas.openxmlformats.org/officeDocument/2006/relationships/image" Target="../media/image9.wmf"/><Relationship Id="rId15" Type="http://schemas.openxmlformats.org/officeDocument/2006/relationships/image" Target="../media/image11.wmf"/><Relationship Id="rId16" Type="http://schemas.openxmlformats.org/officeDocument/2006/relationships/image" Target="../media/image12.wmf"/><Relationship Id="rId17" Type="http://schemas.openxmlformats.org/officeDocument/2006/relationships/image" Target="../media/image11.wmf"/><Relationship Id="rId18" Type="http://schemas.openxmlformats.org/officeDocument/2006/relationships/image" Target="../media/image13.wmf"/><Relationship Id="rId19" Type="http://schemas.openxmlformats.org/officeDocument/2006/relationships/image" Target="../media/image14.wmf"/><Relationship Id="rId20" Type="http://schemas.openxmlformats.org/officeDocument/2006/relationships/image" Target="../media/image13.wmf"/><Relationship Id="rId2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Garamond"/>
              </a:rPr>
              <a:t>DTWG Report Update</a:t>
            </a:r>
            <a:endParaRPr b="1" lang="en-US" sz="6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Registrar Constituency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Jothan Frakes - Oversee.ne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1CA44A0E-1E38-4A60-939C-2691C140F11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Reviewing Impacts to Change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Impact to Registrars and Registrants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Business Impact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Technical Impact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Financial Impact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Degradation in User Experience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Business Impact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The results of a straw poll of the RC yielded 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seven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(7) 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identified benefits of the AGP, which were unrelated to domain tasting and/or domain kiting: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Correcting typographical errors made by the registrant;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Using a cart “hold” system to provide access to names;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Mitigating fraud impacts; 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Proactively monitoring the security and stability of their provisioning systems;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Addressing situations of Buyer’s Remorse  on behalf of the registrant;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Development Testing of real-time production system; and 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Merchant Gateway Testing and Development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There may be more, unreported uses – many registrars hold their business practices as proprietary or confidential in our ever competing marketplace.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Technical Impact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ome proposed changes could cause technical impact or impairment of registrars or registrants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668520" indent="-257040">
              <a:spcBef>
                <a:spcPts val="700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Re-engineering work at provisioning layer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668520" indent="-257040">
              <a:spcBef>
                <a:spcPts val="700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Re-engineering work of cart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668520" indent="-257040">
              <a:spcBef>
                <a:spcPts val="700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Re-engineering work of registrant domain management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668520" indent="-257040">
              <a:spcBef>
                <a:spcPts val="700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Re-engineering work in customer service tools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668520" indent="-257040">
              <a:spcBef>
                <a:spcPts val="700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Re-engineering work in accounting / reporting / finance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Financial Impact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Accounting and Finance departments could have issues to address in some of the changes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Effective Price per unit impacts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Managing Registry Balances for fee solutions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Bundled 3</a:t>
            </a:r>
            <a:r>
              <a:rPr b="0" lang="en-US" sz="2800" spc="-1" strike="noStrike" baseline="30000">
                <a:solidFill>
                  <a:srgbClr val="000000"/>
                </a:solidFill>
                <a:latin typeface="Garamond"/>
              </a:rPr>
              <a:t>rd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Party Service (delayed activation)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User Experience Impact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User Experience could be impaired with some of the proposed solutions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Immediate Activation As Baseline Expectation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Customer Service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Bundled Services (most start day 1, but could not activate until day 5?  Customer loses 4 day’s use of bundle benefit)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Higher Costs Passed Through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Illustrating Impacts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ve proposed methods of addressing domain tasting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racking the benefit Impact to address tasting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racking the adverse Impacts registrars and registrants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200880" indent="-200880">
              <a:lnSpc>
                <a:spcPct val="80000"/>
              </a:lnSpc>
              <a:spcBef>
                <a:spcPts val="300"/>
              </a:spcBef>
              <a:buClr>
                <a:srgbClr val="6600ff"/>
              </a:buClr>
              <a:buSzPct val="85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aramond"/>
              </a:rPr>
              <a:t>Addressing Issue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lvl="1" marL="502920" indent="-167760">
              <a:lnSpc>
                <a:spcPct val="80000"/>
              </a:lnSpc>
              <a:spcBef>
                <a:spcPts val="300"/>
              </a:spcBef>
              <a:buClr>
                <a:srgbClr val="333399"/>
              </a:buClr>
              <a:buSzPct val="85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Domain "Kiting" (Serial Re-Tasting)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lvl="1" marL="502920" indent="-167760">
              <a:lnSpc>
                <a:spcPct val="80000"/>
              </a:lnSpc>
              <a:spcBef>
                <a:spcPts val="300"/>
              </a:spcBef>
              <a:buClr>
                <a:srgbClr val="333399"/>
              </a:buClr>
              <a:buSzPct val="85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Domain Tasting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marL="200880" indent="-200880">
              <a:lnSpc>
                <a:spcPct val="80000"/>
              </a:lnSpc>
              <a:spcBef>
                <a:spcPts val="300"/>
              </a:spcBef>
              <a:buClr>
                <a:srgbClr val="6600ff"/>
              </a:buClr>
              <a:buSzPct val="85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aramond"/>
              </a:rPr>
              <a:t>Business Impact (some)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lvl="1" marL="502920" indent="-167760">
              <a:lnSpc>
                <a:spcPct val="80000"/>
              </a:lnSpc>
              <a:spcBef>
                <a:spcPts val="300"/>
              </a:spcBef>
              <a:buClr>
                <a:srgbClr val="333399"/>
              </a:buClr>
              <a:buSzPct val="85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Correcting typographical errors made by the registrant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lvl="1" marL="502920" indent="-167760">
              <a:lnSpc>
                <a:spcPct val="80000"/>
              </a:lnSpc>
              <a:spcBef>
                <a:spcPts val="300"/>
              </a:spcBef>
              <a:buClr>
                <a:srgbClr val="333399"/>
              </a:buClr>
              <a:buSzPct val="85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Using a cart “hold” system to provide access to names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lvl="1" marL="502920" indent="-167760">
              <a:lnSpc>
                <a:spcPct val="80000"/>
              </a:lnSpc>
              <a:spcBef>
                <a:spcPts val="300"/>
              </a:spcBef>
              <a:buClr>
                <a:srgbClr val="333399"/>
              </a:buClr>
              <a:buSzPct val="85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Mitigating fraud impacts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lvl="1" marL="502920" indent="-167760">
              <a:lnSpc>
                <a:spcPct val="80000"/>
              </a:lnSpc>
              <a:spcBef>
                <a:spcPts val="300"/>
              </a:spcBef>
              <a:buClr>
                <a:srgbClr val="333399"/>
              </a:buClr>
              <a:buSzPct val="85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Proactively monitoring the security and stability of their provisioning systems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lvl="1" marL="502920" indent="-167760">
              <a:lnSpc>
                <a:spcPct val="80000"/>
              </a:lnSpc>
              <a:spcBef>
                <a:spcPts val="300"/>
              </a:spcBef>
              <a:buClr>
                <a:srgbClr val="333399"/>
              </a:buClr>
              <a:buSzPct val="85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Addressing situations of Buyer’s Remorse on behalf of the registrant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lvl="1" marL="502920" indent="-167760">
              <a:lnSpc>
                <a:spcPct val="80000"/>
              </a:lnSpc>
              <a:spcBef>
                <a:spcPts val="300"/>
              </a:spcBef>
              <a:buClr>
                <a:srgbClr val="333399"/>
              </a:buClr>
              <a:buSzPct val="85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Development Testing of real-time production system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lvl="1" marL="502920" indent="-167760">
              <a:lnSpc>
                <a:spcPct val="80000"/>
              </a:lnSpc>
              <a:spcBef>
                <a:spcPts val="300"/>
              </a:spcBef>
              <a:buClr>
                <a:srgbClr val="333399"/>
              </a:buClr>
              <a:buSzPct val="85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Merchant Gateway Testing and Development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marL="200880" indent="-200880">
              <a:lnSpc>
                <a:spcPct val="80000"/>
              </a:lnSpc>
              <a:spcBef>
                <a:spcPts val="300"/>
              </a:spcBef>
              <a:buClr>
                <a:srgbClr val="6600ff"/>
              </a:buClr>
              <a:buSzPct val="85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Garamond"/>
              </a:rPr>
              <a:t>Technical Impacts (some)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lvl="1" marL="502920" indent="-167760">
              <a:lnSpc>
                <a:spcPct val="80000"/>
              </a:lnSpc>
              <a:spcBef>
                <a:spcPts val="300"/>
              </a:spcBef>
              <a:buClr>
                <a:srgbClr val="333399"/>
              </a:buClr>
              <a:buSzPct val="85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Re-engineering work at provisioning layer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lvl="1" marL="502920" indent="-167760">
              <a:lnSpc>
                <a:spcPct val="80000"/>
              </a:lnSpc>
              <a:spcBef>
                <a:spcPts val="300"/>
              </a:spcBef>
              <a:buClr>
                <a:srgbClr val="333399"/>
              </a:buClr>
              <a:buSzPct val="85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Re-engineering work of cart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lvl="1" marL="502920" indent="-167760">
              <a:lnSpc>
                <a:spcPct val="80000"/>
              </a:lnSpc>
              <a:spcBef>
                <a:spcPts val="300"/>
              </a:spcBef>
              <a:buClr>
                <a:srgbClr val="333399"/>
              </a:buClr>
              <a:buSzPct val="85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Re-engineering work of registrant domain management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lvl="1" marL="502920" indent="-167760">
              <a:lnSpc>
                <a:spcPct val="80000"/>
              </a:lnSpc>
              <a:spcBef>
                <a:spcPts val="300"/>
              </a:spcBef>
              <a:buClr>
                <a:srgbClr val="333399"/>
              </a:buClr>
              <a:buSzPct val="85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Re-engineering work in customer service tools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lvl="1" marL="502920" indent="-167760">
              <a:lnSpc>
                <a:spcPct val="80000"/>
              </a:lnSpc>
              <a:spcBef>
                <a:spcPts val="300"/>
              </a:spcBef>
              <a:buClr>
                <a:srgbClr val="333399"/>
              </a:buClr>
              <a:buSzPct val="85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Re-engineering work in accounting / reporting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marL="200880" indent="-200880">
              <a:lnSpc>
                <a:spcPct val="80000"/>
              </a:lnSpc>
              <a:spcBef>
                <a:spcPts val="300"/>
              </a:spcBef>
              <a:buClr>
                <a:srgbClr val="6600ff"/>
              </a:buClr>
              <a:buSzPct val="85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aramond"/>
              </a:rPr>
              <a:t>Financial Impacts (some)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lvl="1" marL="502920" indent="-167760">
              <a:lnSpc>
                <a:spcPct val="80000"/>
              </a:lnSpc>
              <a:spcBef>
                <a:spcPts val="300"/>
              </a:spcBef>
              <a:buClr>
                <a:srgbClr val="333399"/>
              </a:buClr>
              <a:buSzPct val="85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Accounting / Finance Process Changes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lvl="1" marL="502920" indent="-167760">
              <a:lnSpc>
                <a:spcPct val="80000"/>
              </a:lnSpc>
              <a:spcBef>
                <a:spcPts val="300"/>
              </a:spcBef>
              <a:buClr>
                <a:srgbClr val="333399"/>
              </a:buClr>
              <a:buSzPct val="85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Introduction of Costs to Registrars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marL="200880" indent="-200880">
              <a:lnSpc>
                <a:spcPct val="80000"/>
              </a:lnSpc>
              <a:spcBef>
                <a:spcPts val="300"/>
              </a:spcBef>
              <a:buClr>
                <a:srgbClr val="6600ff"/>
              </a:buClr>
              <a:buSzPct val="85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aramond"/>
              </a:rPr>
              <a:t>User Experience Impacts (some)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lvl="1" marL="502920" indent="-167760">
              <a:lnSpc>
                <a:spcPct val="80000"/>
              </a:lnSpc>
              <a:spcBef>
                <a:spcPts val="300"/>
              </a:spcBef>
              <a:buClr>
                <a:srgbClr val="333399"/>
              </a:buClr>
              <a:buSzPct val="85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Service Activation Expectation Degrades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lvl="1" marL="502920" indent="-167760">
              <a:lnSpc>
                <a:spcPct val="80000"/>
              </a:lnSpc>
              <a:spcBef>
                <a:spcPts val="300"/>
              </a:spcBef>
              <a:buClr>
                <a:srgbClr val="333399"/>
              </a:buClr>
              <a:buSzPct val="85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Higher Costs Passed Through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9" name=""/>
          <p:cNvSpPr/>
          <p:nvPr/>
        </p:nvSpPr>
        <p:spPr>
          <a:xfrm>
            <a:off x="4619520" y="1800360"/>
            <a:ext cx="266760" cy="950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Status Quo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281" name=""/>
          <p:cNvGraphicFramePr/>
          <p:nvPr/>
        </p:nvGraphicFramePr>
        <p:xfrm>
          <a:off x="457200" y="1600200"/>
          <a:ext cx="4038480" cy="4524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00200"/>
                    <a:ext cx="4038480" cy="452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3" name=""/>
          <p:cNvSpPr/>
          <p:nvPr/>
        </p:nvSpPr>
        <p:spPr>
          <a:xfrm>
            <a:off x="4619520" y="2333520"/>
            <a:ext cx="266760" cy="954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4619520" y="4076640"/>
            <a:ext cx="266760" cy="954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619520" y="5191200"/>
            <a:ext cx="266760" cy="950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619520" y="5762520"/>
            <a:ext cx="266760" cy="9540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200880" indent="-200880">
              <a:lnSpc>
                <a:spcPct val="80000"/>
              </a:lnSpc>
              <a:spcBef>
                <a:spcPts val="300"/>
              </a:spcBef>
              <a:buClr>
                <a:srgbClr val="6600ff"/>
              </a:buClr>
              <a:buSzPct val="85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aramond"/>
              </a:rPr>
              <a:t>Addressing Issue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lvl="1" marL="502920" indent="-167760">
              <a:lnSpc>
                <a:spcPct val="80000"/>
              </a:lnSpc>
              <a:spcBef>
                <a:spcPts val="300"/>
              </a:spcBef>
              <a:buClr>
                <a:srgbClr val="333399"/>
              </a:buClr>
              <a:buSzPct val="85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Domain "Kiting" (Serial Re-Tasting)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lvl="1" marL="502920" indent="-167760">
              <a:lnSpc>
                <a:spcPct val="80000"/>
              </a:lnSpc>
              <a:spcBef>
                <a:spcPts val="300"/>
              </a:spcBef>
              <a:buClr>
                <a:srgbClr val="333399"/>
              </a:buClr>
              <a:buSzPct val="85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Domain Tasting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marL="200880" indent="-200880">
              <a:lnSpc>
                <a:spcPct val="80000"/>
              </a:lnSpc>
              <a:spcBef>
                <a:spcPts val="300"/>
              </a:spcBef>
              <a:buClr>
                <a:srgbClr val="6600ff"/>
              </a:buClr>
              <a:buSzPct val="85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aramond"/>
              </a:rPr>
              <a:t>Business Impact (some)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lvl="1" marL="502920" indent="-167760">
              <a:lnSpc>
                <a:spcPct val="80000"/>
              </a:lnSpc>
              <a:spcBef>
                <a:spcPts val="300"/>
              </a:spcBef>
              <a:buClr>
                <a:srgbClr val="333399"/>
              </a:buClr>
              <a:buSzPct val="85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Correcting typographical errors made by the registrant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lvl="1" marL="502920" indent="-167760">
              <a:lnSpc>
                <a:spcPct val="80000"/>
              </a:lnSpc>
              <a:spcBef>
                <a:spcPts val="300"/>
              </a:spcBef>
              <a:buClr>
                <a:srgbClr val="333399"/>
              </a:buClr>
              <a:buSzPct val="85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Using a cart “hold” system to provide access to names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lvl="1" marL="502920" indent="-167760">
              <a:lnSpc>
                <a:spcPct val="80000"/>
              </a:lnSpc>
              <a:spcBef>
                <a:spcPts val="300"/>
              </a:spcBef>
              <a:buClr>
                <a:srgbClr val="333399"/>
              </a:buClr>
              <a:buSzPct val="85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Mitigating fraud impacts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lvl="1" marL="502920" indent="-167760">
              <a:lnSpc>
                <a:spcPct val="80000"/>
              </a:lnSpc>
              <a:spcBef>
                <a:spcPts val="300"/>
              </a:spcBef>
              <a:buClr>
                <a:srgbClr val="333399"/>
              </a:buClr>
              <a:buSzPct val="85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Proactively monitoring the security and stability of their provisioning systems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lvl="1" marL="502920" indent="-167760">
              <a:lnSpc>
                <a:spcPct val="80000"/>
              </a:lnSpc>
              <a:spcBef>
                <a:spcPts val="300"/>
              </a:spcBef>
              <a:buClr>
                <a:srgbClr val="333399"/>
              </a:buClr>
              <a:buSzPct val="85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Addressing situations of Buyer’s Remorse on behalf of the registrant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lvl="1" marL="502920" indent="-167760">
              <a:lnSpc>
                <a:spcPct val="80000"/>
              </a:lnSpc>
              <a:spcBef>
                <a:spcPts val="300"/>
              </a:spcBef>
              <a:buClr>
                <a:srgbClr val="333399"/>
              </a:buClr>
              <a:buSzPct val="85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Development Testing of real-time production system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lvl="1" marL="502920" indent="-167760">
              <a:lnSpc>
                <a:spcPct val="80000"/>
              </a:lnSpc>
              <a:spcBef>
                <a:spcPts val="300"/>
              </a:spcBef>
              <a:buClr>
                <a:srgbClr val="333399"/>
              </a:buClr>
              <a:buSzPct val="85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Merchant Gateway Testing and Development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marL="200880" indent="-200880">
              <a:lnSpc>
                <a:spcPct val="80000"/>
              </a:lnSpc>
              <a:spcBef>
                <a:spcPts val="300"/>
              </a:spcBef>
              <a:buClr>
                <a:srgbClr val="6600ff"/>
              </a:buClr>
              <a:buSzPct val="85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Garamond"/>
              </a:rPr>
              <a:t>Technical Impacts (some)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lvl="1" marL="502920" indent="-167760">
              <a:lnSpc>
                <a:spcPct val="80000"/>
              </a:lnSpc>
              <a:spcBef>
                <a:spcPts val="300"/>
              </a:spcBef>
              <a:buClr>
                <a:srgbClr val="333399"/>
              </a:buClr>
              <a:buSzPct val="85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Re-engineering work at provisioning layer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lvl="1" marL="502920" indent="-167760">
              <a:lnSpc>
                <a:spcPct val="80000"/>
              </a:lnSpc>
              <a:spcBef>
                <a:spcPts val="300"/>
              </a:spcBef>
              <a:buClr>
                <a:srgbClr val="333399"/>
              </a:buClr>
              <a:buSzPct val="85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Re-engineering work of cart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lvl="1" marL="502920" indent="-167760">
              <a:lnSpc>
                <a:spcPct val="80000"/>
              </a:lnSpc>
              <a:spcBef>
                <a:spcPts val="300"/>
              </a:spcBef>
              <a:buClr>
                <a:srgbClr val="333399"/>
              </a:buClr>
              <a:buSzPct val="85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Re-engineering work of registrant domain management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lvl="1" marL="502920" indent="-167760">
              <a:lnSpc>
                <a:spcPct val="80000"/>
              </a:lnSpc>
              <a:spcBef>
                <a:spcPts val="300"/>
              </a:spcBef>
              <a:buClr>
                <a:srgbClr val="333399"/>
              </a:buClr>
              <a:buSzPct val="85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Re-engineering work in customer service tools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lvl="1" marL="502920" indent="-167760">
              <a:lnSpc>
                <a:spcPct val="80000"/>
              </a:lnSpc>
              <a:spcBef>
                <a:spcPts val="300"/>
              </a:spcBef>
              <a:buClr>
                <a:srgbClr val="333399"/>
              </a:buClr>
              <a:buSzPct val="85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Re-engineering work in accounting / reporting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marL="200880" indent="-200880">
              <a:lnSpc>
                <a:spcPct val="80000"/>
              </a:lnSpc>
              <a:spcBef>
                <a:spcPts val="300"/>
              </a:spcBef>
              <a:buClr>
                <a:srgbClr val="6600ff"/>
              </a:buClr>
              <a:buSzPct val="85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aramond"/>
              </a:rPr>
              <a:t>Financial Impacts (some)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lvl="1" marL="502920" indent="-167760">
              <a:lnSpc>
                <a:spcPct val="80000"/>
              </a:lnSpc>
              <a:spcBef>
                <a:spcPts val="300"/>
              </a:spcBef>
              <a:buClr>
                <a:srgbClr val="333399"/>
              </a:buClr>
              <a:buSzPct val="85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Accounting / Finance Process Changes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lvl="1" marL="502920" indent="-167760">
              <a:lnSpc>
                <a:spcPct val="80000"/>
              </a:lnSpc>
              <a:spcBef>
                <a:spcPts val="300"/>
              </a:spcBef>
              <a:buClr>
                <a:srgbClr val="333399"/>
              </a:buClr>
              <a:buSzPct val="85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Introduction of Costs to Registrars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marL="200880" indent="-200880">
              <a:lnSpc>
                <a:spcPct val="80000"/>
              </a:lnSpc>
              <a:spcBef>
                <a:spcPts val="300"/>
              </a:spcBef>
              <a:buClr>
                <a:srgbClr val="6600ff"/>
              </a:buClr>
              <a:buSzPct val="85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aramond"/>
              </a:rPr>
              <a:t>User Experience Impacts (some)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lvl="1" marL="502920" indent="-167760">
              <a:lnSpc>
                <a:spcPct val="80000"/>
              </a:lnSpc>
              <a:spcBef>
                <a:spcPts val="300"/>
              </a:spcBef>
              <a:buClr>
                <a:srgbClr val="333399"/>
              </a:buClr>
              <a:buSzPct val="85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Service Activation Expectation Degrades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lvl="1" marL="502920" indent="-167760">
              <a:lnSpc>
                <a:spcPct val="80000"/>
              </a:lnSpc>
              <a:spcBef>
                <a:spcPts val="300"/>
              </a:spcBef>
              <a:buClr>
                <a:srgbClr val="333399"/>
              </a:buClr>
              <a:buSzPct val="85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Higher Costs Passed Through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8" name=""/>
          <p:cNvSpPr/>
          <p:nvPr/>
        </p:nvSpPr>
        <p:spPr>
          <a:xfrm>
            <a:off x="4619520" y="1800360"/>
            <a:ext cx="266760" cy="950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AGP Elimination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290" name=""/>
          <p:cNvGraphicFramePr/>
          <p:nvPr/>
        </p:nvGraphicFramePr>
        <p:xfrm>
          <a:off x="457200" y="1600200"/>
          <a:ext cx="4038480" cy="4524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00200"/>
                    <a:ext cx="4038480" cy="452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2" name=""/>
          <p:cNvSpPr/>
          <p:nvPr/>
        </p:nvSpPr>
        <p:spPr>
          <a:xfrm>
            <a:off x="4619520" y="2333520"/>
            <a:ext cx="266760" cy="954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619520" y="4076640"/>
            <a:ext cx="266760" cy="954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619520" y="5191200"/>
            <a:ext cx="266760" cy="950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619520" y="5762520"/>
            <a:ext cx="266760" cy="9540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819000" y="5551560"/>
            <a:ext cx="33242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Tall Green (1.X)  = Good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Tall Red (2.X - 5.X) = B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Elimination of AGP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Would eliminate tasting as we know it entirely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High Technical Impac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High Financial Impac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High User Impac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Penalizes ALL Registrars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200880" indent="-200880">
              <a:lnSpc>
                <a:spcPct val="80000"/>
              </a:lnSpc>
              <a:spcBef>
                <a:spcPts val="300"/>
              </a:spcBef>
              <a:buClr>
                <a:srgbClr val="6600ff"/>
              </a:buClr>
              <a:buSzPct val="85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aramond"/>
              </a:rPr>
              <a:t>Addressing Issue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lvl="1" marL="502920" indent="-167760">
              <a:lnSpc>
                <a:spcPct val="80000"/>
              </a:lnSpc>
              <a:spcBef>
                <a:spcPts val="300"/>
              </a:spcBef>
              <a:buClr>
                <a:srgbClr val="333399"/>
              </a:buClr>
              <a:buSzPct val="85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Domain "Kiting" (Serial Re-Tasting)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lvl="1" marL="502920" indent="-167760">
              <a:lnSpc>
                <a:spcPct val="80000"/>
              </a:lnSpc>
              <a:spcBef>
                <a:spcPts val="300"/>
              </a:spcBef>
              <a:buClr>
                <a:srgbClr val="333399"/>
              </a:buClr>
              <a:buSzPct val="85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Domain Tasting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marL="200880" indent="-200880">
              <a:lnSpc>
                <a:spcPct val="80000"/>
              </a:lnSpc>
              <a:spcBef>
                <a:spcPts val="300"/>
              </a:spcBef>
              <a:buClr>
                <a:srgbClr val="6600ff"/>
              </a:buClr>
              <a:buSzPct val="85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aramond"/>
              </a:rPr>
              <a:t>Business Impact (some)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lvl="1" marL="502920" indent="-167760">
              <a:lnSpc>
                <a:spcPct val="80000"/>
              </a:lnSpc>
              <a:spcBef>
                <a:spcPts val="300"/>
              </a:spcBef>
              <a:buClr>
                <a:srgbClr val="333399"/>
              </a:buClr>
              <a:buSzPct val="85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Correcting typographical errors made by the registrant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lvl="1" marL="502920" indent="-167760">
              <a:lnSpc>
                <a:spcPct val="80000"/>
              </a:lnSpc>
              <a:spcBef>
                <a:spcPts val="300"/>
              </a:spcBef>
              <a:buClr>
                <a:srgbClr val="333399"/>
              </a:buClr>
              <a:buSzPct val="85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Using a cart “hold” system to provide access to names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lvl="1" marL="502920" indent="-167760">
              <a:lnSpc>
                <a:spcPct val="80000"/>
              </a:lnSpc>
              <a:spcBef>
                <a:spcPts val="300"/>
              </a:spcBef>
              <a:buClr>
                <a:srgbClr val="333399"/>
              </a:buClr>
              <a:buSzPct val="85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Mitigating fraud impacts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lvl="1" marL="502920" indent="-167760">
              <a:lnSpc>
                <a:spcPct val="80000"/>
              </a:lnSpc>
              <a:spcBef>
                <a:spcPts val="300"/>
              </a:spcBef>
              <a:buClr>
                <a:srgbClr val="333399"/>
              </a:buClr>
              <a:buSzPct val="85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Proactively monitoring the security and stability of their provisioning systems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lvl="1" marL="502920" indent="-167760">
              <a:lnSpc>
                <a:spcPct val="80000"/>
              </a:lnSpc>
              <a:spcBef>
                <a:spcPts val="300"/>
              </a:spcBef>
              <a:buClr>
                <a:srgbClr val="333399"/>
              </a:buClr>
              <a:buSzPct val="85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Addressing situations of Buyer’s Remorse on behalf of the registrant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lvl="1" marL="502920" indent="-167760">
              <a:lnSpc>
                <a:spcPct val="80000"/>
              </a:lnSpc>
              <a:spcBef>
                <a:spcPts val="300"/>
              </a:spcBef>
              <a:buClr>
                <a:srgbClr val="333399"/>
              </a:buClr>
              <a:buSzPct val="85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Development Testing of real-time production system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lvl="1" marL="502920" indent="-167760">
              <a:lnSpc>
                <a:spcPct val="80000"/>
              </a:lnSpc>
              <a:spcBef>
                <a:spcPts val="300"/>
              </a:spcBef>
              <a:buClr>
                <a:srgbClr val="333399"/>
              </a:buClr>
              <a:buSzPct val="85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Merchant Gateway Testing and Development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marL="200880" indent="-200880">
              <a:lnSpc>
                <a:spcPct val="80000"/>
              </a:lnSpc>
              <a:spcBef>
                <a:spcPts val="300"/>
              </a:spcBef>
              <a:buClr>
                <a:srgbClr val="6600ff"/>
              </a:buClr>
              <a:buSzPct val="85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Garamond"/>
              </a:rPr>
              <a:t>Technical Impacts (some)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lvl="1" marL="502920" indent="-167760">
              <a:lnSpc>
                <a:spcPct val="80000"/>
              </a:lnSpc>
              <a:spcBef>
                <a:spcPts val="300"/>
              </a:spcBef>
              <a:buClr>
                <a:srgbClr val="333399"/>
              </a:buClr>
              <a:buSzPct val="85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Re-engineering work at provisioning layer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lvl="1" marL="502920" indent="-167760">
              <a:lnSpc>
                <a:spcPct val="80000"/>
              </a:lnSpc>
              <a:spcBef>
                <a:spcPts val="300"/>
              </a:spcBef>
              <a:buClr>
                <a:srgbClr val="333399"/>
              </a:buClr>
              <a:buSzPct val="85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Re-enginerring work of cart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lvl="1" marL="502920" indent="-167760">
              <a:lnSpc>
                <a:spcPct val="80000"/>
              </a:lnSpc>
              <a:spcBef>
                <a:spcPts val="300"/>
              </a:spcBef>
              <a:buClr>
                <a:srgbClr val="333399"/>
              </a:buClr>
              <a:buSzPct val="85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Re-engineering work of registrant domain management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lvl="1" marL="502920" indent="-167760">
              <a:lnSpc>
                <a:spcPct val="80000"/>
              </a:lnSpc>
              <a:spcBef>
                <a:spcPts val="300"/>
              </a:spcBef>
              <a:buClr>
                <a:srgbClr val="333399"/>
              </a:buClr>
              <a:buSzPct val="85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Re-engineering work in customer service tools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lvl="1" marL="502920" indent="-167760">
              <a:lnSpc>
                <a:spcPct val="80000"/>
              </a:lnSpc>
              <a:spcBef>
                <a:spcPts val="300"/>
              </a:spcBef>
              <a:buClr>
                <a:srgbClr val="333399"/>
              </a:buClr>
              <a:buSzPct val="85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Re-engineering work in accounting / reporting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marL="200880" indent="-200880">
              <a:lnSpc>
                <a:spcPct val="80000"/>
              </a:lnSpc>
              <a:spcBef>
                <a:spcPts val="300"/>
              </a:spcBef>
              <a:buClr>
                <a:srgbClr val="6600ff"/>
              </a:buClr>
              <a:buSzPct val="85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aramond"/>
              </a:rPr>
              <a:t>Financial Impacts (some)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lvl="1" marL="502920" indent="-167760">
              <a:lnSpc>
                <a:spcPct val="80000"/>
              </a:lnSpc>
              <a:spcBef>
                <a:spcPts val="300"/>
              </a:spcBef>
              <a:buClr>
                <a:srgbClr val="333399"/>
              </a:buClr>
              <a:buSzPct val="85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Accounting / Finance Process Changes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lvl="1" marL="502920" indent="-167760">
              <a:lnSpc>
                <a:spcPct val="80000"/>
              </a:lnSpc>
              <a:spcBef>
                <a:spcPts val="300"/>
              </a:spcBef>
              <a:buClr>
                <a:srgbClr val="333399"/>
              </a:buClr>
              <a:buSzPct val="85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Introduction of Costs to Registrars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marL="200880" indent="-200880">
              <a:lnSpc>
                <a:spcPct val="80000"/>
              </a:lnSpc>
              <a:spcBef>
                <a:spcPts val="300"/>
              </a:spcBef>
              <a:buClr>
                <a:srgbClr val="6600ff"/>
              </a:buClr>
              <a:buSzPct val="85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aramond"/>
              </a:rPr>
              <a:t>User Experience Impacts (some)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lvl="1" marL="502920" indent="-167760">
              <a:lnSpc>
                <a:spcPct val="80000"/>
              </a:lnSpc>
              <a:spcBef>
                <a:spcPts val="300"/>
              </a:spcBef>
              <a:buClr>
                <a:srgbClr val="333399"/>
              </a:buClr>
              <a:buSzPct val="85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Service Activation Expectation Degrades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lvl="1" marL="502920" indent="-167760">
              <a:lnSpc>
                <a:spcPct val="80000"/>
              </a:lnSpc>
              <a:spcBef>
                <a:spcPts val="300"/>
              </a:spcBef>
              <a:buClr>
                <a:srgbClr val="333399"/>
              </a:buClr>
              <a:buSzPct val="85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Higher Costs Passed Through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0" name=""/>
          <p:cNvSpPr/>
          <p:nvPr/>
        </p:nvSpPr>
        <p:spPr>
          <a:xfrm>
            <a:off x="4619520" y="1800360"/>
            <a:ext cx="266760" cy="950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Delayed Activation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302" name=""/>
          <p:cNvGraphicFramePr/>
          <p:nvPr/>
        </p:nvGraphicFramePr>
        <p:xfrm>
          <a:off x="457200" y="1600200"/>
          <a:ext cx="4038480" cy="4524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00200"/>
                    <a:ext cx="4038480" cy="452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4" name=""/>
          <p:cNvSpPr/>
          <p:nvPr/>
        </p:nvSpPr>
        <p:spPr>
          <a:xfrm>
            <a:off x="4619520" y="2333520"/>
            <a:ext cx="266760" cy="954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619520" y="4076640"/>
            <a:ext cx="266760" cy="954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619520" y="5191200"/>
            <a:ext cx="266760" cy="950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619520" y="5762520"/>
            <a:ext cx="266760" cy="9540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819000" y="5551560"/>
            <a:ext cx="33242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Tall Green (1.X)  = Good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Tall Red (2.X - 5.X) = B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Educational Intent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e purpose of this presentation is to educate the constituency on the various proposals to address domain tasting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Ultimately the RC should make our own recommendation and statement of position on the matter of AGP that addresses Domain Tasting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Delayed Activation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Would eliminate AGP use for tasting and preserve AGP refund aspec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High Technical Impac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Might introduce ‘commit’ EPP command or other facility requiring engineering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High User Impac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Instant activation services / add-ons 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Penalizes ALL Registrars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200880" indent="-200880">
              <a:lnSpc>
                <a:spcPct val="80000"/>
              </a:lnSpc>
              <a:spcBef>
                <a:spcPts val="300"/>
              </a:spcBef>
              <a:buClr>
                <a:srgbClr val="6600ff"/>
              </a:buClr>
              <a:buSzPct val="85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aramond"/>
              </a:rPr>
              <a:t>Addressing Issue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lvl="1" marL="502920" indent="-167760">
              <a:lnSpc>
                <a:spcPct val="80000"/>
              </a:lnSpc>
              <a:spcBef>
                <a:spcPts val="300"/>
              </a:spcBef>
              <a:buClr>
                <a:srgbClr val="333399"/>
              </a:buClr>
              <a:buSzPct val="85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Domain "Kiting" (Serial Re-Tasting)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lvl="1" marL="502920" indent="-167760">
              <a:lnSpc>
                <a:spcPct val="80000"/>
              </a:lnSpc>
              <a:spcBef>
                <a:spcPts val="300"/>
              </a:spcBef>
              <a:buClr>
                <a:srgbClr val="333399"/>
              </a:buClr>
              <a:buSzPct val="85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Domain Tasting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marL="200880" indent="-200880">
              <a:lnSpc>
                <a:spcPct val="80000"/>
              </a:lnSpc>
              <a:spcBef>
                <a:spcPts val="300"/>
              </a:spcBef>
              <a:buClr>
                <a:srgbClr val="6600ff"/>
              </a:buClr>
              <a:buSzPct val="85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aramond"/>
              </a:rPr>
              <a:t>Business Impact (some)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lvl="1" marL="502920" indent="-167760">
              <a:lnSpc>
                <a:spcPct val="80000"/>
              </a:lnSpc>
              <a:spcBef>
                <a:spcPts val="300"/>
              </a:spcBef>
              <a:buClr>
                <a:srgbClr val="333399"/>
              </a:buClr>
              <a:buSzPct val="85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Correcting typographical errors made by the registrant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lvl="1" marL="502920" indent="-167760">
              <a:lnSpc>
                <a:spcPct val="80000"/>
              </a:lnSpc>
              <a:spcBef>
                <a:spcPts val="300"/>
              </a:spcBef>
              <a:buClr>
                <a:srgbClr val="333399"/>
              </a:buClr>
              <a:buSzPct val="85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Using a cart “hold” system to provide access to names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lvl="1" marL="502920" indent="-167760">
              <a:lnSpc>
                <a:spcPct val="80000"/>
              </a:lnSpc>
              <a:spcBef>
                <a:spcPts val="300"/>
              </a:spcBef>
              <a:buClr>
                <a:srgbClr val="333399"/>
              </a:buClr>
              <a:buSzPct val="85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Mitigating fraud impacts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lvl="1" marL="502920" indent="-167760">
              <a:lnSpc>
                <a:spcPct val="80000"/>
              </a:lnSpc>
              <a:spcBef>
                <a:spcPts val="300"/>
              </a:spcBef>
              <a:buClr>
                <a:srgbClr val="333399"/>
              </a:buClr>
              <a:buSzPct val="85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Proactively monitoring the security and stability of their provisioning systems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lvl="1" marL="502920" indent="-167760">
              <a:lnSpc>
                <a:spcPct val="80000"/>
              </a:lnSpc>
              <a:spcBef>
                <a:spcPts val="300"/>
              </a:spcBef>
              <a:buClr>
                <a:srgbClr val="333399"/>
              </a:buClr>
              <a:buSzPct val="85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Addressing situations of Buyer’s Remorse on behalf of the registrant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lvl="1" marL="502920" indent="-167760">
              <a:lnSpc>
                <a:spcPct val="80000"/>
              </a:lnSpc>
              <a:spcBef>
                <a:spcPts val="300"/>
              </a:spcBef>
              <a:buClr>
                <a:srgbClr val="333399"/>
              </a:buClr>
              <a:buSzPct val="85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Development Testing of real-time production system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lvl="1" marL="502920" indent="-167760">
              <a:lnSpc>
                <a:spcPct val="80000"/>
              </a:lnSpc>
              <a:spcBef>
                <a:spcPts val="300"/>
              </a:spcBef>
              <a:buClr>
                <a:srgbClr val="333399"/>
              </a:buClr>
              <a:buSzPct val="85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Merchant Gateway Testing and Development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marL="200880" indent="-200880">
              <a:lnSpc>
                <a:spcPct val="80000"/>
              </a:lnSpc>
              <a:spcBef>
                <a:spcPts val="300"/>
              </a:spcBef>
              <a:buClr>
                <a:srgbClr val="6600ff"/>
              </a:buClr>
              <a:buSzPct val="85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Garamond"/>
              </a:rPr>
              <a:t>Technical Impacts (some)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lvl="1" marL="502920" indent="-167760">
              <a:lnSpc>
                <a:spcPct val="80000"/>
              </a:lnSpc>
              <a:spcBef>
                <a:spcPts val="300"/>
              </a:spcBef>
              <a:buClr>
                <a:srgbClr val="333399"/>
              </a:buClr>
              <a:buSzPct val="85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Re-engineering work at provisioning layer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lvl="1" marL="502920" indent="-167760">
              <a:lnSpc>
                <a:spcPct val="80000"/>
              </a:lnSpc>
              <a:spcBef>
                <a:spcPts val="300"/>
              </a:spcBef>
              <a:buClr>
                <a:srgbClr val="333399"/>
              </a:buClr>
              <a:buSzPct val="85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Re-enginerring work of cart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lvl="1" marL="502920" indent="-167760">
              <a:lnSpc>
                <a:spcPct val="80000"/>
              </a:lnSpc>
              <a:spcBef>
                <a:spcPts val="300"/>
              </a:spcBef>
              <a:buClr>
                <a:srgbClr val="333399"/>
              </a:buClr>
              <a:buSzPct val="85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Re-engineering work of registrant domain management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lvl="1" marL="502920" indent="-167760">
              <a:lnSpc>
                <a:spcPct val="80000"/>
              </a:lnSpc>
              <a:spcBef>
                <a:spcPts val="300"/>
              </a:spcBef>
              <a:buClr>
                <a:srgbClr val="333399"/>
              </a:buClr>
              <a:buSzPct val="85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Re-engineering work in customer service tools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lvl="1" marL="502920" indent="-167760">
              <a:lnSpc>
                <a:spcPct val="80000"/>
              </a:lnSpc>
              <a:spcBef>
                <a:spcPts val="300"/>
              </a:spcBef>
              <a:buClr>
                <a:srgbClr val="333399"/>
              </a:buClr>
              <a:buSzPct val="85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Re-engineering work in accounting / reporting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marL="200880" indent="-200880">
              <a:lnSpc>
                <a:spcPct val="80000"/>
              </a:lnSpc>
              <a:spcBef>
                <a:spcPts val="300"/>
              </a:spcBef>
              <a:buClr>
                <a:srgbClr val="6600ff"/>
              </a:buClr>
              <a:buSzPct val="85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aramond"/>
              </a:rPr>
              <a:t>Financial Impacts (some)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lvl="1" marL="502920" indent="-167760">
              <a:lnSpc>
                <a:spcPct val="80000"/>
              </a:lnSpc>
              <a:spcBef>
                <a:spcPts val="300"/>
              </a:spcBef>
              <a:buClr>
                <a:srgbClr val="333399"/>
              </a:buClr>
              <a:buSzPct val="85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Accounting / Finance Process Changes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lvl="1" marL="502920" indent="-167760">
              <a:lnSpc>
                <a:spcPct val="80000"/>
              </a:lnSpc>
              <a:spcBef>
                <a:spcPts val="300"/>
              </a:spcBef>
              <a:buClr>
                <a:srgbClr val="333399"/>
              </a:buClr>
              <a:buSzPct val="85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Introduction of Costs to Registrars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marL="200880" indent="-200880">
              <a:lnSpc>
                <a:spcPct val="80000"/>
              </a:lnSpc>
              <a:spcBef>
                <a:spcPts val="300"/>
              </a:spcBef>
              <a:buClr>
                <a:srgbClr val="6600ff"/>
              </a:buClr>
              <a:buSzPct val="85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aramond"/>
              </a:rPr>
              <a:t>User Experience Impacts (some)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lvl="1" marL="502920" indent="-167760">
              <a:lnSpc>
                <a:spcPct val="80000"/>
              </a:lnSpc>
              <a:spcBef>
                <a:spcPts val="300"/>
              </a:spcBef>
              <a:buClr>
                <a:srgbClr val="333399"/>
              </a:buClr>
              <a:buSzPct val="85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Service Activation Expectation Degrades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lvl="1" marL="502920" indent="-167760">
              <a:lnSpc>
                <a:spcPct val="80000"/>
              </a:lnSpc>
              <a:spcBef>
                <a:spcPts val="300"/>
              </a:spcBef>
              <a:buClr>
                <a:srgbClr val="333399"/>
              </a:buClr>
              <a:buSzPct val="85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Higher Costs Passed Through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2" name=""/>
          <p:cNvSpPr/>
          <p:nvPr/>
        </p:nvSpPr>
        <p:spPr>
          <a:xfrm>
            <a:off x="4619520" y="1800360"/>
            <a:ext cx="266760" cy="950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Non-Refundable ICANN Fee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314" name=""/>
          <p:cNvGraphicFramePr/>
          <p:nvPr/>
        </p:nvGraphicFramePr>
        <p:xfrm>
          <a:off x="457200" y="1600200"/>
          <a:ext cx="4038480" cy="4524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00200"/>
                    <a:ext cx="4038480" cy="452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6" name=""/>
          <p:cNvSpPr/>
          <p:nvPr/>
        </p:nvSpPr>
        <p:spPr>
          <a:xfrm>
            <a:off x="4619520" y="2333520"/>
            <a:ext cx="266760" cy="954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4619520" y="4076640"/>
            <a:ext cx="266760" cy="954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619520" y="5191200"/>
            <a:ext cx="266760" cy="950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4619520" y="5762520"/>
            <a:ext cx="266760" cy="9540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819000" y="5551560"/>
            <a:ext cx="33242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Tall Green (1.X)  = Good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Tall Red (2.X - 5.X) = B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Non-Refundable ICANN Fee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Would make Tasting less financially attractive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Preserves AGP and Benefits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Financial impact introduced to remedy issu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(but substantially less than full annual unit price)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No Technical Impact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Other than internal finance reports / proces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Limited User Impact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Price impacts might flow through to consumer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Penalizes ALL Registrars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200880" indent="-200880">
              <a:lnSpc>
                <a:spcPct val="80000"/>
              </a:lnSpc>
              <a:spcBef>
                <a:spcPts val="300"/>
              </a:spcBef>
              <a:buClr>
                <a:srgbClr val="6600ff"/>
              </a:buClr>
              <a:buSzPct val="85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aramond"/>
              </a:rPr>
              <a:t>Addressing Issue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lvl="1" marL="502920" indent="-167760">
              <a:lnSpc>
                <a:spcPct val="80000"/>
              </a:lnSpc>
              <a:spcBef>
                <a:spcPts val="300"/>
              </a:spcBef>
              <a:buClr>
                <a:srgbClr val="333399"/>
              </a:buClr>
              <a:buSzPct val="85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Domain "Kiting" (Serial Re-Tasting)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lvl="1" marL="502920" indent="-167760">
              <a:lnSpc>
                <a:spcPct val="80000"/>
              </a:lnSpc>
              <a:spcBef>
                <a:spcPts val="300"/>
              </a:spcBef>
              <a:buClr>
                <a:srgbClr val="333399"/>
              </a:buClr>
              <a:buSzPct val="85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Domain Tasting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marL="200880" indent="-200880">
              <a:lnSpc>
                <a:spcPct val="80000"/>
              </a:lnSpc>
              <a:spcBef>
                <a:spcPts val="300"/>
              </a:spcBef>
              <a:buClr>
                <a:srgbClr val="6600ff"/>
              </a:buClr>
              <a:buSzPct val="85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aramond"/>
              </a:rPr>
              <a:t>Business Impact (some)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lvl="1" marL="502920" indent="-167760">
              <a:lnSpc>
                <a:spcPct val="80000"/>
              </a:lnSpc>
              <a:spcBef>
                <a:spcPts val="300"/>
              </a:spcBef>
              <a:buClr>
                <a:srgbClr val="333399"/>
              </a:buClr>
              <a:buSzPct val="85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Correcting typographical errors made by the registrant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lvl="1" marL="502920" indent="-167760">
              <a:lnSpc>
                <a:spcPct val="80000"/>
              </a:lnSpc>
              <a:spcBef>
                <a:spcPts val="300"/>
              </a:spcBef>
              <a:buClr>
                <a:srgbClr val="333399"/>
              </a:buClr>
              <a:buSzPct val="85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Using a cart “hold” system to provide access to names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lvl="1" marL="502920" indent="-167760">
              <a:lnSpc>
                <a:spcPct val="80000"/>
              </a:lnSpc>
              <a:spcBef>
                <a:spcPts val="300"/>
              </a:spcBef>
              <a:buClr>
                <a:srgbClr val="333399"/>
              </a:buClr>
              <a:buSzPct val="85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Mitigating fraud impacts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lvl="1" marL="502920" indent="-167760">
              <a:lnSpc>
                <a:spcPct val="80000"/>
              </a:lnSpc>
              <a:spcBef>
                <a:spcPts val="300"/>
              </a:spcBef>
              <a:buClr>
                <a:srgbClr val="333399"/>
              </a:buClr>
              <a:buSzPct val="85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Proactively monitoring the security and stability of their provisioning systems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lvl="1" marL="502920" indent="-167760">
              <a:lnSpc>
                <a:spcPct val="80000"/>
              </a:lnSpc>
              <a:spcBef>
                <a:spcPts val="300"/>
              </a:spcBef>
              <a:buClr>
                <a:srgbClr val="333399"/>
              </a:buClr>
              <a:buSzPct val="85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Addressing situations of Buyer’s Remorse on behalf of the registrant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lvl="1" marL="502920" indent="-167760">
              <a:lnSpc>
                <a:spcPct val="80000"/>
              </a:lnSpc>
              <a:spcBef>
                <a:spcPts val="300"/>
              </a:spcBef>
              <a:buClr>
                <a:srgbClr val="333399"/>
              </a:buClr>
              <a:buSzPct val="85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Development Testing of real-time production system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lvl="1" marL="502920" indent="-167760">
              <a:lnSpc>
                <a:spcPct val="80000"/>
              </a:lnSpc>
              <a:spcBef>
                <a:spcPts val="300"/>
              </a:spcBef>
              <a:buClr>
                <a:srgbClr val="333399"/>
              </a:buClr>
              <a:buSzPct val="85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Merchant Gateway Testing and Development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marL="200880" indent="-200880">
              <a:lnSpc>
                <a:spcPct val="80000"/>
              </a:lnSpc>
              <a:spcBef>
                <a:spcPts val="300"/>
              </a:spcBef>
              <a:buClr>
                <a:srgbClr val="6600ff"/>
              </a:buClr>
              <a:buSzPct val="85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Garamond"/>
              </a:rPr>
              <a:t>Technical Impacts (some)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lvl="1" marL="502920" indent="-167760">
              <a:lnSpc>
                <a:spcPct val="80000"/>
              </a:lnSpc>
              <a:spcBef>
                <a:spcPts val="300"/>
              </a:spcBef>
              <a:buClr>
                <a:srgbClr val="333399"/>
              </a:buClr>
              <a:buSzPct val="85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Re-engineering work at provisioning layer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lvl="1" marL="502920" indent="-167760">
              <a:lnSpc>
                <a:spcPct val="80000"/>
              </a:lnSpc>
              <a:spcBef>
                <a:spcPts val="300"/>
              </a:spcBef>
              <a:buClr>
                <a:srgbClr val="333399"/>
              </a:buClr>
              <a:buSzPct val="85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Re-enginerring work of cart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lvl="1" marL="502920" indent="-167760">
              <a:lnSpc>
                <a:spcPct val="80000"/>
              </a:lnSpc>
              <a:spcBef>
                <a:spcPts val="300"/>
              </a:spcBef>
              <a:buClr>
                <a:srgbClr val="333399"/>
              </a:buClr>
              <a:buSzPct val="85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Re-engineering work of registrant domain management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lvl="1" marL="502920" indent="-167760">
              <a:lnSpc>
                <a:spcPct val="80000"/>
              </a:lnSpc>
              <a:spcBef>
                <a:spcPts val="300"/>
              </a:spcBef>
              <a:buClr>
                <a:srgbClr val="333399"/>
              </a:buClr>
              <a:buSzPct val="85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Re-engineering work in customer service tools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lvl="1" marL="502920" indent="-167760">
              <a:lnSpc>
                <a:spcPct val="80000"/>
              </a:lnSpc>
              <a:spcBef>
                <a:spcPts val="300"/>
              </a:spcBef>
              <a:buClr>
                <a:srgbClr val="333399"/>
              </a:buClr>
              <a:buSzPct val="85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Re-engineering work in accounting / reporting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marL="200880" indent="-200880">
              <a:lnSpc>
                <a:spcPct val="80000"/>
              </a:lnSpc>
              <a:spcBef>
                <a:spcPts val="300"/>
              </a:spcBef>
              <a:buClr>
                <a:srgbClr val="6600ff"/>
              </a:buClr>
              <a:buSzPct val="85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aramond"/>
              </a:rPr>
              <a:t>Financial Impacts (some)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lvl="1" marL="502920" indent="-167760">
              <a:lnSpc>
                <a:spcPct val="80000"/>
              </a:lnSpc>
              <a:spcBef>
                <a:spcPts val="300"/>
              </a:spcBef>
              <a:buClr>
                <a:srgbClr val="333399"/>
              </a:buClr>
              <a:buSzPct val="85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Accounting / Finance Process Changes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lvl="1" marL="502920" indent="-167760">
              <a:lnSpc>
                <a:spcPct val="80000"/>
              </a:lnSpc>
              <a:spcBef>
                <a:spcPts val="300"/>
              </a:spcBef>
              <a:buClr>
                <a:srgbClr val="333399"/>
              </a:buClr>
              <a:buSzPct val="85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Introduction of Costs to Registrars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marL="200880" indent="-200880">
              <a:lnSpc>
                <a:spcPct val="80000"/>
              </a:lnSpc>
              <a:spcBef>
                <a:spcPts val="300"/>
              </a:spcBef>
              <a:buClr>
                <a:srgbClr val="6600ff"/>
              </a:buClr>
              <a:buSzPct val="85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aramond"/>
              </a:rPr>
              <a:t>User Experience Impacts (some)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lvl="1" marL="502920" indent="-167760">
              <a:lnSpc>
                <a:spcPct val="80000"/>
              </a:lnSpc>
              <a:spcBef>
                <a:spcPts val="300"/>
              </a:spcBef>
              <a:buClr>
                <a:srgbClr val="333399"/>
              </a:buClr>
              <a:buSzPct val="85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Service Activation Expectation Degrades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lvl="1" marL="502920" indent="-167760">
              <a:lnSpc>
                <a:spcPct val="80000"/>
              </a:lnSpc>
              <a:spcBef>
                <a:spcPts val="300"/>
              </a:spcBef>
              <a:buClr>
                <a:srgbClr val="333399"/>
              </a:buClr>
              <a:buSzPct val="85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Higher Costs Passed Through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4" name=""/>
          <p:cNvSpPr/>
          <p:nvPr/>
        </p:nvSpPr>
        <p:spPr>
          <a:xfrm>
            <a:off x="4619520" y="1800360"/>
            <a:ext cx="266760" cy="950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Threshold Restocking Fee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326" name=""/>
          <p:cNvGraphicFramePr/>
          <p:nvPr/>
        </p:nvGraphicFramePr>
        <p:xfrm>
          <a:off x="457200" y="1600200"/>
          <a:ext cx="4038480" cy="4524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00200"/>
                    <a:ext cx="4038480" cy="452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8" name=""/>
          <p:cNvSpPr/>
          <p:nvPr/>
        </p:nvSpPr>
        <p:spPr>
          <a:xfrm>
            <a:off x="4619520" y="2333520"/>
            <a:ext cx="266760" cy="954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4619520" y="4076640"/>
            <a:ext cx="266760" cy="954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4619520" y="5191200"/>
            <a:ext cx="266760" cy="950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619520" y="5762520"/>
            <a:ext cx="266760" cy="9540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819000" y="5551560"/>
            <a:ext cx="33242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Tall Green (1.X)  = Good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Tall Red (2.X - 5.X) = B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Threshold Restocking Fee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Would make Tasting less financially attractive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PIR Empirical experience illustrates this worked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Preserves AGP and Benefit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Financial impact introduced to remedy issue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(but substantially less than full annual unit price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No Technical Impact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Other than internal finance reports / process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Limited User Impact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Price impacts might flow through to consumer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Rapid implementation for all parties concerned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PIR example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Penalizes only registrars who meet or exceed threshold standard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Does not penalize registrars who are not engaged in tastin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Market Factors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Did October’s GTLD price increases diminish attraction of tasting?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uggest review of the numbers from registry report for November 2007 prior to any proposal of solution from council to avoid double ouch to registrars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200880" indent="-200880">
              <a:lnSpc>
                <a:spcPct val="80000"/>
              </a:lnSpc>
              <a:spcBef>
                <a:spcPts val="300"/>
              </a:spcBef>
              <a:buClr>
                <a:srgbClr val="6600ff"/>
              </a:buClr>
              <a:buSzPct val="85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aramond"/>
              </a:rPr>
              <a:t>Addressing Issue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lvl="1" marL="502920" indent="-167760">
              <a:lnSpc>
                <a:spcPct val="80000"/>
              </a:lnSpc>
              <a:spcBef>
                <a:spcPts val="300"/>
              </a:spcBef>
              <a:buClr>
                <a:srgbClr val="333399"/>
              </a:buClr>
              <a:buSzPct val="85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Domain "Kiting" (Serial Re-Tasting)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lvl="1" marL="502920" indent="-167760">
              <a:lnSpc>
                <a:spcPct val="80000"/>
              </a:lnSpc>
              <a:spcBef>
                <a:spcPts val="300"/>
              </a:spcBef>
              <a:buClr>
                <a:srgbClr val="333399"/>
              </a:buClr>
              <a:buSzPct val="85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Domain Tasting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marL="200880" indent="-200880">
              <a:lnSpc>
                <a:spcPct val="80000"/>
              </a:lnSpc>
              <a:spcBef>
                <a:spcPts val="300"/>
              </a:spcBef>
              <a:buClr>
                <a:srgbClr val="6600ff"/>
              </a:buClr>
              <a:buSzPct val="85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aramond"/>
              </a:rPr>
              <a:t>Business Impact (some)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lvl="1" marL="502920" indent="-167760">
              <a:lnSpc>
                <a:spcPct val="80000"/>
              </a:lnSpc>
              <a:spcBef>
                <a:spcPts val="300"/>
              </a:spcBef>
              <a:buClr>
                <a:srgbClr val="333399"/>
              </a:buClr>
              <a:buSzPct val="85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Correcting typographical errors made by the registrant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lvl="1" marL="502920" indent="-167760">
              <a:lnSpc>
                <a:spcPct val="80000"/>
              </a:lnSpc>
              <a:spcBef>
                <a:spcPts val="300"/>
              </a:spcBef>
              <a:buClr>
                <a:srgbClr val="333399"/>
              </a:buClr>
              <a:buSzPct val="85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Using a cart “hold” system to provide access to names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lvl="1" marL="502920" indent="-167760">
              <a:lnSpc>
                <a:spcPct val="80000"/>
              </a:lnSpc>
              <a:spcBef>
                <a:spcPts val="300"/>
              </a:spcBef>
              <a:buClr>
                <a:srgbClr val="333399"/>
              </a:buClr>
              <a:buSzPct val="85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Mitigating fraud impacts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lvl="1" marL="502920" indent="-167760">
              <a:lnSpc>
                <a:spcPct val="80000"/>
              </a:lnSpc>
              <a:spcBef>
                <a:spcPts val="300"/>
              </a:spcBef>
              <a:buClr>
                <a:srgbClr val="333399"/>
              </a:buClr>
              <a:buSzPct val="85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Proactively monitoring the security and stability of their provisioning systems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lvl="1" marL="502920" indent="-167760">
              <a:lnSpc>
                <a:spcPct val="80000"/>
              </a:lnSpc>
              <a:spcBef>
                <a:spcPts val="300"/>
              </a:spcBef>
              <a:buClr>
                <a:srgbClr val="333399"/>
              </a:buClr>
              <a:buSzPct val="85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Addressing situations of Buyer’s Remorse on behalf of the registrant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lvl="1" marL="502920" indent="-167760">
              <a:lnSpc>
                <a:spcPct val="80000"/>
              </a:lnSpc>
              <a:spcBef>
                <a:spcPts val="300"/>
              </a:spcBef>
              <a:buClr>
                <a:srgbClr val="333399"/>
              </a:buClr>
              <a:buSzPct val="85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Development Testing of real-time production system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lvl="1" marL="502920" indent="-167760">
              <a:lnSpc>
                <a:spcPct val="80000"/>
              </a:lnSpc>
              <a:spcBef>
                <a:spcPts val="300"/>
              </a:spcBef>
              <a:buClr>
                <a:srgbClr val="333399"/>
              </a:buClr>
              <a:buSzPct val="85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Merchant Gateway Testing and Development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marL="200880" indent="-200880">
              <a:lnSpc>
                <a:spcPct val="80000"/>
              </a:lnSpc>
              <a:spcBef>
                <a:spcPts val="300"/>
              </a:spcBef>
              <a:buClr>
                <a:srgbClr val="6600ff"/>
              </a:buClr>
              <a:buSzPct val="85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Garamond"/>
              </a:rPr>
              <a:t>Technical Impacts (some)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lvl="1" marL="502920" indent="-167760">
              <a:lnSpc>
                <a:spcPct val="80000"/>
              </a:lnSpc>
              <a:spcBef>
                <a:spcPts val="300"/>
              </a:spcBef>
              <a:buClr>
                <a:srgbClr val="333399"/>
              </a:buClr>
              <a:buSzPct val="85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Re-engineering work at provisioning layer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lvl="1" marL="502920" indent="-167760">
              <a:lnSpc>
                <a:spcPct val="80000"/>
              </a:lnSpc>
              <a:spcBef>
                <a:spcPts val="300"/>
              </a:spcBef>
              <a:buClr>
                <a:srgbClr val="333399"/>
              </a:buClr>
              <a:buSzPct val="85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Re-enginerring work of cart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lvl="1" marL="502920" indent="-167760">
              <a:lnSpc>
                <a:spcPct val="80000"/>
              </a:lnSpc>
              <a:spcBef>
                <a:spcPts val="300"/>
              </a:spcBef>
              <a:buClr>
                <a:srgbClr val="333399"/>
              </a:buClr>
              <a:buSzPct val="85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Re-engineering work of registrant domain management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lvl="1" marL="502920" indent="-167760">
              <a:lnSpc>
                <a:spcPct val="80000"/>
              </a:lnSpc>
              <a:spcBef>
                <a:spcPts val="300"/>
              </a:spcBef>
              <a:buClr>
                <a:srgbClr val="333399"/>
              </a:buClr>
              <a:buSzPct val="85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Re-engineering work in customer service tools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lvl="1" marL="502920" indent="-167760">
              <a:lnSpc>
                <a:spcPct val="80000"/>
              </a:lnSpc>
              <a:spcBef>
                <a:spcPts val="300"/>
              </a:spcBef>
              <a:buClr>
                <a:srgbClr val="333399"/>
              </a:buClr>
              <a:buSzPct val="85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Re-engineering work in accounting / reporting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marL="200880" indent="-200880">
              <a:lnSpc>
                <a:spcPct val="80000"/>
              </a:lnSpc>
              <a:spcBef>
                <a:spcPts val="300"/>
              </a:spcBef>
              <a:buClr>
                <a:srgbClr val="6600ff"/>
              </a:buClr>
              <a:buSzPct val="85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aramond"/>
              </a:rPr>
              <a:t>Financial Impacts (some)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lvl="1" marL="502920" indent="-167760">
              <a:lnSpc>
                <a:spcPct val="80000"/>
              </a:lnSpc>
              <a:spcBef>
                <a:spcPts val="300"/>
              </a:spcBef>
              <a:buClr>
                <a:srgbClr val="333399"/>
              </a:buClr>
              <a:buSzPct val="85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Accounting / Finance Process Changes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lvl="1" marL="502920" indent="-167760">
              <a:lnSpc>
                <a:spcPct val="80000"/>
              </a:lnSpc>
              <a:spcBef>
                <a:spcPts val="300"/>
              </a:spcBef>
              <a:buClr>
                <a:srgbClr val="333399"/>
              </a:buClr>
              <a:buSzPct val="85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Introduction of Costs to Registrars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marL="200880" indent="-200880">
              <a:lnSpc>
                <a:spcPct val="80000"/>
              </a:lnSpc>
              <a:spcBef>
                <a:spcPts val="300"/>
              </a:spcBef>
              <a:buClr>
                <a:srgbClr val="6600ff"/>
              </a:buClr>
              <a:buSzPct val="85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aramond"/>
              </a:rPr>
              <a:t>User Experience Impacts (some)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lvl="1" marL="502920" indent="-167760">
              <a:lnSpc>
                <a:spcPct val="80000"/>
              </a:lnSpc>
              <a:spcBef>
                <a:spcPts val="300"/>
              </a:spcBef>
              <a:buClr>
                <a:srgbClr val="333399"/>
              </a:buClr>
              <a:buSzPct val="85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Service Activation Expectation Degrades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lvl="1" marL="502920" indent="-167760">
              <a:lnSpc>
                <a:spcPct val="80000"/>
              </a:lnSpc>
              <a:spcBef>
                <a:spcPts val="300"/>
              </a:spcBef>
              <a:buClr>
                <a:srgbClr val="333399"/>
              </a:buClr>
              <a:buSzPct val="85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Higher Costs Passed Through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8" name=""/>
          <p:cNvSpPr/>
          <p:nvPr/>
        </p:nvSpPr>
        <p:spPr>
          <a:xfrm>
            <a:off x="4619520" y="1800360"/>
            <a:ext cx="266760" cy="950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aramond"/>
              </a:rPr>
              <a:t>Status Quo : Factoring 7-10%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Garamond"/>
              </a:rPr>
              <a:t>Pricing Increases at Year 1+</a:t>
            </a:r>
            <a:endParaRPr b="1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457200" y="1600200"/>
          <a:ext cx="4038480" cy="4524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00200"/>
                    <a:ext cx="4038480" cy="452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2" name=""/>
          <p:cNvSpPr/>
          <p:nvPr/>
        </p:nvSpPr>
        <p:spPr>
          <a:xfrm>
            <a:off x="4619520" y="2333520"/>
            <a:ext cx="266760" cy="954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4619520" y="4076640"/>
            <a:ext cx="266760" cy="954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4619520" y="5191200"/>
            <a:ext cx="266760" cy="950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619520" y="5762520"/>
            <a:ext cx="266760" cy="9540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819000" y="5551560"/>
            <a:ext cx="33242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Tall Green (1.X)  = Good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Tall Red (2.X - 5.X) = B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Status Quo: Price Increases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Would make Tasting less financially attractive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01680" indent="-30168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Preserves AGP and Benefits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653760" indent="-251280">
              <a:spcBef>
                <a:spcPts val="700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Financial impact introduced to remedy issue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(but substantially less than full annual unit price)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01680" indent="-30168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No Technical Impac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653760" indent="-251280">
              <a:spcBef>
                <a:spcPts val="700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Other than internal finance reports / process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01680" indent="-30168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Limited User Impac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653760" indent="-251280">
              <a:spcBef>
                <a:spcPts val="700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Price impacts might flow through to consumer 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Next Steps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Ad-Hoc Domain Tasting Working Group (DTWG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RFI Surveys to general internet community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2" marL="1119960" indent="-223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aramond"/>
              </a:rPr>
              <a:t>General Public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lvl="2" marL="1119960" indent="-223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aramond"/>
              </a:rPr>
              <a:t>Intellectual Property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Mailing list discussions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Completed work 10/20/2007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Now in hands of GNSO Counci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Outstanding questions for the RC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What position does the RC want to take on this issue?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Does the RC want to take a strong position against the elimination of the AGP? 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Potential next steps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GNSO may initiate a PDP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Registries may initiate a funnel request (ie request for new registry service like .ORG restocking fee model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Thank you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Garamond"/>
              </a:rPr>
              <a:t>Questions?</a:t>
            </a:r>
            <a:endParaRPr b="0" lang="en-US" sz="7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Addressing “Domain Tasting”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Process under way intended to address two key areas: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22200" indent="-322200">
              <a:spcBef>
                <a:spcPts val="700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Domain Tasting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(From the RFI)</a:t>
            </a:r>
            <a:br>
              <a:rPr sz="2800"/>
            </a:br>
            <a:r>
              <a:rPr b="0" lang="en-US" sz="2000" spc="-1" strike="noStrike">
                <a:solidFill>
                  <a:srgbClr val="ff7c80"/>
                </a:solidFill>
                <a:latin typeface="Garamond"/>
              </a:rPr>
              <a:t>“Domain tasting is a monetization practice employed by registrants to use the add-grace period to register domain names in order to test their profitability. During this period, registrants conduct a cost-benefit analysis to determine if the tested domain names return enough traffic to offset the annual registration fee paid to the registry over the course of the registration period.”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22200" indent="-322200">
              <a:spcBef>
                <a:spcPts val="700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Domain “Kiting”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(serial re-tasting to perpetually avoid cost)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5832360" y="1371600"/>
            <a:ext cx="0" cy="4448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724880" y="1371600"/>
            <a:ext cx="0" cy="4448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066760" y="1371600"/>
            <a:ext cx="0" cy="4448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aramond"/>
              </a:rPr>
              <a:t>Lifecycle of a GTLD Domain Name</a:t>
            </a:r>
            <a:endParaRPr b="1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700200" y="2151000"/>
            <a:ext cx="7721640" cy="3129120"/>
            <a:chOff x="700200" y="2151000"/>
            <a:chExt cx="7721640" cy="312912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766800" y="4714920"/>
              <a:ext cx="7612200" cy="18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762120" y="5089680"/>
              <a:ext cx="7611840" cy="188640"/>
            </a:xfrm>
            <a:prstGeom prst="rect">
              <a:avLst/>
            </a:prstGeom>
            <a:solidFill>
              <a:srgbClr val="ff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66800" y="4903920"/>
              <a:ext cx="7612200" cy="187200"/>
            </a:xfrm>
            <a:prstGeom prst="rect">
              <a:avLst/>
            </a:prstGeom>
            <a:solidFill>
              <a:srgbClr val="e8e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62120" y="4713120"/>
              <a:ext cx="7611840" cy="189000"/>
            </a:xfrm>
            <a:prstGeom prst="rect">
              <a:avLst/>
            </a:prstGeom>
            <a:solidFill>
              <a:srgbClr val="eae2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62120" y="5089680"/>
              <a:ext cx="7611840" cy="188640"/>
            </a:xfrm>
            <a:prstGeom prst="rect">
              <a:avLst/>
            </a:prstGeom>
            <a:solidFill>
              <a:srgbClr val="ff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3" name="" descr=""/>
            <p:cNvPicPr/>
            <p:nvPr/>
          </p:nvPicPr>
          <p:blipFill>
            <a:blip r:embed="rId2"/>
            <a:stretch/>
          </p:blipFill>
          <p:spPr>
            <a:xfrm>
              <a:off x="766800" y="5091120"/>
              <a:ext cx="7612200" cy="18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787320" y="5121360"/>
              <a:ext cx="2518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Garamond"/>
                </a:rPr>
                <a:t>                                                 </a:t>
              </a:r>
              <a:r>
                <a:rPr b="1" lang="en-US" sz="800" spc="-1" strike="noStrike">
                  <a:solidFill>
                    <a:srgbClr val="000000"/>
                  </a:solidFill>
                  <a:latin typeface="Garamond"/>
                </a:rPr>
                <a:t>Domain Tasting Activity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176560" y="2928960"/>
              <a:ext cx="3098880" cy="608040"/>
            </a:xfrm>
            <a:custGeom>
              <a:avLst/>
              <a:gdLst/>
              <a:ahLst/>
              <a:rect l="l" t="t" r="r" b="b"/>
              <a:pathLst>
                <a:path w="6332" h="1242">
                  <a:moveTo>
                    <a:pt x="6332" y="1242"/>
                  </a:moveTo>
                  <a:lnTo>
                    <a:pt x="6332" y="96"/>
                  </a:lnTo>
                  <a:cubicBezTo>
                    <a:pt x="6332" y="43"/>
                    <a:pt x="6289" y="0"/>
                    <a:pt x="6236" y="0"/>
                  </a:cubicBezTo>
                  <a:lnTo>
                    <a:pt x="96" y="0"/>
                  </a:lnTo>
                  <a:cubicBezTo>
                    <a:pt x="43" y="0"/>
                    <a:pt x="0" y="43"/>
                    <a:pt x="0" y="96"/>
                  </a:cubicBezTo>
                  <a:lnTo>
                    <a:pt x="0" y="838"/>
                  </a:lnTo>
                </a:path>
              </a:pathLst>
            </a:custGeom>
            <a:noFill/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136600" y="3328920"/>
              <a:ext cx="78120" cy="117720"/>
            </a:xfrm>
            <a:custGeom>
              <a:avLst/>
              <a:gdLst/>
              <a:ahLst/>
              <a:rect l="l" t="t" r="r" b="b"/>
              <a:pathLst>
                <a:path w="49" h="74">
                  <a:moveTo>
                    <a:pt x="49" y="0"/>
                  </a:moveTo>
                  <a:lnTo>
                    <a:pt x="25" y="74"/>
                  </a:lnTo>
                  <a:lnTo>
                    <a:pt x="0" y="0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176560" y="2928960"/>
              <a:ext cx="1722240" cy="652320"/>
            </a:xfrm>
            <a:custGeom>
              <a:avLst/>
              <a:gdLst/>
              <a:ahLst/>
              <a:rect l="l" t="t" r="r" b="b"/>
              <a:pathLst>
                <a:path w="3520" h="1332">
                  <a:moveTo>
                    <a:pt x="3520" y="1332"/>
                  </a:moveTo>
                  <a:lnTo>
                    <a:pt x="3520" y="96"/>
                  </a:lnTo>
                  <a:cubicBezTo>
                    <a:pt x="3520" y="43"/>
                    <a:pt x="3477" y="0"/>
                    <a:pt x="3424" y="0"/>
                  </a:cubicBezTo>
                  <a:lnTo>
                    <a:pt x="96" y="0"/>
                  </a:lnTo>
                  <a:cubicBezTo>
                    <a:pt x="43" y="0"/>
                    <a:pt x="0" y="43"/>
                    <a:pt x="0" y="96"/>
                  </a:cubicBezTo>
                  <a:lnTo>
                    <a:pt x="0" y="838"/>
                  </a:lnTo>
                </a:path>
              </a:pathLst>
            </a:custGeom>
            <a:noFill/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136600" y="3328920"/>
              <a:ext cx="78120" cy="117720"/>
            </a:xfrm>
            <a:custGeom>
              <a:avLst/>
              <a:gdLst/>
              <a:ahLst/>
              <a:rect l="l" t="t" r="r" b="b"/>
              <a:pathLst>
                <a:path w="49" h="74">
                  <a:moveTo>
                    <a:pt x="49" y="0"/>
                  </a:moveTo>
                  <a:lnTo>
                    <a:pt x="25" y="74"/>
                  </a:lnTo>
                  <a:lnTo>
                    <a:pt x="0" y="0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749680" y="2720880"/>
              <a:ext cx="701640" cy="10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692440" y="2714760"/>
              <a:ext cx="7718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Garamond"/>
                </a:rPr>
                <a:t>Renewal possible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1" name="" descr=""/>
            <p:cNvPicPr/>
            <p:nvPr/>
          </p:nvPicPr>
          <p:blipFill>
            <a:blip r:embed="rId3"/>
            <a:stretch/>
          </p:blipFill>
          <p:spPr>
            <a:xfrm>
              <a:off x="4130640" y="3295800"/>
              <a:ext cx="203400" cy="1144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" name="" descr=""/>
            <p:cNvPicPr/>
            <p:nvPr/>
          </p:nvPicPr>
          <p:blipFill>
            <a:blip r:embed="rId4"/>
            <a:stretch/>
          </p:blipFill>
          <p:spPr>
            <a:xfrm>
              <a:off x="4130640" y="3295800"/>
              <a:ext cx="203400" cy="1144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" name="" descr=""/>
            <p:cNvPicPr/>
            <p:nvPr/>
          </p:nvPicPr>
          <p:blipFill>
            <a:blip r:embed="rId5"/>
            <a:stretch/>
          </p:blipFill>
          <p:spPr>
            <a:xfrm>
              <a:off x="4130640" y="3295800"/>
              <a:ext cx="203400" cy="114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4141800" y="3305160"/>
              <a:ext cx="187200" cy="1128600"/>
            </a:xfrm>
            <a:prstGeom prst="rect">
              <a:avLst/>
            </a:prstGeom>
            <a:gradFill rotWithShape="0">
              <a:gsLst>
                <a:gs pos="0">
                  <a:srgbClr val="fefefe">
                    <a:alpha val="0"/>
                  </a:srgbClr>
                </a:gs>
                <a:gs pos="100000">
                  <a:srgbClr val="009900">
                    <a:alpha val="80392"/>
                  </a:srgbClr>
                </a:gs>
              </a:gsLst>
              <a:lin ang="10800000"/>
            </a:gradFill>
            <a:ln cap="rnd"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209840" y="3516480"/>
              <a:ext cx="55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Garamond"/>
                </a:rPr>
                <a:t>E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209840" y="3618000"/>
              <a:ext cx="586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Garamond"/>
                </a:rPr>
                <a:t>X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206960" y="3719520"/>
              <a:ext cx="54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Garamond"/>
                </a:rPr>
                <a:t>P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223880" y="3813120"/>
              <a:ext cx="327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Garamond"/>
                </a:rPr>
                <a:t>I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206960" y="3914640"/>
              <a:ext cx="586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Garamond"/>
                </a:rPr>
                <a:t>R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209840" y="4016520"/>
              <a:ext cx="55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Garamond"/>
                </a:rPr>
                <a:t>E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210200" y="4119480"/>
              <a:ext cx="648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Garamond"/>
                </a:rPr>
                <a:t>D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2" name="" descr=""/>
            <p:cNvPicPr/>
            <p:nvPr/>
          </p:nvPicPr>
          <p:blipFill>
            <a:blip r:embed="rId6"/>
            <a:stretch/>
          </p:blipFill>
          <p:spPr>
            <a:xfrm>
              <a:off x="6854760" y="3295800"/>
              <a:ext cx="862200" cy="1144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" name="" descr=""/>
            <p:cNvPicPr/>
            <p:nvPr/>
          </p:nvPicPr>
          <p:blipFill>
            <a:blip r:embed="rId7"/>
            <a:stretch/>
          </p:blipFill>
          <p:spPr>
            <a:xfrm>
              <a:off x="6854760" y="3295800"/>
              <a:ext cx="862200" cy="1144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" name="" descr=""/>
            <p:cNvPicPr/>
            <p:nvPr/>
          </p:nvPicPr>
          <p:blipFill>
            <a:blip r:embed="rId8"/>
            <a:stretch/>
          </p:blipFill>
          <p:spPr>
            <a:xfrm>
              <a:off x="6854760" y="3295800"/>
              <a:ext cx="862200" cy="114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"/>
            <p:cNvSpPr/>
            <p:nvPr/>
          </p:nvSpPr>
          <p:spPr>
            <a:xfrm>
              <a:off x="6867360" y="3305160"/>
              <a:ext cx="844560" cy="1128600"/>
            </a:xfrm>
            <a:custGeom>
              <a:avLst/>
              <a:gdLst/>
              <a:ahLst/>
              <a:rect l="l" t="t" r="r" b="b"/>
              <a:pathLst>
                <a:path w="532" h="711">
                  <a:moveTo>
                    <a:pt x="532" y="355"/>
                  </a:moveTo>
                  <a:lnTo>
                    <a:pt x="355" y="711"/>
                  </a:lnTo>
                  <a:lnTo>
                    <a:pt x="355" y="533"/>
                  </a:lnTo>
                  <a:lnTo>
                    <a:pt x="0" y="651"/>
                  </a:lnTo>
                  <a:lnTo>
                    <a:pt x="118" y="355"/>
                  </a:lnTo>
                  <a:lnTo>
                    <a:pt x="0" y="59"/>
                  </a:lnTo>
                  <a:lnTo>
                    <a:pt x="355" y="178"/>
                  </a:lnTo>
                  <a:lnTo>
                    <a:pt x="355" y="0"/>
                  </a:lnTo>
                  <a:lnTo>
                    <a:pt x="532" y="355"/>
                  </a:lnTo>
                  <a:close/>
                </a:path>
              </a:pathLst>
            </a:custGeom>
            <a:gradFill rotWithShape="0">
              <a:gsLst>
                <a:gs pos="0">
                  <a:srgbClr val="fefefe">
                    <a:alpha val="0"/>
                  </a:srgbClr>
                </a:gs>
                <a:gs pos="100000">
                  <a:srgbClr val="ff7c80">
                    <a:alpha val="78039"/>
                  </a:srgbClr>
                </a:gs>
              </a:gsLst>
              <a:lin ang="10800000"/>
            </a:gradFill>
            <a:ln cap="rnd"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146360" y="3695760"/>
              <a:ext cx="4471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Garamond"/>
                </a:rPr>
                <a:t>Pending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198920" y="3821040"/>
              <a:ext cx="329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Garamond"/>
                </a:rPr>
                <a:t>Delet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20520" y="3938760"/>
              <a:ext cx="35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Garamond"/>
                </a:rPr>
                <a:t>(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250400" y="3938760"/>
              <a:ext cx="723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Garamond"/>
                </a:rPr>
                <a:t>5 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06200" y="3938760"/>
              <a:ext cx="206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Garamond"/>
                </a:rPr>
                <a:t>days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511040" y="3938760"/>
              <a:ext cx="35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Garamond"/>
                </a:rPr>
                <a:t>)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135080" y="2365200"/>
              <a:ext cx="6953400" cy="1219320"/>
            </a:xfrm>
            <a:custGeom>
              <a:avLst/>
              <a:gdLst/>
              <a:ahLst/>
              <a:rect l="l" t="t" r="r" b="b"/>
              <a:pathLst>
                <a:path w="14208" h="2491">
                  <a:moveTo>
                    <a:pt x="0" y="2204"/>
                  </a:moveTo>
                  <a:lnTo>
                    <a:pt x="0" y="96"/>
                  </a:lnTo>
                  <a:cubicBezTo>
                    <a:pt x="0" y="43"/>
                    <a:pt x="43" y="0"/>
                    <a:pt x="96" y="0"/>
                  </a:cubicBezTo>
                  <a:lnTo>
                    <a:pt x="96" y="0"/>
                  </a:lnTo>
                  <a:lnTo>
                    <a:pt x="14112" y="0"/>
                  </a:lnTo>
                  <a:cubicBezTo>
                    <a:pt x="14165" y="0"/>
                    <a:pt x="14208" y="43"/>
                    <a:pt x="14208" y="96"/>
                  </a:cubicBezTo>
                  <a:cubicBezTo>
                    <a:pt x="14208" y="96"/>
                    <a:pt x="14208" y="96"/>
                    <a:pt x="14208" y="96"/>
                  </a:cubicBezTo>
                  <a:lnTo>
                    <a:pt x="14208" y="96"/>
                  </a:lnTo>
                  <a:lnTo>
                    <a:pt x="14208" y="2491"/>
                  </a:lnTo>
                </a:path>
              </a:pathLst>
            </a:custGeom>
            <a:noFill/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095480" y="3433680"/>
              <a:ext cx="77760" cy="117720"/>
            </a:xfrm>
            <a:custGeom>
              <a:avLst/>
              <a:gdLst/>
              <a:ahLst/>
              <a:rect l="l" t="t" r="r" b="b"/>
              <a:pathLst>
                <a:path w="49" h="74">
                  <a:moveTo>
                    <a:pt x="49" y="0"/>
                  </a:moveTo>
                  <a:lnTo>
                    <a:pt x="25" y="74"/>
                  </a:lnTo>
                  <a:lnTo>
                    <a:pt x="0" y="0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914640" y="2155680"/>
              <a:ext cx="1419480" cy="10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827880" y="2151000"/>
              <a:ext cx="10720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Garamond"/>
                </a:rPr>
                <a:t>Name is available for re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850640" y="2151000"/>
              <a:ext cx="280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Garamond"/>
                </a:rPr>
                <a:t>-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831200" y="2151000"/>
              <a:ext cx="532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Garamond"/>
                </a:rPr>
                <a:t>registration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176560" y="2646360"/>
              <a:ext cx="4209840" cy="890640"/>
            </a:xfrm>
            <a:custGeom>
              <a:avLst/>
              <a:gdLst/>
              <a:ahLst/>
              <a:rect l="l" t="t" r="r" b="b"/>
              <a:pathLst>
                <a:path w="8601" h="1819">
                  <a:moveTo>
                    <a:pt x="8601" y="1819"/>
                  </a:moveTo>
                  <a:lnTo>
                    <a:pt x="8601" y="96"/>
                  </a:lnTo>
                  <a:cubicBezTo>
                    <a:pt x="8601" y="43"/>
                    <a:pt x="8558" y="0"/>
                    <a:pt x="8505" y="0"/>
                  </a:cubicBezTo>
                  <a:lnTo>
                    <a:pt x="96" y="0"/>
                  </a:lnTo>
                  <a:cubicBezTo>
                    <a:pt x="43" y="0"/>
                    <a:pt x="0" y="43"/>
                    <a:pt x="0" y="96"/>
                  </a:cubicBezTo>
                  <a:lnTo>
                    <a:pt x="0" y="96"/>
                  </a:lnTo>
                  <a:lnTo>
                    <a:pt x="0" y="1414"/>
                  </a:lnTo>
                </a:path>
              </a:pathLst>
            </a:custGeom>
            <a:noFill/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136600" y="3328920"/>
              <a:ext cx="78120" cy="117720"/>
            </a:xfrm>
            <a:custGeom>
              <a:avLst/>
              <a:gdLst/>
              <a:ahLst/>
              <a:rect l="l" t="t" r="r" b="b"/>
              <a:pathLst>
                <a:path w="49" h="74">
                  <a:moveTo>
                    <a:pt x="49" y="0"/>
                  </a:moveTo>
                  <a:lnTo>
                    <a:pt x="25" y="74"/>
                  </a:lnTo>
                  <a:lnTo>
                    <a:pt x="0" y="0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900600" y="2438280"/>
              <a:ext cx="844560" cy="10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835440" y="2432160"/>
              <a:ext cx="933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Garamond"/>
                </a:rPr>
                <a:t>Redemption possible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135080" y="3014640"/>
              <a:ext cx="844560" cy="430200"/>
            </a:xfrm>
            <a:custGeom>
              <a:avLst/>
              <a:gdLst/>
              <a:ahLst/>
              <a:rect l="l" t="t" r="r" b="b"/>
              <a:pathLst>
                <a:path w="1728" h="878">
                  <a:moveTo>
                    <a:pt x="1728" y="846"/>
                  </a:moveTo>
                  <a:lnTo>
                    <a:pt x="1728" y="96"/>
                  </a:lnTo>
                  <a:cubicBezTo>
                    <a:pt x="1728" y="43"/>
                    <a:pt x="1685" y="0"/>
                    <a:pt x="1632" y="0"/>
                  </a:cubicBezTo>
                  <a:lnTo>
                    <a:pt x="96" y="0"/>
                  </a:lnTo>
                  <a:cubicBezTo>
                    <a:pt x="43" y="0"/>
                    <a:pt x="0" y="43"/>
                    <a:pt x="0" y="96"/>
                  </a:cubicBezTo>
                  <a:lnTo>
                    <a:pt x="0" y="878"/>
                  </a:lnTo>
                </a:path>
              </a:pathLst>
            </a:custGeom>
            <a:noFill/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095480" y="3435480"/>
              <a:ext cx="77760" cy="115920"/>
            </a:xfrm>
            <a:custGeom>
              <a:avLst/>
              <a:gdLst/>
              <a:ahLst/>
              <a:rect l="l" t="t" r="r" b="b"/>
              <a:pathLst>
                <a:path w="49" h="73">
                  <a:moveTo>
                    <a:pt x="49" y="0"/>
                  </a:moveTo>
                  <a:lnTo>
                    <a:pt x="25" y="73"/>
                  </a:lnTo>
                  <a:lnTo>
                    <a:pt x="0" y="0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185840" y="2465280"/>
              <a:ext cx="711360" cy="40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201320" y="2484360"/>
              <a:ext cx="6818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Garamond"/>
                </a:rPr>
                <a:t>Names deleted 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154880" y="2585880"/>
              <a:ext cx="508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Garamond"/>
                </a:rPr>
                <a:t>during Add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672560" y="2585880"/>
              <a:ext cx="2887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Garamond"/>
                </a:rPr>
                <a:t>Grace 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34000" y="2664000"/>
              <a:ext cx="8067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Garamond"/>
                </a:rPr>
                <a:t>become available 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163880" y="2765520"/>
              <a:ext cx="2566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Garamond"/>
                </a:rPr>
                <a:t>for re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420200" y="2765520"/>
              <a:ext cx="280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Garamond"/>
                </a:rPr>
                <a:t>-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413360" y="2765520"/>
              <a:ext cx="532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Garamond"/>
                </a:rPr>
                <a:t>registration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604880" y="4527720"/>
              <a:ext cx="4059360" cy="1440"/>
            </a:xfrm>
            <a:prstGeom prst="line">
              <a:avLst/>
            </a:prstGeom>
            <a:ln cap="rnd" w="428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558800" y="4481640"/>
              <a:ext cx="92160" cy="91800"/>
            </a:xfrm>
            <a:custGeom>
              <a:avLst/>
              <a:gdLst/>
              <a:ahLst/>
              <a:rect l="l" t="t" r="r" b="b"/>
              <a:pathLst>
                <a:path w="188" h="189">
                  <a:moveTo>
                    <a:pt x="188" y="94"/>
                  </a:moveTo>
                  <a:cubicBezTo>
                    <a:pt x="188" y="42"/>
                    <a:pt x="146" y="0"/>
                    <a:pt x="94" y="0"/>
                  </a:cubicBezTo>
                  <a:cubicBezTo>
                    <a:pt x="42" y="0"/>
                    <a:pt x="0" y="42"/>
                    <a:pt x="0" y="94"/>
                  </a:cubicBezTo>
                  <a:cubicBezTo>
                    <a:pt x="0" y="94"/>
                    <a:pt x="0" y="94"/>
                    <a:pt x="0" y="94"/>
                  </a:cubicBezTo>
                  <a:cubicBezTo>
                    <a:pt x="0" y="146"/>
                    <a:pt x="42" y="189"/>
                    <a:pt x="94" y="189"/>
                  </a:cubicBezTo>
                  <a:cubicBezTo>
                    <a:pt x="146" y="189"/>
                    <a:pt x="188" y="146"/>
                    <a:pt x="188" y="94"/>
                  </a:cubicBezTo>
                </a:path>
              </a:pathLst>
            </a:custGeom>
            <a:solidFill>
              <a:srgbClr val="008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648400" y="4465800"/>
              <a:ext cx="185760" cy="123840"/>
            </a:xfrm>
            <a:custGeom>
              <a:avLst/>
              <a:gdLst/>
              <a:ahLst/>
              <a:rect l="l" t="t" r="r" b="b"/>
              <a:pathLst>
                <a:path w="117" h="78">
                  <a:moveTo>
                    <a:pt x="0" y="0"/>
                  </a:moveTo>
                  <a:lnTo>
                    <a:pt x="117" y="39"/>
                  </a:lnTo>
                  <a:lnTo>
                    <a:pt x="0" y="7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446640" y="4414680"/>
              <a:ext cx="652320" cy="225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563280" y="4416480"/>
              <a:ext cx="4395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8000"/>
                  </a:solidFill>
                  <a:latin typeface="Garamond"/>
                </a:rPr>
                <a:t>domain is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443400" y="4525920"/>
              <a:ext cx="660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8000"/>
                  </a:solidFill>
                  <a:latin typeface="Garamond"/>
                </a:rPr>
                <a:t>in the zone file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002280" y="4527720"/>
              <a:ext cx="1917720" cy="1440"/>
            </a:xfrm>
            <a:prstGeom prst="line">
              <a:avLst/>
            </a:prstGeom>
            <a:ln cap="rnd" w="428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834160" y="4465800"/>
              <a:ext cx="182520" cy="123840"/>
            </a:xfrm>
            <a:custGeom>
              <a:avLst/>
              <a:gdLst/>
              <a:ahLst/>
              <a:rect l="l" t="t" r="r" b="b"/>
              <a:pathLst>
                <a:path w="115" h="78">
                  <a:moveTo>
                    <a:pt x="115" y="78"/>
                  </a:moveTo>
                  <a:lnTo>
                    <a:pt x="0" y="39"/>
                  </a:lnTo>
                  <a:lnTo>
                    <a:pt x="115" y="0"/>
                  </a:lnTo>
                  <a:lnTo>
                    <a:pt x="115" y="78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904160" y="4465800"/>
              <a:ext cx="184320" cy="123840"/>
            </a:xfrm>
            <a:custGeom>
              <a:avLst/>
              <a:gdLst/>
              <a:ahLst/>
              <a:rect l="l" t="t" r="r" b="b"/>
              <a:pathLst>
                <a:path w="116" h="78">
                  <a:moveTo>
                    <a:pt x="0" y="0"/>
                  </a:moveTo>
                  <a:lnTo>
                    <a:pt x="116" y="39"/>
                  </a:lnTo>
                  <a:lnTo>
                    <a:pt x="0" y="7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543720" y="4414680"/>
              <a:ext cx="825480" cy="225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491880" y="4416480"/>
              <a:ext cx="834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800000"/>
                  </a:solidFill>
                  <a:latin typeface="Garamond"/>
                </a:rPr>
                <a:t>website and email 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480720" y="4525920"/>
              <a:ext cx="8326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800000"/>
                  </a:solidFill>
                  <a:latin typeface="Garamond"/>
                </a:rPr>
                <a:t>no longer function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4" name="" descr=""/>
            <p:cNvPicPr/>
            <p:nvPr/>
          </p:nvPicPr>
          <p:blipFill>
            <a:blip r:embed="rId9"/>
            <a:stretch/>
          </p:blipFill>
          <p:spPr>
            <a:xfrm>
              <a:off x="700200" y="3436920"/>
              <a:ext cx="861840" cy="862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" name="" descr=""/>
            <p:cNvPicPr/>
            <p:nvPr/>
          </p:nvPicPr>
          <p:blipFill>
            <a:blip r:embed="rId10"/>
            <a:stretch/>
          </p:blipFill>
          <p:spPr>
            <a:xfrm>
              <a:off x="700200" y="3436920"/>
              <a:ext cx="861840" cy="862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6" name="" descr=""/>
            <p:cNvPicPr/>
            <p:nvPr/>
          </p:nvPicPr>
          <p:blipFill>
            <a:blip r:embed="rId11"/>
            <a:stretch/>
          </p:blipFill>
          <p:spPr>
            <a:xfrm>
              <a:off x="700200" y="3436920"/>
              <a:ext cx="861840" cy="8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" name=""/>
            <p:cNvSpPr/>
            <p:nvPr/>
          </p:nvSpPr>
          <p:spPr>
            <a:xfrm>
              <a:off x="701640" y="3427560"/>
              <a:ext cx="858960" cy="888840"/>
            </a:xfrm>
            <a:custGeom>
              <a:avLst/>
              <a:gdLst/>
              <a:ahLst/>
              <a:rect l="l" t="t" r="r" b="b"/>
              <a:pathLst>
                <a:path w="541" h="560">
                  <a:moveTo>
                    <a:pt x="83" y="429"/>
                  </a:moveTo>
                  <a:cubicBezTo>
                    <a:pt x="85" y="472"/>
                    <a:pt x="113" y="504"/>
                    <a:pt x="147" y="502"/>
                  </a:cubicBezTo>
                  <a:cubicBezTo>
                    <a:pt x="156" y="501"/>
                    <a:pt x="164" y="499"/>
                    <a:pt x="171" y="494"/>
                  </a:cubicBezTo>
                  <a:cubicBezTo>
                    <a:pt x="196" y="544"/>
                    <a:pt x="248" y="560"/>
                    <a:pt x="288" y="529"/>
                  </a:cubicBezTo>
                  <a:cubicBezTo>
                    <a:pt x="305" y="516"/>
                    <a:pt x="318" y="495"/>
                    <a:pt x="325" y="470"/>
                  </a:cubicBezTo>
                  <a:cubicBezTo>
                    <a:pt x="323" y="488"/>
                    <a:pt x="334" y="503"/>
                    <a:pt x="348" y="505"/>
                  </a:cubicBezTo>
                  <a:cubicBezTo>
                    <a:pt x="349" y="505"/>
                    <a:pt x="351" y="505"/>
                    <a:pt x="352" y="505"/>
                  </a:cubicBezTo>
                  <a:cubicBezTo>
                    <a:pt x="389" y="511"/>
                    <a:pt x="425" y="492"/>
                    <a:pt x="446" y="454"/>
                  </a:cubicBezTo>
                  <a:cubicBezTo>
                    <a:pt x="474" y="460"/>
                    <a:pt x="502" y="440"/>
                    <a:pt x="512" y="406"/>
                  </a:cubicBezTo>
                  <a:cubicBezTo>
                    <a:pt x="514" y="369"/>
                    <a:pt x="499" y="330"/>
                    <a:pt x="472" y="303"/>
                  </a:cubicBezTo>
                  <a:cubicBezTo>
                    <a:pt x="498" y="273"/>
                    <a:pt x="521" y="239"/>
                    <a:pt x="539" y="202"/>
                  </a:cubicBezTo>
                  <a:cubicBezTo>
                    <a:pt x="541" y="145"/>
                    <a:pt x="514" y="93"/>
                    <a:pt x="469" y="65"/>
                  </a:cubicBezTo>
                  <a:cubicBezTo>
                    <a:pt x="451" y="20"/>
                    <a:pt x="403" y="0"/>
                    <a:pt x="362" y="20"/>
                  </a:cubicBezTo>
                  <a:cubicBezTo>
                    <a:pt x="330" y="35"/>
                    <a:pt x="311" y="70"/>
                    <a:pt x="314" y="108"/>
                  </a:cubicBezTo>
                  <a:cubicBezTo>
                    <a:pt x="296" y="76"/>
                    <a:pt x="254" y="67"/>
                    <a:pt x="221" y="89"/>
                  </a:cubicBezTo>
                  <a:cubicBezTo>
                    <a:pt x="211" y="95"/>
                    <a:pt x="204" y="102"/>
                    <a:pt x="197" y="112"/>
                  </a:cubicBezTo>
                  <a:cubicBezTo>
                    <a:pt x="149" y="81"/>
                    <a:pt x="90" y="96"/>
                    <a:pt x="64" y="146"/>
                  </a:cubicBezTo>
                  <a:cubicBezTo>
                    <a:pt x="47" y="180"/>
                    <a:pt x="49" y="223"/>
                    <a:pt x="72" y="257"/>
                  </a:cubicBezTo>
                  <a:cubicBezTo>
                    <a:pt x="29" y="265"/>
                    <a:pt x="0" y="310"/>
                    <a:pt x="7" y="357"/>
                  </a:cubicBezTo>
                  <a:cubicBezTo>
                    <a:pt x="13" y="398"/>
                    <a:pt x="45" y="428"/>
                    <a:pt x="83" y="429"/>
                  </a:cubicBezTo>
                </a:path>
              </a:pathLst>
            </a:custGeom>
            <a:gradFill rotWithShape="0">
              <a:gsLst>
                <a:gs pos="0">
                  <a:srgbClr val="fefefe"/>
                </a:gs>
                <a:gs pos="100000">
                  <a:srgbClr val="6600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cap="rnd"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88120" y="3813120"/>
              <a:ext cx="427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Garamond"/>
                </a:rPr>
                <a:t>Available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9" name="" descr=""/>
            <p:cNvPicPr/>
            <p:nvPr/>
          </p:nvPicPr>
          <p:blipFill>
            <a:blip r:embed="rId12"/>
            <a:stretch/>
          </p:blipFill>
          <p:spPr>
            <a:xfrm>
              <a:off x="4505400" y="3295800"/>
              <a:ext cx="1332000" cy="1144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" name="" descr=""/>
            <p:cNvPicPr/>
            <p:nvPr/>
          </p:nvPicPr>
          <p:blipFill>
            <a:blip r:embed="rId13"/>
            <a:stretch/>
          </p:blipFill>
          <p:spPr>
            <a:xfrm>
              <a:off x="4505400" y="3295800"/>
              <a:ext cx="1332000" cy="1144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1" name="" descr=""/>
            <p:cNvPicPr/>
            <p:nvPr/>
          </p:nvPicPr>
          <p:blipFill>
            <a:blip r:embed="rId14"/>
            <a:stretch/>
          </p:blipFill>
          <p:spPr>
            <a:xfrm>
              <a:off x="4505400" y="3295800"/>
              <a:ext cx="1332000" cy="114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4518000" y="3305160"/>
              <a:ext cx="1316160" cy="1128600"/>
            </a:xfrm>
            <a:custGeom>
              <a:avLst/>
              <a:gdLst/>
              <a:ahLst/>
              <a:rect l="l" t="t" r="r" b="b"/>
              <a:pathLst>
                <a:path w="829" h="711">
                  <a:moveTo>
                    <a:pt x="829" y="355"/>
                  </a:moveTo>
                  <a:lnTo>
                    <a:pt x="651" y="711"/>
                  </a:lnTo>
                  <a:lnTo>
                    <a:pt x="651" y="533"/>
                  </a:lnTo>
                  <a:lnTo>
                    <a:pt x="0" y="651"/>
                  </a:lnTo>
                  <a:lnTo>
                    <a:pt x="118" y="355"/>
                  </a:lnTo>
                  <a:lnTo>
                    <a:pt x="0" y="59"/>
                  </a:lnTo>
                  <a:lnTo>
                    <a:pt x="651" y="178"/>
                  </a:lnTo>
                  <a:lnTo>
                    <a:pt x="651" y="0"/>
                  </a:lnTo>
                  <a:lnTo>
                    <a:pt x="829" y="355"/>
                  </a:lnTo>
                  <a:close/>
                </a:path>
              </a:pathLst>
            </a:custGeom>
            <a:gradFill rotWithShape="0">
              <a:gsLst>
                <a:gs pos="0">
                  <a:srgbClr val="fefefe">
                    <a:alpha val="0"/>
                  </a:srgbClr>
                </a:gs>
                <a:gs pos="100000">
                  <a:srgbClr val="009900">
                    <a:alpha val="80392"/>
                  </a:srgbClr>
                </a:gs>
              </a:gsLst>
              <a:lin ang="10800000"/>
            </a:gradFill>
            <a:ln cap="rnd"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946040" y="3695760"/>
              <a:ext cx="2491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Garamond"/>
                </a:rPr>
                <a:t>Auto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202360" y="3695760"/>
              <a:ext cx="32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Garamond"/>
                </a:rPr>
                <a:t>-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209200" y="3695760"/>
              <a:ext cx="343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Garamond"/>
                </a:rPr>
                <a:t>Renew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888800" y="3821040"/>
              <a:ext cx="672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Garamond"/>
                </a:rPr>
                <a:t>Grace Period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051880" y="3938760"/>
              <a:ext cx="35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Garamond"/>
                </a:rPr>
                <a:t>(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072760" y="393876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Garamond"/>
                </a:rPr>
                <a:t>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125320" y="3938760"/>
              <a:ext cx="280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Garamond"/>
                </a:rPr>
                <a:t>-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148360" y="3938760"/>
              <a:ext cx="1209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Garamond"/>
                </a:rPr>
                <a:t>45 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247360" y="3938760"/>
              <a:ext cx="206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Garamond"/>
                </a:rPr>
                <a:t>days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458320" y="3938760"/>
              <a:ext cx="35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Garamond"/>
                </a:rPr>
                <a:t>)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3" name="" descr=""/>
            <p:cNvPicPr/>
            <p:nvPr/>
          </p:nvPicPr>
          <p:blipFill>
            <a:blip r:embed="rId15"/>
            <a:stretch/>
          </p:blipFill>
          <p:spPr>
            <a:xfrm>
              <a:off x="5821200" y="3295800"/>
              <a:ext cx="1049400" cy="1144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" name="" descr=""/>
            <p:cNvPicPr/>
            <p:nvPr/>
          </p:nvPicPr>
          <p:blipFill>
            <a:blip r:embed="rId16"/>
            <a:stretch/>
          </p:blipFill>
          <p:spPr>
            <a:xfrm>
              <a:off x="5821200" y="3295800"/>
              <a:ext cx="1049400" cy="1144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" descr=""/>
            <p:cNvPicPr/>
            <p:nvPr/>
          </p:nvPicPr>
          <p:blipFill>
            <a:blip r:embed="rId17"/>
            <a:stretch/>
          </p:blipFill>
          <p:spPr>
            <a:xfrm>
              <a:off x="5821200" y="3295800"/>
              <a:ext cx="1049400" cy="114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5834160" y="3305160"/>
              <a:ext cx="1033200" cy="1128600"/>
            </a:xfrm>
            <a:custGeom>
              <a:avLst/>
              <a:gdLst/>
              <a:ahLst/>
              <a:rect l="l" t="t" r="r" b="b"/>
              <a:pathLst>
                <a:path w="651" h="711">
                  <a:moveTo>
                    <a:pt x="651" y="355"/>
                  </a:moveTo>
                  <a:lnTo>
                    <a:pt x="473" y="711"/>
                  </a:lnTo>
                  <a:lnTo>
                    <a:pt x="473" y="533"/>
                  </a:lnTo>
                  <a:lnTo>
                    <a:pt x="0" y="651"/>
                  </a:lnTo>
                  <a:lnTo>
                    <a:pt x="118" y="355"/>
                  </a:lnTo>
                  <a:lnTo>
                    <a:pt x="0" y="59"/>
                  </a:lnTo>
                  <a:lnTo>
                    <a:pt x="473" y="178"/>
                  </a:lnTo>
                  <a:lnTo>
                    <a:pt x="473" y="0"/>
                  </a:lnTo>
                  <a:lnTo>
                    <a:pt x="651" y="355"/>
                  </a:lnTo>
                  <a:close/>
                </a:path>
              </a:pathLst>
            </a:custGeom>
            <a:gradFill rotWithShape="0">
              <a:gsLst>
                <a:gs pos="0">
                  <a:srgbClr val="fefefe">
                    <a:alpha val="0"/>
                  </a:srgbClr>
                </a:gs>
                <a:gs pos="100000">
                  <a:srgbClr val="ff7c80">
                    <a:alpha val="78039"/>
                  </a:srgbClr>
                </a:gs>
              </a:gsLst>
              <a:lin ang="10800000"/>
            </a:gradFill>
            <a:ln cap="rnd"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093360" y="3618000"/>
              <a:ext cx="654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Garamond"/>
                </a:rPr>
                <a:t>Redemption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063480" y="3743280"/>
              <a:ext cx="672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Garamond"/>
                </a:rPr>
                <a:t>Grace Period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094440" y="3867120"/>
              <a:ext cx="237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Garamond"/>
                </a:rPr>
                <a:t>(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113880" y="3867120"/>
              <a:ext cx="374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Garamond"/>
                </a:rPr>
                <a:t>a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148440" y="3867120"/>
              <a:ext cx="176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Garamond"/>
                </a:rPr>
                <a:t>.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170400" y="3867120"/>
              <a:ext cx="3888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Garamond"/>
                </a:rPr>
                <a:t>k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03880" y="3867120"/>
              <a:ext cx="176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Garamond"/>
                </a:rPr>
                <a:t>.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215400" y="3867120"/>
              <a:ext cx="374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Garamond"/>
                </a:rPr>
                <a:t>a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249600" y="3867120"/>
              <a:ext cx="3420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Garamond"/>
                </a:rPr>
                <a:t>. 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253200" y="3867120"/>
              <a:ext cx="5018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Garamond"/>
                </a:rPr>
                <a:t>“</a:t>
              </a:r>
              <a:r>
                <a:rPr b="0" lang="en-US" sz="500" spc="-1" strike="noStrike">
                  <a:solidFill>
                    <a:srgbClr val="000000"/>
                  </a:solidFill>
                  <a:latin typeface="Garamond"/>
                </a:rPr>
                <a:t>Pending Delete 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752880" y="3867120"/>
              <a:ext cx="327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Garamond"/>
                </a:rPr>
                <a:t>–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234840" y="3944880"/>
              <a:ext cx="3542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Garamond"/>
                </a:rPr>
                <a:t>Restorable”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594480" y="3944880"/>
              <a:ext cx="237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Garamond"/>
                </a:rPr>
                <a:t>)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256800" y="4016520"/>
              <a:ext cx="35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Garamond"/>
                </a:rPr>
                <a:t>(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283440" y="4016520"/>
              <a:ext cx="1209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Garamond"/>
                </a:rPr>
                <a:t>30 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390360" y="4016520"/>
              <a:ext cx="206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Garamond"/>
                </a:rPr>
                <a:t>days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593400" y="4016520"/>
              <a:ext cx="35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Garamond"/>
                </a:rPr>
                <a:t>)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4" name="" descr=""/>
            <p:cNvPicPr/>
            <p:nvPr/>
          </p:nvPicPr>
          <p:blipFill>
            <a:blip r:embed="rId18"/>
            <a:stretch/>
          </p:blipFill>
          <p:spPr>
            <a:xfrm>
              <a:off x="7748640" y="3484440"/>
              <a:ext cx="673200" cy="750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5" name="" descr=""/>
            <p:cNvPicPr/>
            <p:nvPr/>
          </p:nvPicPr>
          <p:blipFill>
            <a:blip r:embed="rId19"/>
            <a:stretch/>
          </p:blipFill>
          <p:spPr>
            <a:xfrm>
              <a:off x="7748640" y="3484440"/>
              <a:ext cx="673200" cy="750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6" name="" descr=""/>
            <p:cNvPicPr/>
            <p:nvPr/>
          </p:nvPicPr>
          <p:blipFill>
            <a:blip r:embed="rId20"/>
            <a:stretch/>
          </p:blipFill>
          <p:spPr>
            <a:xfrm>
              <a:off x="7748640" y="3484440"/>
              <a:ext cx="673200" cy="75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"/>
            <p:cNvSpPr/>
            <p:nvPr/>
          </p:nvSpPr>
          <p:spPr>
            <a:xfrm>
              <a:off x="7751880" y="3476520"/>
              <a:ext cx="668160" cy="768600"/>
            </a:xfrm>
            <a:custGeom>
              <a:avLst/>
              <a:gdLst/>
              <a:ahLst/>
              <a:rect l="l" t="t" r="r" b="b"/>
              <a:pathLst>
                <a:path w="421" h="484">
                  <a:moveTo>
                    <a:pt x="65" y="372"/>
                  </a:moveTo>
                  <a:cubicBezTo>
                    <a:pt x="66" y="408"/>
                    <a:pt x="88" y="436"/>
                    <a:pt x="114" y="434"/>
                  </a:cubicBezTo>
                  <a:cubicBezTo>
                    <a:pt x="121" y="434"/>
                    <a:pt x="127" y="432"/>
                    <a:pt x="133" y="428"/>
                  </a:cubicBezTo>
                  <a:cubicBezTo>
                    <a:pt x="152" y="471"/>
                    <a:pt x="193" y="484"/>
                    <a:pt x="224" y="458"/>
                  </a:cubicBezTo>
                  <a:cubicBezTo>
                    <a:pt x="237" y="447"/>
                    <a:pt x="248" y="428"/>
                    <a:pt x="253" y="407"/>
                  </a:cubicBezTo>
                  <a:cubicBezTo>
                    <a:pt x="252" y="422"/>
                    <a:pt x="260" y="436"/>
                    <a:pt x="271" y="437"/>
                  </a:cubicBezTo>
                  <a:cubicBezTo>
                    <a:pt x="272" y="437"/>
                    <a:pt x="273" y="437"/>
                    <a:pt x="274" y="437"/>
                  </a:cubicBezTo>
                  <a:cubicBezTo>
                    <a:pt x="303" y="443"/>
                    <a:pt x="331" y="426"/>
                    <a:pt x="347" y="393"/>
                  </a:cubicBezTo>
                  <a:cubicBezTo>
                    <a:pt x="369" y="398"/>
                    <a:pt x="390" y="381"/>
                    <a:pt x="398" y="352"/>
                  </a:cubicBezTo>
                  <a:cubicBezTo>
                    <a:pt x="400" y="319"/>
                    <a:pt x="388" y="286"/>
                    <a:pt x="367" y="263"/>
                  </a:cubicBezTo>
                  <a:cubicBezTo>
                    <a:pt x="388" y="236"/>
                    <a:pt x="405" y="207"/>
                    <a:pt x="419" y="175"/>
                  </a:cubicBezTo>
                  <a:cubicBezTo>
                    <a:pt x="421" y="126"/>
                    <a:pt x="400" y="80"/>
                    <a:pt x="365" y="57"/>
                  </a:cubicBezTo>
                  <a:cubicBezTo>
                    <a:pt x="351" y="18"/>
                    <a:pt x="313" y="0"/>
                    <a:pt x="282" y="17"/>
                  </a:cubicBezTo>
                  <a:cubicBezTo>
                    <a:pt x="257" y="30"/>
                    <a:pt x="242" y="61"/>
                    <a:pt x="244" y="94"/>
                  </a:cubicBezTo>
                  <a:cubicBezTo>
                    <a:pt x="230" y="66"/>
                    <a:pt x="197" y="58"/>
                    <a:pt x="172" y="77"/>
                  </a:cubicBezTo>
                  <a:cubicBezTo>
                    <a:pt x="164" y="82"/>
                    <a:pt x="159" y="89"/>
                    <a:pt x="154" y="97"/>
                  </a:cubicBezTo>
                  <a:cubicBezTo>
                    <a:pt x="116" y="70"/>
                    <a:pt x="70" y="84"/>
                    <a:pt x="50" y="126"/>
                  </a:cubicBezTo>
                  <a:cubicBezTo>
                    <a:pt x="36" y="156"/>
                    <a:pt x="39" y="193"/>
                    <a:pt x="56" y="223"/>
                  </a:cubicBezTo>
                  <a:cubicBezTo>
                    <a:pt x="23" y="229"/>
                    <a:pt x="0" y="268"/>
                    <a:pt x="6" y="309"/>
                  </a:cubicBezTo>
                  <a:cubicBezTo>
                    <a:pt x="11" y="344"/>
                    <a:pt x="35" y="371"/>
                    <a:pt x="65" y="372"/>
                  </a:cubicBezTo>
                </a:path>
              </a:pathLst>
            </a:custGeom>
            <a:gradFill rotWithShape="0">
              <a:gsLst>
                <a:gs pos="0">
                  <a:srgbClr val="fefefe"/>
                </a:gs>
                <a:gs pos="100000">
                  <a:srgbClr val="6600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cap="rnd"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850160" y="3773520"/>
              <a:ext cx="3985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Garamond"/>
                </a:rPr>
                <a:t>Released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847640" y="3884760"/>
              <a:ext cx="35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Garamond"/>
                </a:rPr>
                <a:t>(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841520" y="3884760"/>
              <a:ext cx="427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Garamond"/>
                </a:rPr>
                <a:t>Available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293680" y="3884760"/>
              <a:ext cx="35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Garamond"/>
                </a:rPr>
                <a:t>)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604880" y="3301920"/>
              <a:ext cx="2467080" cy="1133640"/>
            </a:xfrm>
            <a:custGeom>
              <a:avLst/>
              <a:gdLst/>
              <a:ahLst/>
              <a:rect l="l" t="t" r="r" b="b"/>
              <a:pathLst>
                <a:path w="1554" h="714">
                  <a:moveTo>
                    <a:pt x="1554" y="357"/>
                  </a:moveTo>
                  <a:lnTo>
                    <a:pt x="1319" y="714"/>
                  </a:lnTo>
                  <a:lnTo>
                    <a:pt x="1318" y="537"/>
                  </a:lnTo>
                  <a:lnTo>
                    <a:pt x="0" y="653"/>
                  </a:lnTo>
                  <a:lnTo>
                    <a:pt x="88" y="357"/>
                  </a:lnTo>
                  <a:lnTo>
                    <a:pt x="0" y="61"/>
                  </a:lnTo>
                  <a:lnTo>
                    <a:pt x="1318" y="178"/>
                  </a:lnTo>
                  <a:lnTo>
                    <a:pt x="1319" y="0"/>
                  </a:lnTo>
                  <a:lnTo>
                    <a:pt x="1554" y="357"/>
                  </a:lnTo>
                  <a:close/>
                </a:path>
              </a:pathLst>
            </a:custGeom>
            <a:gradFill rotWithShape="0">
              <a:gsLst>
                <a:gs pos="0">
                  <a:srgbClr val="fefefe">
                    <a:alpha val="0"/>
                  </a:srgbClr>
                </a:gs>
                <a:gs pos="100000">
                  <a:srgbClr val="009900">
                    <a:alpha val="80392"/>
                  </a:srgbClr>
                </a:gs>
              </a:gsLst>
              <a:lin ang="10800000"/>
            </a:gradFill>
            <a:ln cap="rnd"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590200" y="3757680"/>
              <a:ext cx="550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Garamond"/>
                </a:rPr>
                <a:t>Registered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593080" y="3876840"/>
              <a:ext cx="35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Garamond"/>
                </a:rPr>
                <a:t>(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618640" y="387684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Garamond"/>
                </a:rPr>
                <a:t>1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674440" y="3876840"/>
              <a:ext cx="280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Garamond"/>
                </a:rPr>
                <a:t>-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685960" y="3876840"/>
              <a:ext cx="1209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Garamond"/>
                </a:rPr>
                <a:t>10 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769480" y="3876840"/>
              <a:ext cx="4428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Garamond"/>
                </a:rPr>
                <a:t>year term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188160" y="3876840"/>
              <a:ext cx="35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Garamond"/>
                </a:rPr>
                <a:t>)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77320" y="366408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Garamond"/>
                </a:rPr>
                <a:t>5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828080" y="3664080"/>
              <a:ext cx="280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Garamond"/>
                </a:rPr>
                <a:t>-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839600" y="3664080"/>
              <a:ext cx="1789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Garamond"/>
                </a:rPr>
                <a:t>day 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785240" y="3767040"/>
              <a:ext cx="1728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Garamond"/>
                </a:rPr>
                <a:t>Add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945800" y="3767040"/>
              <a:ext cx="280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Garamond"/>
                </a:rPr>
                <a:t>-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753920" y="3868560"/>
              <a:ext cx="2689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Garamond"/>
                </a:rPr>
                <a:t>Grace 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741680" y="3970440"/>
              <a:ext cx="27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Garamond"/>
                </a:rPr>
                <a:t>Period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054160" y="3429000"/>
              <a:ext cx="23760" cy="861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060640" y="3433680"/>
              <a:ext cx="14400" cy="852480"/>
            </a:xfrm>
            <a:custGeom>
              <a:avLst/>
              <a:gdLst/>
              <a:ahLst/>
              <a:rect l="l" t="t" r="r" b="b"/>
              <a:pathLst>
                <a:path w="29" h="1741">
                  <a:moveTo>
                    <a:pt x="29" y="13"/>
                  </a:moveTo>
                  <a:lnTo>
                    <a:pt x="29" y="38"/>
                  </a:lnTo>
                  <a:cubicBezTo>
                    <a:pt x="29" y="45"/>
                    <a:pt x="23" y="51"/>
                    <a:pt x="16" y="51"/>
                  </a:cubicBezTo>
                  <a:cubicBezTo>
                    <a:pt x="9" y="51"/>
                    <a:pt x="3" y="45"/>
                    <a:pt x="3" y="38"/>
                  </a:cubicBezTo>
                  <a:lnTo>
                    <a:pt x="3" y="13"/>
                  </a:lnTo>
                  <a:cubicBezTo>
                    <a:pt x="3" y="5"/>
                    <a:pt x="9" y="0"/>
                    <a:pt x="16" y="0"/>
                  </a:cubicBezTo>
                  <a:cubicBezTo>
                    <a:pt x="23" y="0"/>
                    <a:pt x="29" y="5"/>
                    <a:pt x="29" y="13"/>
                  </a:cubicBezTo>
                  <a:close/>
                  <a:moveTo>
                    <a:pt x="29" y="89"/>
                  </a:moveTo>
                  <a:lnTo>
                    <a:pt x="29" y="115"/>
                  </a:lnTo>
                  <a:cubicBezTo>
                    <a:pt x="29" y="122"/>
                    <a:pt x="23" y="128"/>
                    <a:pt x="16" y="128"/>
                  </a:cubicBezTo>
                  <a:cubicBezTo>
                    <a:pt x="9" y="128"/>
                    <a:pt x="3" y="122"/>
                    <a:pt x="3" y="115"/>
                  </a:cubicBezTo>
                  <a:lnTo>
                    <a:pt x="3" y="89"/>
                  </a:lnTo>
                  <a:cubicBezTo>
                    <a:pt x="3" y="82"/>
                    <a:pt x="9" y="77"/>
                    <a:pt x="16" y="77"/>
                  </a:cubicBezTo>
                  <a:cubicBezTo>
                    <a:pt x="23" y="77"/>
                    <a:pt x="29" y="82"/>
                    <a:pt x="29" y="89"/>
                  </a:cubicBezTo>
                  <a:close/>
                  <a:moveTo>
                    <a:pt x="28" y="166"/>
                  </a:moveTo>
                  <a:lnTo>
                    <a:pt x="28" y="192"/>
                  </a:lnTo>
                  <a:cubicBezTo>
                    <a:pt x="28" y="199"/>
                    <a:pt x="23" y="205"/>
                    <a:pt x="16" y="205"/>
                  </a:cubicBezTo>
                  <a:cubicBezTo>
                    <a:pt x="9" y="205"/>
                    <a:pt x="3" y="199"/>
                    <a:pt x="3" y="192"/>
                  </a:cubicBezTo>
                  <a:lnTo>
                    <a:pt x="3" y="166"/>
                  </a:lnTo>
                  <a:cubicBezTo>
                    <a:pt x="3" y="159"/>
                    <a:pt x="9" y="153"/>
                    <a:pt x="16" y="153"/>
                  </a:cubicBezTo>
                  <a:cubicBezTo>
                    <a:pt x="23" y="153"/>
                    <a:pt x="28" y="159"/>
                    <a:pt x="28" y="166"/>
                  </a:cubicBezTo>
                  <a:close/>
                  <a:moveTo>
                    <a:pt x="28" y="243"/>
                  </a:moveTo>
                  <a:lnTo>
                    <a:pt x="28" y="269"/>
                  </a:lnTo>
                  <a:cubicBezTo>
                    <a:pt x="28" y="276"/>
                    <a:pt x="23" y="281"/>
                    <a:pt x="15" y="281"/>
                  </a:cubicBezTo>
                  <a:cubicBezTo>
                    <a:pt x="8" y="281"/>
                    <a:pt x="3" y="276"/>
                    <a:pt x="3" y="269"/>
                  </a:cubicBezTo>
                  <a:lnTo>
                    <a:pt x="3" y="243"/>
                  </a:lnTo>
                  <a:cubicBezTo>
                    <a:pt x="3" y="236"/>
                    <a:pt x="9" y="230"/>
                    <a:pt x="16" y="230"/>
                  </a:cubicBezTo>
                  <a:cubicBezTo>
                    <a:pt x="23" y="230"/>
                    <a:pt x="28" y="236"/>
                    <a:pt x="28" y="243"/>
                  </a:cubicBezTo>
                  <a:close/>
                  <a:moveTo>
                    <a:pt x="28" y="320"/>
                  </a:moveTo>
                  <a:lnTo>
                    <a:pt x="28" y="345"/>
                  </a:lnTo>
                  <a:cubicBezTo>
                    <a:pt x="28" y="352"/>
                    <a:pt x="22" y="358"/>
                    <a:pt x="15" y="358"/>
                  </a:cubicBezTo>
                  <a:cubicBezTo>
                    <a:pt x="8" y="358"/>
                    <a:pt x="3" y="352"/>
                    <a:pt x="3" y="345"/>
                  </a:cubicBezTo>
                  <a:lnTo>
                    <a:pt x="3" y="320"/>
                  </a:lnTo>
                  <a:cubicBezTo>
                    <a:pt x="3" y="313"/>
                    <a:pt x="8" y="307"/>
                    <a:pt x="15" y="307"/>
                  </a:cubicBezTo>
                  <a:cubicBezTo>
                    <a:pt x="23" y="307"/>
                    <a:pt x="28" y="313"/>
                    <a:pt x="28" y="320"/>
                  </a:cubicBezTo>
                  <a:close/>
                  <a:moveTo>
                    <a:pt x="28" y="397"/>
                  </a:moveTo>
                  <a:lnTo>
                    <a:pt x="28" y="422"/>
                  </a:lnTo>
                  <a:cubicBezTo>
                    <a:pt x="28" y="429"/>
                    <a:pt x="22" y="435"/>
                    <a:pt x="15" y="435"/>
                  </a:cubicBezTo>
                  <a:cubicBezTo>
                    <a:pt x="8" y="435"/>
                    <a:pt x="2" y="429"/>
                    <a:pt x="2" y="422"/>
                  </a:cubicBezTo>
                  <a:lnTo>
                    <a:pt x="3" y="397"/>
                  </a:lnTo>
                  <a:cubicBezTo>
                    <a:pt x="3" y="389"/>
                    <a:pt x="8" y="384"/>
                    <a:pt x="15" y="384"/>
                  </a:cubicBezTo>
                  <a:cubicBezTo>
                    <a:pt x="22" y="384"/>
                    <a:pt x="28" y="389"/>
                    <a:pt x="28" y="397"/>
                  </a:cubicBezTo>
                  <a:close/>
                  <a:moveTo>
                    <a:pt x="28" y="473"/>
                  </a:moveTo>
                  <a:lnTo>
                    <a:pt x="28" y="499"/>
                  </a:lnTo>
                  <a:cubicBezTo>
                    <a:pt x="28" y="506"/>
                    <a:pt x="22" y="512"/>
                    <a:pt x="15" y="512"/>
                  </a:cubicBezTo>
                  <a:cubicBezTo>
                    <a:pt x="8" y="512"/>
                    <a:pt x="2" y="506"/>
                    <a:pt x="2" y="499"/>
                  </a:cubicBezTo>
                  <a:lnTo>
                    <a:pt x="2" y="473"/>
                  </a:lnTo>
                  <a:cubicBezTo>
                    <a:pt x="2" y="466"/>
                    <a:pt x="8" y="461"/>
                    <a:pt x="15" y="461"/>
                  </a:cubicBezTo>
                  <a:cubicBezTo>
                    <a:pt x="22" y="461"/>
                    <a:pt x="28" y="466"/>
                    <a:pt x="28" y="473"/>
                  </a:cubicBezTo>
                  <a:close/>
                  <a:moveTo>
                    <a:pt x="28" y="550"/>
                  </a:moveTo>
                  <a:lnTo>
                    <a:pt x="28" y="576"/>
                  </a:lnTo>
                  <a:cubicBezTo>
                    <a:pt x="28" y="583"/>
                    <a:pt x="22" y="589"/>
                    <a:pt x="15" y="589"/>
                  </a:cubicBezTo>
                  <a:cubicBezTo>
                    <a:pt x="8" y="589"/>
                    <a:pt x="2" y="583"/>
                    <a:pt x="2" y="576"/>
                  </a:cubicBezTo>
                  <a:lnTo>
                    <a:pt x="2" y="550"/>
                  </a:lnTo>
                  <a:cubicBezTo>
                    <a:pt x="2" y="543"/>
                    <a:pt x="8" y="537"/>
                    <a:pt x="15" y="537"/>
                  </a:cubicBezTo>
                  <a:cubicBezTo>
                    <a:pt x="22" y="537"/>
                    <a:pt x="28" y="543"/>
                    <a:pt x="28" y="550"/>
                  </a:cubicBezTo>
                  <a:close/>
                  <a:moveTo>
                    <a:pt x="28" y="627"/>
                  </a:moveTo>
                  <a:lnTo>
                    <a:pt x="28" y="653"/>
                  </a:lnTo>
                  <a:cubicBezTo>
                    <a:pt x="28" y="660"/>
                    <a:pt x="22" y="665"/>
                    <a:pt x="15" y="665"/>
                  </a:cubicBezTo>
                  <a:cubicBezTo>
                    <a:pt x="8" y="665"/>
                    <a:pt x="2" y="660"/>
                    <a:pt x="2" y="653"/>
                  </a:cubicBezTo>
                  <a:lnTo>
                    <a:pt x="2" y="627"/>
                  </a:lnTo>
                  <a:cubicBezTo>
                    <a:pt x="2" y="620"/>
                    <a:pt x="8" y="614"/>
                    <a:pt x="15" y="614"/>
                  </a:cubicBezTo>
                  <a:cubicBezTo>
                    <a:pt x="22" y="614"/>
                    <a:pt x="28" y="620"/>
                    <a:pt x="28" y="627"/>
                  </a:cubicBezTo>
                  <a:close/>
                  <a:moveTo>
                    <a:pt x="28" y="704"/>
                  </a:moveTo>
                  <a:lnTo>
                    <a:pt x="28" y="729"/>
                  </a:lnTo>
                  <a:cubicBezTo>
                    <a:pt x="28" y="736"/>
                    <a:pt x="22" y="742"/>
                    <a:pt x="15" y="742"/>
                  </a:cubicBezTo>
                  <a:cubicBezTo>
                    <a:pt x="8" y="742"/>
                    <a:pt x="2" y="736"/>
                    <a:pt x="2" y="729"/>
                  </a:cubicBezTo>
                  <a:lnTo>
                    <a:pt x="2" y="704"/>
                  </a:lnTo>
                  <a:cubicBezTo>
                    <a:pt x="2" y="697"/>
                    <a:pt x="8" y="691"/>
                    <a:pt x="15" y="691"/>
                  </a:cubicBezTo>
                  <a:cubicBezTo>
                    <a:pt x="22" y="691"/>
                    <a:pt x="28" y="697"/>
                    <a:pt x="28" y="704"/>
                  </a:cubicBezTo>
                  <a:close/>
                  <a:moveTo>
                    <a:pt x="27" y="781"/>
                  </a:moveTo>
                  <a:lnTo>
                    <a:pt x="27" y="806"/>
                  </a:lnTo>
                  <a:cubicBezTo>
                    <a:pt x="27" y="813"/>
                    <a:pt x="22" y="819"/>
                    <a:pt x="15" y="819"/>
                  </a:cubicBezTo>
                  <a:cubicBezTo>
                    <a:pt x="8" y="819"/>
                    <a:pt x="2" y="813"/>
                    <a:pt x="2" y="806"/>
                  </a:cubicBezTo>
                  <a:lnTo>
                    <a:pt x="2" y="781"/>
                  </a:lnTo>
                  <a:cubicBezTo>
                    <a:pt x="2" y="773"/>
                    <a:pt x="8" y="768"/>
                    <a:pt x="15" y="768"/>
                  </a:cubicBezTo>
                  <a:cubicBezTo>
                    <a:pt x="22" y="768"/>
                    <a:pt x="28" y="773"/>
                    <a:pt x="27" y="781"/>
                  </a:cubicBezTo>
                  <a:close/>
                  <a:moveTo>
                    <a:pt x="27" y="857"/>
                  </a:moveTo>
                  <a:lnTo>
                    <a:pt x="27" y="883"/>
                  </a:lnTo>
                  <a:cubicBezTo>
                    <a:pt x="27" y="890"/>
                    <a:pt x="22" y="896"/>
                    <a:pt x="15" y="896"/>
                  </a:cubicBezTo>
                  <a:cubicBezTo>
                    <a:pt x="7" y="896"/>
                    <a:pt x="2" y="890"/>
                    <a:pt x="2" y="883"/>
                  </a:cubicBezTo>
                  <a:lnTo>
                    <a:pt x="2" y="857"/>
                  </a:lnTo>
                  <a:cubicBezTo>
                    <a:pt x="2" y="850"/>
                    <a:pt x="8" y="845"/>
                    <a:pt x="15" y="845"/>
                  </a:cubicBezTo>
                  <a:cubicBezTo>
                    <a:pt x="22" y="845"/>
                    <a:pt x="27" y="850"/>
                    <a:pt x="27" y="857"/>
                  </a:cubicBezTo>
                  <a:close/>
                  <a:moveTo>
                    <a:pt x="27" y="934"/>
                  </a:moveTo>
                  <a:lnTo>
                    <a:pt x="27" y="960"/>
                  </a:lnTo>
                  <a:cubicBezTo>
                    <a:pt x="27" y="967"/>
                    <a:pt x="21" y="973"/>
                    <a:pt x="14" y="973"/>
                  </a:cubicBezTo>
                  <a:cubicBezTo>
                    <a:pt x="7" y="973"/>
                    <a:pt x="2" y="967"/>
                    <a:pt x="2" y="960"/>
                  </a:cubicBezTo>
                  <a:lnTo>
                    <a:pt x="2" y="934"/>
                  </a:lnTo>
                  <a:cubicBezTo>
                    <a:pt x="2" y="927"/>
                    <a:pt x="7" y="921"/>
                    <a:pt x="14" y="921"/>
                  </a:cubicBezTo>
                  <a:cubicBezTo>
                    <a:pt x="22" y="921"/>
                    <a:pt x="27" y="927"/>
                    <a:pt x="27" y="934"/>
                  </a:cubicBezTo>
                  <a:close/>
                  <a:moveTo>
                    <a:pt x="27" y="1011"/>
                  </a:moveTo>
                  <a:lnTo>
                    <a:pt x="27" y="1037"/>
                  </a:lnTo>
                  <a:cubicBezTo>
                    <a:pt x="27" y="1044"/>
                    <a:pt x="21" y="1049"/>
                    <a:pt x="14" y="1049"/>
                  </a:cubicBezTo>
                  <a:cubicBezTo>
                    <a:pt x="7" y="1049"/>
                    <a:pt x="1" y="1044"/>
                    <a:pt x="1" y="1037"/>
                  </a:cubicBezTo>
                  <a:lnTo>
                    <a:pt x="2" y="1011"/>
                  </a:lnTo>
                  <a:cubicBezTo>
                    <a:pt x="2" y="1004"/>
                    <a:pt x="7" y="998"/>
                    <a:pt x="14" y="998"/>
                  </a:cubicBezTo>
                  <a:cubicBezTo>
                    <a:pt x="21" y="998"/>
                    <a:pt x="27" y="1004"/>
                    <a:pt x="27" y="1011"/>
                  </a:cubicBezTo>
                  <a:close/>
                  <a:moveTo>
                    <a:pt x="27" y="1088"/>
                  </a:moveTo>
                  <a:lnTo>
                    <a:pt x="27" y="1113"/>
                  </a:lnTo>
                  <a:cubicBezTo>
                    <a:pt x="27" y="1120"/>
                    <a:pt x="21" y="1126"/>
                    <a:pt x="14" y="1126"/>
                  </a:cubicBezTo>
                  <a:cubicBezTo>
                    <a:pt x="7" y="1126"/>
                    <a:pt x="1" y="1120"/>
                    <a:pt x="1" y="1113"/>
                  </a:cubicBezTo>
                  <a:lnTo>
                    <a:pt x="1" y="1088"/>
                  </a:lnTo>
                  <a:cubicBezTo>
                    <a:pt x="1" y="1081"/>
                    <a:pt x="7" y="1075"/>
                    <a:pt x="14" y="1075"/>
                  </a:cubicBezTo>
                  <a:cubicBezTo>
                    <a:pt x="21" y="1075"/>
                    <a:pt x="27" y="1081"/>
                    <a:pt x="27" y="1088"/>
                  </a:cubicBezTo>
                  <a:close/>
                  <a:moveTo>
                    <a:pt x="27" y="1165"/>
                  </a:moveTo>
                  <a:lnTo>
                    <a:pt x="27" y="1190"/>
                  </a:lnTo>
                  <a:cubicBezTo>
                    <a:pt x="27" y="1197"/>
                    <a:pt x="21" y="1203"/>
                    <a:pt x="14" y="1203"/>
                  </a:cubicBezTo>
                  <a:cubicBezTo>
                    <a:pt x="7" y="1203"/>
                    <a:pt x="1" y="1197"/>
                    <a:pt x="1" y="1190"/>
                  </a:cubicBezTo>
                  <a:lnTo>
                    <a:pt x="1" y="1165"/>
                  </a:lnTo>
                  <a:cubicBezTo>
                    <a:pt x="1" y="1157"/>
                    <a:pt x="7" y="1152"/>
                    <a:pt x="14" y="1152"/>
                  </a:cubicBezTo>
                  <a:cubicBezTo>
                    <a:pt x="21" y="1152"/>
                    <a:pt x="27" y="1157"/>
                    <a:pt x="27" y="1165"/>
                  </a:cubicBezTo>
                  <a:close/>
                  <a:moveTo>
                    <a:pt x="27" y="1241"/>
                  </a:moveTo>
                  <a:lnTo>
                    <a:pt x="27" y="1267"/>
                  </a:lnTo>
                  <a:cubicBezTo>
                    <a:pt x="27" y="1274"/>
                    <a:pt x="21" y="1280"/>
                    <a:pt x="14" y="1280"/>
                  </a:cubicBezTo>
                  <a:cubicBezTo>
                    <a:pt x="7" y="1280"/>
                    <a:pt x="1" y="1274"/>
                    <a:pt x="1" y="1267"/>
                  </a:cubicBezTo>
                  <a:lnTo>
                    <a:pt x="1" y="1241"/>
                  </a:lnTo>
                  <a:cubicBezTo>
                    <a:pt x="1" y="1234"/>
                    <a:pt x="7" y="1229"/>
                    <a:pt x="14" y="1229"/>
                  </a:cubicBezTo>
                  <a:cubicBezTo>
                    <a:pt x="21" y="1229"/>
                    <a:pt x="27" y="1234"/>
                    <a:pt x="27" y="1241"/>
                  </a:cubicBezTo>
                  <a:close/>
                  <a:moveTo>
                    <a:pt x="27" y="1318"/>
                  </a:moveTo>
                  <a:lnTo>
                    <a:pt x="27" y="1344"/>
                  </a:lnTo>
                  <a:cubicBezTo>
                    <a:pt x="27" y="1351"/>
                    <a:pt x="21" y="1357"/>
                    <a:pt x="14" y="1357"/>
                  </a:cubicBezTo>
                  <a:cubicBezTo>
                    <a:pt x="7" y="1357"/>
                    <a:pt x="1" y="1351"/>
                    <a:pt x="1" y="1344"/>
                  </a:cubicBezTo>
                  <a:lnTo>
                    <a:pt x="1" y="1318"/>
                  </a:lnTo>
                  <a:cubicBezTo>
                    <a:pt x="1" y="1311"/>
                    <a:pt x="7" y="1305"/>
                    <a:pt x="14" y="1305"/>
                  </a:cubicBezTo>
                  <a:cubicBezTo>
                    <a:pt x="21" y="1305"/>
                    <a:pt x="27" y="1311"/>
                    <a:pt x="27" y="1318"/>
                  </a:cubicBezTo>
                  <a:close/>
                  <a:moveTo>
                    <a:pt x="27" y="1395"/>
                  </a:moveTo>
                  <a:lnTo>
                    <a:pt x="26" y="1421"/>
                  </a:lnTo>
                  <a:cubicBezTo>
                    <a:pt x="26" y="1428"/>
                    <a:pt x="21" y="1433"/>
                    <a:pt x="14" y="1433"/>
                  </a:cubicBezTo>
                  <a:cubicBezTo>
                    <a:pt x="7" y="1433"/>
                    <a:pt x="1" y="1428"/>
                    <a:pt x="1" y="1421"/>
                  </a:cubicBezTo>
                  <a:lnTo>
                    <a:pt x="1" y="1395"/>
                  </a:lnTo>
                  <a:cubicBezTo>
                    <a:pt x="1" y="1388"/>
                    <a:pt x="7" y="1382"/>
                    <a:pt x="14" y="1382"/>
                  </a:cubicBezTo>
                  <a:cubicBezTo>
                    <a:pt x="21" y="1382"/>
                    <a:pt x="27" y="1388"/>
                    <a:pt x="27" y="1395"/>
                  </a:cubicBezTo>
                  <a:close/>
                  <a:moveTo>
                    <a:pt x="26" y="1472"/>
                  </a:moveTo>
                  <a:lnTo>
                    <a:pt x="26" y="1497"/>
                  </a:lnTo>
                  <a:cubicBezTo>
                    <a:pt x="26" y="1504"/>
                    <a:pt x="21" y="1510"/>
                    <a:pt x="14" y="1510"/>
                  </a:cubicBezTo>
                  <a:cubicBezTo>
                    <a:pt x="6" y="1510"/>
                    <a:pt x="1" y="1504"/>
                    <a:pt x="1" y="1497"/>
                  </a:cubicBezTo>
                  <a:lnTo>
                    <a:pt x="1" y="1472"/>
                  </a:lnTo>
                  <a:cubicBezTo>
                    <a:pt x="1" y="1465"/>
                    <a:pt x="7" y="1459"/>
                    <a:pt x="14" y="1459"/>
                  </a:cubicBezTo>
                  <a:cubicBezTo>
                    <a:pt x="21" y="1459"/>
                    <a:pt x="26" y="1465"/>
                    <a:pt x="26" y="1472"/>
                  </a:cubicBezTo>
                  <a:close/>
                  <a:moveTo>
                    <a:pt x="26" y="1549"/>
                  </a:moveTo>
                  <a:lnTo>
                    <a:pt x="26" y="1574"/>
                  </a:lnTo>
                  <a:cubicBezTo>
                    <a:pt x="26" y="1581"/>
                    <a:pt x="20" y="1587"/>
                    <a:pt x="13" y="1587"/>
                  </a:cubicBezTo>
                  <a:cubicBezTo>
                    <a:pt x="6" y="1587"/>
                    <a:pt x="1" y="1581"/>
                    <a:pt x="1" y="1574"/>
                  </a:cubicBezTo>
                  <a:lnTo>
                    <a:pt x="1" y="1549"/>
                  </a:lnTo>
                  <a:cubicBezTo>
                    <a:pt x="1" y="1541"/>
                    <a:pt x="6" y="1536"/>
                    <a:pt x="13" y="1536"/>
                  </a:cubicBezTo>
                  <a:cubicBezTo>
                    <a:pt x="21" y="1536"/>
                    <a:pt x="26" y="1541"/>
                    <a:pt x="26" y="1549"/>
                  </a:cubicBezTo>
                  <a:close/>
                  <a:moveTo>
                    <a:pt x="26" y="1625"/>
                  </a:moveTo>
                  <a:lnTo>
                    <a:pt x="26" y="1651"/>
                  </a:lnTo>
                  <a:cubicBezTo>
                    <a:pt x="26" y="1658"/>
                    <a:pt x="20" y="1664"/>
                    <a:pt x="13" y="1664"/>
                  </a:cubicBezTo>
                  <a:cubicBezTo>
                    <a:pt x="6" y="1664"/>
                    <a:pt x="0" y="1658"/>
                    <a:pt x="1" y="1651"/>
                  </a:cubicBezTo>
                  <a:lnTo>
                    <a:pt x="1" y="1625"/>
                  </a:lnTo>
                  <a:cubicBezTo>
                    <a:pt x="1" y="1618"/>
                    <a:pt x="6" y="1613"/>
                    <a:pt x="13" y="1613"/>
                  </a:cubicBezTo>
                  <a:cubicBezTo>
                    <a:pt x="20" y="1613"/>
                    <a:pt x="26" y="1618"/>
                    <a:pt x="26" y="1625"/>
                  </a:cubicBezTo>
                  <a:close/>
                  <a:moveTo>
                    <a:pt x="26" y="1702"/>
                  </a:moveTo>
                  <a:lnTo>
                    <a:pt x="26" y="1728"/>
                  </a:lnTo>
                  <a:cubicBezTo>
                    <a:pt x="26" y="1735"/>
                    <a:pt x="20" y="1741"/>
                    <a:pt x="13" y="1741"/>
                  </a:cubicBezTo>
                  <a:cubicBezTo>
                    <a:pt x="6" y="1741"/>
                    <a:pt x="0" y="1735"/>
                    <a:pt x="0" y="1728"/>
                  </a:cubicBezTo>
                  <a:lnTo>
                    <a:pt x="0" y="1702"/>
                  </a:lnTo>
                  <a:cubicBezTo>
                    <a:pt x="0" y="1695"/>
                    <a:pt x="6" y="1689"/>
                    <a:pt x="13" y="1689"/>
                  </a:cubicBezTo>
                  <a:cubicBezTo>
                    <a:pt x="20" y="1689"/>
                    <a:pt x="26" y="1695"/>
                    <a:pt x="26" y="170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054160" y="3429000"/>
              <a:ext cx="23760" cy="861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025640" y="5184720"/>
              <a:ext cx="798480" cy="1800"/>
            </a:xfrm>
            <a:prstGeom prst="line">
              <a:avLst/>
            </a:prstGeom>
            <a:ln cap="rnd" w="745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66800" y="5091120"/>
              <a:ext cx="280800" cy="189000"/>
            </a:xfrm>
            <a:custGeom>
              <a:avLst/>
              <a:gdLst/>
              <a:ahLst/>
              <a:rect l="l" t="t" r="r" b="b"/>
              <a:pathLst>
                <a:path w="177" h="119">
                  <a:moveTo>
                    <a:pt x="177" y="119"/>
                  </a:moveTo>
                  <a:lnTo>
                    <a:pt x="0" y="59"/>
                  </a:lnTo>
                  <a:lnTo>
                    <a:pt x="177" y="0"/>
                  </a:lnTo>
                  <a:lnTo>
                    <a:pt x="177" y="119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800360" y="5091120"/>
              <a:ext cx="282600" cy="189000"/>
            </a:xfrm>
            <a:custGeom>
              <a:avLst/>
              <a:gdLst/>
              <a:ahLst/>
              <a:rect l="l" t="t" r="r" b="b"/>
              <a:pathLst>
                <a:path w="178" h="119">
                  <a:moveTo>
                    <a:pt x="0" y="0"/>
                  </a:moveTo>
                  <a:lnTo>
                    <a:pt x="178" y="59"/>
                  </a:lnTo>
                  <a:lnTo>
                    <a:pt x="0" y="1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996320" y="5191200"/>
              <a:ext cx="145800" cy="0"/>
            </a:xfrm>
            <a:prstGeom prst="line">
              <a:avLst/>
            </a:prstGeom>
            <a:ln cap="rnd" w="745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7726320" y="5091120"/>
              <a:ext cx="281160" cy="189000"/>
            </a:xfrm>
            <a:custGeom>
              <a:avLst/>
              <a:gdLst/>
              <a:ahLst/>
              <a:rect l="l" t="t" r="r" b="b"/>
              <a:pathLst>
                <a:path w="177" h="119">
                  <a:moveTo>
                    <a:pt x="177" y="119"/>
                  </a:moveTo>
                  <a:lnTo>
                    <a:pt x="0" y="59"/>
                  </a:lnTo>
                  <a:lnTo>
                    <a:pt x="177" y="0"/>
                  </a:lnTo>
                  <a:lnTo>
                    <a:pt x="177" y="119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8096400" y="5091120"/>
              <a:ext cx="282600" cy="189000"/>
            </a:xfrm>
            <a:custGeom>
              <a:avLst/>
              <a:gdLst/>
              <a:ahLst/>
              <a:rect l="l" t="t" r="r" b="b"/>
              <a:pathLst>
                <a:path w="178" h="119">
                  <a:moveTo>
                    <a:pt x="0" y="0"/>
                  </a:moveTo>
                  <a:lnTo>
                    <a:pt x="178" y="59"/>
                  </a:lnTo>
                  <a:lnTo>
                    <a:pt x="0" y="1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GNSO Ad-Hoc Working Group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reated in/after Puerto Rico Meeting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ross Constituency representation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Designed to accumulate findings and research for presentation to GNSO Counci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4572000" y="5238720"/>
            <a:ext cx="3400560" cy="952560"/>
          </a:xfrm>
          <a:prstGeom prst="leftRightArrow">
            <a:avLst>
              <a:gd name="adj1" fmla="val 50000"/>
              <a:gd name="adj2" fmla="val 71067"/>
            </a:avLst>
          </a:prstGeom>
          <a:solidFill>
            <a:srgbClr val="ff7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Create new probl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190520" y="5334120"/>
            <a:ext cx="3381480" cy="771480"/>
          </a:xfrm>
          <a:custGeom>
            <a:avLst/>
            <a:gdLst>
              <a:gd name="textAreaLeft" fmla="*/ 528120 w 3381480"/>
              <a:gd name="textAreaRight" fmla="*/ 2958840 w 3381480"/>
              <a:gd name="textAreaTop" fmla="*/ 192960 h 771480"/>
              <a:gd name="textAreaBottom" fmla="*/ 578880 h 771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Solve current probl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Pendulum Effect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Addressing Domain Tasting is the Objective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ome Solutions Create New Problems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033200" y="3320640"/>
            <a:ext cx="7076880" cy="2088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59" y="0"/>
                </a:moveTo>
                <a:arcTo wR="10800" hR="10800" stAng="-5381209" swAng="4405936"/>
                <a:lnTo>
                  <a:pt x="10800" y="10800"/>
                </a:lnTo>
                <a:close/>
              </a:path>
              <a:path fill="none" w="21600" h="21600">
                <a:moveTo>
                  <a:pt x="10859" y="0"/>
                </a:moveTo>
                <a:arcTo wR="10800" hR="10800" stAng="-5381209" swAng="4405936"/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3" name=""/>
          <p:cNvGrpSpPr/>
          <p:nvPr/>
        </p:nvGrpSpPr>
        <p:grpSpPr>
          <a:xfrm>
            <a:off x="1152360" y="3533760"/>
            <a:ext cx="6801120" cy="2495520"/>
            <a:chOff x="1152360" y="3533760"/>
            <a:chExt cx="6801120" cy="2495520"/>
          </a:xfrm>
        </p:grpSpPr>
        <p:sp>
          <p:nvSpPr>
            <p:cNvPr id="244" name=""/>
            <p:cNvSpPr/>
            <p:nvPr/>
          </p:nvSpPr>
          <p:spPr>
            <a:xfrm flipV="1">
              <a:off x="1152360" y="3533760"/>
              <a:ext cx="0" cy="2495520"/>
            </a:xfrm>
            <a:prstGeom prst="line">
              <a:avLst/>
            </a:prstGeom>
            <a:ln w="7632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 flipV="1">
              <a:off x="4552920" y="3533760"/>
              <a:ext cx="0" cy="2495520"/>
            </a:xfrm>
            <a:prstGeom prst="line">
              <a:avLst/>
            </a:prstGeom>
            <a:ln w="7632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 flipV="1">
              <a:off x="7953480" y="3533760"/>
              <a:ext cx="0" cy="2495520"/>
            </a:xfrm>
            <a:prstGeom prst="line">
              <a:avLst/>
            </a:prstGeom>
            <a:ln w="7632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"/>
          <p:cNvSpPr/>
          <p:nvPr/>
        </p:nvSpPr>
        <p:spPr>
          <a:xfrm>
            <a:off x="1380960" y="3105000"/>
            <a:ext cx="1295640" cy="371520"/>
          </a:xfrm>
          <a:prstGeom prst="borderCallout1">
            <a:avLst>
              <a:gd name="adj1" fmla="val 18750"/>
              <a:gd name="adj2" fmla="val -8333"/>
              <a:gd name="adj3" fmla="val 128203"/>
              <a:gd name="adj4" fmla="val -21324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Problem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>
            <a:off x="2352240" y="2817720"/>
            <a:ext cx="1933560" cy="1859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H="1" flipV="1">
            <a:off x="860400" y="2554200"/>
            <a:ext cx="7076160" cy="2089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556" y="1662"/>
                </a:moveTo>
                <a:arcTo wR="10800" hR="10800" stAng="-3467693" swAng="2234538"/>
                <a:lnTo>
                  <a:pt x="10800" y="10800"/>
                </a:lnTo>
                <a:close/>
              </a:path>
              <a:path fill="none" w="21600" h="21600">
                <a:moveTo>
                  <a:pt x="16556" y="1662"/>
                </a:moveTo>
                <a:arcTo wR="10800" hR="10800" stAng="-3467693" swAng="2234538"/>
              </a:path>
            </a:pathLst>
          </a:custGeom>
          <a:noFill/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H="1" flipV="1">
            <a:off x="1033200" y="2343600"/>
            <a:ext cx="7076880" cy="2088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302" y="1507"/>
                </a:moveTo>
                <a:arcTo wR="10800" hR="10800" stAng="-3562365" swAng="2587093"/>
                <a:lnTo>
                  <a:pt x="10800" y="10800"/>
                </a:lnTo>
                <a:close/>
              </a:path>
              <a:path fill="none" w="21600" h="21600">
                <a:moveTo>
                  <a:pt x="16302" y="1507"/>
                </a:moveTo>
                <a:arcTo wR="10800" hR="10800" stAng="-3562365" swAng="2587093"/>
              </a:path>
            </a:pathLst>
          </a:custGeom>
          <a:noFill/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flipH="1" flipV="1">
            <a:off x="1118880" y="2132280"/>
            <a:ext cx="7076880" cy="2086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041" y="1357"/>
                </a:moveTo>
                <a:arcTo wR="10800" hR="10800" stAng="-3658289" swAng="2683016"/>
                <a:lnTo>
                  <a:pt x="10800" y="10800"/>
                </a:lnTo>
                <a:close/>
              </a:path>
              <a:path fill="none" w="21600" h="21600">
                <a:moveTo>
                  <a:pt x="16041" y="1357"/>
                </a:moveTo>
                <a:arcTo wR="10800" hR="10800" stAng="-3658289" swAng="2683016"/>
              </a:path>
            </a:pathLst>
          </a:custGeom>
          <a:noFill/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152800" y="4537080"/>
            <a:ext cx="387360" cy="387360"/>
          </a:xfrm>
          <a:prstGeom prst="ellipse">
            <a:avLst/>
          </a:prstGeom>
          <a:gradFill rotWithShape="0">
            <a:gsLst>
              <a:gs pos="0">
                <a:srgbClr val="ccecff"/>
              </a:gs>
              <a:gs pos="100000">
                <a:srgbClr val="5e6c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448080" y="3095640"/>
            <a:ext cx="961920" cy="371520"/>
          </a:xfrm>
          <a:prstGeom prst="borderCallout1">
            <a:avLst>
              <a:gd name="adj1" fmla="val 18750"/>
              <a:gd name="adj2" fmla="val -8333"/>
              <a:gd name="adj3" fmla="val 187180"/>
              <a:gd name="adj4" fmla="val -15842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7331040" y="5508720"/>
            <a:ext cx="797040" cy="83484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2"/>
          <a:stretch/>
        </p:blipFill>
        <p:spPr>
          <a:xfrm>
            <a:off x="4078440" y="5505480"/>
            <a:ext cx="987120" cy="84924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3"/>
          <a:stretch/>
        </p:blipFill>
        <p:spPr>
          <a:xfrm>
            <a:off x="795240" y="5460840"/>
            <a:ext cx="720720" cy="92088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4"/>
          <a:stretch/>
        </p:blipFill>
        <p:spPr>
          <a:xfrm>
            <a:off x="3714840" y="3800520"/>
            <a:ext cx="1714320" cy="171432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1419120" y="3772080"/>
            <a:ext cx="1038240" cy="368280"/>
          </a:xfrm>
          <a:prstGeom prst="rect">
            <a:avLst/>
          </a:prstGeom>
          <a:gradFill rotWithShape="0">
            <a:gsLst>
              <a:gs pos="0">
                <a:srgbClr val="ffffff">
                  <a:alpha val="67058"/>
                </a:srgbClr>
              </a:gs>
              <a:gs pos="100000">
                <a:srgbClr val="fefefe">
                  <a:alpha val="6705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Poli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Pendulum Effect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Problem exists at one side of pendulum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olution exists in center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New Problems / Burdens created when pendulum switches sides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Important to not create undue cost or burden to Registrars and Registrants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Need to Educate and Encourage Appropriate Action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Get Pendulum to Center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Some Proposed Solutions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Garamond"/>
              </a:rPr>
              <a:t>“</a:t>
            </a:r>
            <a:r>
              <a:rPr b="0" lang="en-US" sz="2400" spc="-1" strike="noStrike">
                <a:solidFill>
                  <a:srgbClr val="333399"/>
                </a:solidFill>
                <a:latin typeface="Garamond"/>
              </a:rPr>
              <a:t>These are certainly not all of the possible solutions, nor are they necessarily recommended by the Registrar Constituency”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Technical Disincentive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98400" indent="-26856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Eliminate AGP Entirely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698400" indent="-26856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Activate in DNS upon committed payment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Financial Disincentive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98400" indent="-26856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Threshold-based Restocking Fee (PIR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698400" indent="-26856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Make ICANN Fee Non-Refundable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698400" indent="-26856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Enforce RAA §3.7.4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2" marL="1074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Garamond"/>
              </a:rPr>
              <a:t>ICANN Staff opinion is this does not apply via §3.7.1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Status Quo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98400" indent="-26856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Look at how recent GTLD price increases impact current activity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1199880" y="4734000"/>
            <a:ext cx="3733560" cy="0"/>
          </a:xfrm>
          <a:prstGeom prst="line">
            <a:avLst/>
          </a:prstGeom>
          <a:ln w="1908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Focus on Impact From Change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ome of the proposed methods of addressing Domain Tasting could adversely impact registrars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698400" indent="-26856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Technical Change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2" marL="1074240" indent="-214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EPP Command Change (delayed activation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2" marL="1074240" indent="-214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Business Logic Change (delayed activation, AGP elimination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698400" indent="-26856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User Experience changes due to technical change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2" marL="1074240" indent="-214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Cart process, management portal, customer service back office (requires re-engineering for delayed activation, AGP elimination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698400" indent="-26856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Financial Change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2" marL="1074240" indent="-214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Higher cost of remedy for registrant issues (restocking fee, ICANN fee, elimination of AGP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2" marL="1074240" indent="-214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Higher general cost per unit [again] (under circumstances of threshold – restocking fee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7T07:52:17Z</dcterms:created>
  <dc:creator>jothan.frakes</dc:creator>
  <dc:description/>
  <dc:language>en-US</dc:language>
  <cp:lastModifiedBy>jothan.frakes</cp:lastModifiedBy>
  <dcterms:modified xsi:type="dcterms:W3CDTF">2007-10-30T17:19:27Z</dcterms:modified>
  <cp:revision>14</cp:revision>
  <dc:subject/>
  <dc:title>DTWG Report Update</dc:title>
</cp:coreProperties>
</file>