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DD45-6C0B-4E33-A860-4EC4A14F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8E26-74DB-4DD3-BC5A-D19AAC6C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74D0-2AB4-4C39-A79E-C38B0AEB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86EA-BCE1-491F-8E71-1D542EB6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9B3D-7211-4B7E-9680-7B3FF38C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352F-20BB-4AB9-9378-8B54C936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5DD3-3121-45D3-BCAF-B64CCFDC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00FD-3E30-47A3-9E2A-259501D5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D1E0-E335-4296-86E0-C6A9F655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4A7-A46E-4229-8F87-97EC7971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E4F-363A-4248-B295-46D940D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535D-253A-48B6-8E69-F97D8457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78EC-0E9C-4C66-A6ED-7557B1E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CBC7-B1FF-4860-8979-0D70E4D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FA24-7E5C-4DDE-BEA8-EFEF653B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EA69-1FAC-4EFD-838B-16B6F52F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16AA-BFA1-41D3-9B68-4AFA8295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05A3-1526-4D65-8D07-D2AB4718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4203-7CC2-4F06-A769-00512FBA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F9E6-5050-4125-A691-D8B2644B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36FD-8D78-4302-ACD4-5ED01A67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B373-23A8-4C8F-A7A4-9CE29BA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690C-4698-4837-8B6A-2422E62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9629-C210-4D2A-83A5-77B2FC9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DB67-2253-4B7E-B575-2F0FBE798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313344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is presentation is for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discuss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purposes only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2C1A-1870-4968-A43D-0344D33B2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1.wmf"/><Relationship Id="rId18" Type="http://schemas.openxmlformats.org/officeDocument/2006/relationships/image" Target="../media/image13.wmf"/><Relationship Id="rId19" Type="http://schemas.openxmlformats.org/officeDocument/2006/relationships/image" Target="../media/image14.wmf"/><Relationship Id="rId20" Type="http://schemas.openxmlformats.org/officeDocument/2006/relationships/image" Target="../media/image13.wm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DTWG Report Update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gistrar Constituenc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than Frakes - Oversee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90783B-E39D-489B-BECD-569384BCE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viewing Impacts to Chang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act to Registrars and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siness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chnical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nancial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gradation in User Experi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usiness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results of a straw poll of the RC yielde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ve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7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dentified benefits of the AGP, which were unrelated to domain tasting and/or domain kiting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itigating fraud impacts; 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;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dressing situations of Buyer’s Remorse  on behalf of the registrant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velopment Testing of real-time production system; and 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re may be more, unreported uses – many registrars hold their business practices as proprietary or confidential in our ever competing marketplac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echnical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proposed changes could cause technical impact or impairment of registrars or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of car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in accounting / reporting / fina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Financial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ccounting and Finance departments could have issues to address in some of the chang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ffective Price per unit impac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naging Registry Balances for fee solu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ndle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arty Service (delayed activation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ser Experience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ser Experience could be impaired with some of the proposed solu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mmediate Activation As Baseline Expect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ndled Services (most start day 1, but could not activate until day 5?  Customer loses 4 day’s use of bundle benefi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llustrating Impact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ve proposed methods of addressing domain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racking the benefit Impact to address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racking the adverse Impacts registrars and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atus Quo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GP Elimin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limination of AG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uld eliminate tasting as we know it entire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Technic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Financi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User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nalizes ALL Registra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elayed Activ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ducational Inten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purpose of this presentation is to educate the constituency on the various proposals to address domain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ltimately the RC should make our own recommendation and statement of position on the matter of AGP that addresses Domain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elayed Activ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uld eliminate AGP use for tasting and preserve AGP refund aspe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Technic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ight introduce ‘commit’ EPP command or other facility requiring engineer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User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stant activation services / add-on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nalizes ALL Registra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on-Refundable ICANN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on-Refundable ICANN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ake Tasting less financially attractiv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serves AGP and Benefi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ncial impact introduced to remedy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but substantially less than full annual unit price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Technical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than internal finance reports / proces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imited User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ce impacts might flow through to consumer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nalizes ALL Registra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reshold Restocking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reshold Restocking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ould make Tasting less financially attrac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R Empirical experience illustrates this worke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erves AGP and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nancial impact introduced to remedy iss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but substantially less than full annual unit pric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 Technical Impac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ther than internal finance reports / proces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mited User Impac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ice impacts might flow through to consum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pid implementation for all parties concern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R examp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enalizes only registrars who meet or exceed threshold standar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oes not penalize registrars who are not engaged in tast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arket Factor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id October’s GTLD price increases diminish attraction of tasting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ggest review of the numbers from registry report for November 2007 prior to any proposal of solution from council to avoid double ouch to registra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atus Quo : Factoring 7-10%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ricing Increases at Year 1+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atus Quo: Price Increas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uld make Tasting less financially attractiv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serves AGP and Benefi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nancial impact introduced to remedy issu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but substantially less than full annual unit price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Technic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ther than internal finance reports / proc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mited User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ice impacts might flow through to consumer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ext Step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-Hoc Domain Tasting Working Group (DTWG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FI Surveys to general internet communit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General Publi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tellectual Propert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iling list discuss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pleted work 10/20/200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w in hands of GNSO Counc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utstanding questions for the R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at position does the RC want to take on this issu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oes the RC want to take a strong position against the elimination of the AGP?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tential next ste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NSO may initiate a PD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gistries may initiate a funnel request (ie request for new registry service like .ORG restocking fee model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ddressing “Domain Tasting”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cess under way intended to address two key area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From the RFI)</a:t>
            </a:r>
            <a:br>
              <a:rPr sz="2800"/>
            </a:br>
            <a:r>
              <a:rPr b="0" lang="en-US" sz="2000" spc="-1" strike="noStrike">
                <a:solidFill>
                  <a:srgbClr val="ff7c80"/>
                </a:solidFill>
                <a:latin typeface="Garamond"/>
              </a:rPr>
              <a:t>“Domain tasting is a monetization practice employed by registrants to use the add-grace period to register domain names in order to test their profitability. During this period, registrants conduct a cost-benefit analysis to determine if the tested domain names return enough traffic to offset the annual registration fee paid to the registry over the course of the registration period.”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omain “Kiting”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serial re-tasting to perpetually avoid cos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832360" y="1371600"/>
            <a:ext cx="0" cy="44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24880" y="1371600"/>
            <a:ext cx="0" cy="44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6760" y="1371600"/>
            <a:ext cx="0" cy="44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Lifecycle of a GTLD Domain Name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0200" y="2151000"/>
            <a:ext cx="7721640" cy="3129120"/>
            <a:chOff x="700200" y="2151000"/>
            <a:chExt cx="7721640" cy="31291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766800" y="4714920"/>
              <a:ext cx="761220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62120" y="5089680"/>
              <a:ext cx="7611840" cy="188640"/>
            </a:xfrm>
            <a:prstGeom prst="rect">
              <a:avLst/>
            </a:prstGeom>
            <a:solidFill>
              <a:srgbClr val="ff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800" y="4903920"/>
              <a:ext cx="7612200" cy="1872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4713120"/>
              <a:ext cx="7611840" cy="189000"/>
            </a:xfrm>
            <a:prstGeom prst="rect">
              <a:avLst/>
            </a:prstGeom>
            <a:solidFill>
              <a:srgbClr val="eae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120" y="5089680"/>
              <a:ext cx="7611840" cy="188640"/>
            </a:xfrm>
            <a:prstGeom prst="rect">
              <a:avLst/>
            </a:prstGeom>
            <a:solidFill>
              <a:srgbClr val="ff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66800" y="5091120"/>
              <a:ext cx="761220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87320" y="5121360"/>
              <a:ext cx="251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               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Domain Tasting Activ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6560" y="2928960"/>
              <a:ext cx="3098880" cy="608040"/>
            </a:xfrm>
            <a:custGeom>
              <a:avLst/>
              <a:gdLst/>
              <a:ahLst/>
              <a:rect l="l" t="t" r="r" b="b"/>
              <a:pathLst>
                <a:path w="6332" h="1242">
                  <a:moveTo>
                    <a:pt x="6332" y="1242"/>
                  </a:moveTo>
                  <a:lnTo>
                    <a:pt x="6332" y="96"/>
                  </a:lnTo>
                  <a:cubicBezTo>
                    <a:pt x="6332" y="43"/>
                    <a:pt x="6289" y="0"/>
                    <a:pt x="6236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83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6600" y="3328920"/>
              <a:ext cx="7812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76560" y="2928960"/>
              <a:ext cx="1722240" cy="652320"/>
            </a:xfrm>
            <a:custGeom>
              <a:avLst/>
              <a:gdLst/>
              <a:ahLst/>
              <a:rect l="l" t="t" r="r" b="b"/>
              <a:pathLst>
                <a:path w="3520" h="1332">
                  <a:moveTo>
                    <a:pt x="3520" y="1332"/>
                  </a:moveTo>
                  <a:lnTo>
                    <a:pt x="3520" y="96"/>
                  </a:lnTo>
                  <a:cubicBezTo>
                    <a:pt x="3520" y="43"/>
                    <a:pt x="3477" y="0"/>
                    <a:pt x="3424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83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6600" y="3328920"/>
              <a:ext cx="7812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9680" y="2720880"/>
              <a:ext cx="7016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92440" y="2714760"/>
              <a:ext cx="771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newal possi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130640" y="3295800"/>
              <a:ext cx="203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4130640" y="3295800"/>
              <a:ext cx="203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4130640" y="3295800"/>
              <a:ext cx="2034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141800" y="3305160"/>
              <a:ext cx="187200" cy="112860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9900">
                    <a:alpha val="80392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09840" y="351648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9840" y="3618000"/>
              <a:ext cx="58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06960" y="37195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23880" y="3813120"/>
              <a:ext cx="3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6960" y="3914640"/>
              <a:ext cx="58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09840" y="401652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10200" y="41194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6854760" y="3295800"/>
              <a:ext cx="8622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6854760" y="3295800"/>
              <a:ext cx="8622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6854760" y="3295800"/>
              <a:ext cx="8622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67360" y="3305160"/>
              <a:ext cx="844560" cy="1128600"/>
            </a:xfrm>
            <a:custGeom>
              <a:avLst/>
              <a:gdLst/>
              <a:ahLst/>
              <a:rect l="l" t="t" r="r" b="b"/>
              <a:pathLst>
                <a:path w="532" h="711">
                  <a:moveTo>
                    <a:pt x="532" y="355"/>
                  </a:moveTo>
                  <a:lnTo>
                    <a:pt x="355" y="711"/>
                  </a:lnTo>
                  <a:lnTo>
                    <a:pt x="355" y="533"/>
                  </a:lnTo>
                  <a:lnTo>
                    <a:pt x="0" y="651"/>
                  </a:lnTo>
                  <a:lnTo>
                    <a:pt x="118" y="355"/>
                  </a:lnTo>
                  <a:lnTo>
                    <a:pt x="0" y="59"/>
                  </a:lnTo>
                  <a:lnTo>
                    <a:pt x="355" y="178"/>
                  </a:lnTo>
                  <a:lnTo>
                    <a:pt x="355" y="0"/>
                  </a:lnTo>
                  <a:lnTo>
                    <a:pt x="532" y="3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7c80">
                    <a:alpha val="78039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46360" y="3695760"/>
              <a:ext cx="44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Pending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8920" y="3821040"/>
              <a:ext cx="32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Dele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052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50400" y="3938760"/>
              <a:ext cx="7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5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06200" y="39387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1104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35080" y="2365200"/>
              <a:ext cx="6953400" cy="1219320"/>
            </a:xfrm>
            <a:custGeom>
              <a:avLst/>
              <a:gdLst/>
              <a:ahLst/>
              <a:rect l="l" t="t" r="r" b="b"/>
              <a:pathLst>
                <a:path w="14208" h="2491">
                  <a:moveTo>
                    <a:pt x="0" y="2204"/>
                  </a:moveTo>
                  <a:lnTo>
                    <a:pt x="0" y="96"/>
                  </a:lnTo>
                  <a:cubicBezTo>
                    <a:pt x="0" y="43"/>
                    <a:pt x="43" y="0"/>
                    <a:pt x="96" y="0"/>
                  </a:cubicBezTo>
                  <a:lnTo>
                    <a:pt x="96" y="0"/>
                  </a:lnTo>
                  <a:lnTo>
                    <a:pt x="14112" y="0"/>
                  </a:lnTo>
                  <a:cubicBezTo>
                    <a:pt x="14165" y="0"/>
                    <a:pt x="14208" y="43"/>
                    <a:pt x="14208" y="96"/>
                  </a:cubicBezTo>
                  <a:cubicBezTo>
                    <a:pt x="14208" y="96"/>
                    <a:pt x="14208" y="96"/>
                    <a:pt x="14208" y="96"/>
                  </a:cubicBezTo>
                  <a:lnTo>
                    <a:pt x="14208" y="96"/>
                  </a:lnTo>
                  <a:lnTo>
                    <a:pt x="14208" y="2491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5480" y="3433680"/>
              <a:ext cx="7776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14640" y="2155680"/>
              <a:ext cx="141948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7880" y="2151000"/>
              <a:ext cx="1072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Name is available for 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640" y="215100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31200" y="215100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g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560" y="2646360"/>
              <a:ext cx="4209840" cy="890640"/>
            </a:xfrm>
            <a:custGeom>
              <a:avLst/>
              <a:gdLst/>
              <a:ahLst/>
              <a:rect l="l" t="t" r="r" b="b"/>
              <a:pathLst>
                <a:path w="8601" h="1819">
                  <a:moveTo>
                    <a:pt x="8601" y="1819"/>
                  </a:moveTo>
                  <a:lnTo>
                    <a:pt x="8601" y="96"/>
                  </a:lnTo>
                  <a:cubicBezTo>
                    <a:pt x="8601" y="43"/>
                    <a:pt x="8558" y="0"/>
                    <a:pt x="8505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96"/>
                  </a:lnTo>
                  <a:lnTo>
                    <a:pt x="0" y="1414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6600" y="3328920"/>
              <a:ext cx="7812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00600" y="2438280"/>
              <a:ext cx="84456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35440" y="2432160"/>
              <a:ext cx="933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demption possi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35080" y="3014640"/>
              <a:ext cx="844560" cy="430200"/>
            </a:xfrm>
            <a:custGeom>
              <a:avLst/>
              <a:gdLst/>
              <a:ahLst/>
              <a:rect l="l" t="t" r="r" b="b"/>
              <a:pathLst>
                <a:path w="1728" h="878">
                  <a:moveTo>
                    <a:pt x="1728" y="846"/>
                  </a:moveTo>
                  <a:lnTo>
                    <a:pt x="1728" y="96"/>
                  </a:lnTo>
                  <a:cubicBezTo>
                    <a:pt x="1728" y="43"/>
                    <a:pt x="1685" y="0"/>
                    <a:pt x="1632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87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5480" y="34354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49" y="0"/>
                  </a:moveTo>
                  <a:lnTo>
                    <a:pt x="25" y="73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5840" y="2465280"/>
              <a:ext cx="711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01320" y="2484360"/>
              <a:ext cx="681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Names deleted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4880" y="258588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uring Ad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2560" y="258588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Grac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4000" y="2664000"/>
              <a:ext cx="806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become availabl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63880" y="2765520"/>
              <a:ext cx="25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for 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0200" y="276552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3360" y="276552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g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4880" y="4527720"/>
              <a:ext cx="4059360" cy="1440"/>
            </a:xfrm>
            <a:prstGeom prst="line">
              <a:avLst/>
            </a:prstGeom>
            <a:ln cap="rnd" w="42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58800" y="4481640"/>
              <a:ext cx="92160" cy="91800"/>
            </a:xfrm>
            <a:custGeom>
              <a:avLst/>
              <a:gdLst/>
              <a:ahLst/>
              <a:rect l="l" t="t" r="r" b="b"/>
              <a:pathLst>
                <a:path w="188" h="189">
                  <a:moveTo>
                    <a:pt x="188" y="94"/>
                  </a:move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4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146"/>
                    <a:pt x="42" y="189"/>
                    <a:pt x="94" y="189"/>
                  </a:cubicBezTo>
                  <a:cubicBezTo>
                    <a:pt x="146" y="189"/>
                    <a:pt x="188" y="146"/>
                    <a:pt x="188" y="94"/>
                  </a:cubicBez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8400" y="4465800"/>
              <a:ext cx="185760" cy="12384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0" y="0"/>
                  </a:moveTo>
                  <a:lnTo>
                    <a:pt x="117" y="39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46640" y="4414680"/>
              <a:ext cx="652320" cy="2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3280" y="441648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8000"/>
                  </a:solidFill>
                  <a:latin typeface="Garamond"/>
                </a:rPr>
                <a:t>domain 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43400" y="4525920"/>
              <a:ext cx="66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8000"/>
                  </a:solidFill>
                  <a:latin typeface="Garamond"/>
                </a:rPr>
                <a:t>in the zone fi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02280" y="4527720"/>
              <a:ext cx="1917720" cy="1440"/>
            </a:xfrm>
            <a:prstGeom prst="line">
              <a:avLst/>
            </a:prstGeom>
            <a:ln cap="rnd" w="42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34160" y="4465800"/>
              <a:ext cx="182520" cy="123840"/>
            </a:xfrm>
            <a:custGeom>
              <a:avLst/>
              <a:gdLst/>
              <a:ahLst/>
              <a:rect l="l" t="t" r="r" b="b"/>
              <a:pathLst>
                <a:path w="115" h="78">
                  <a:moveTo>
                    <a:pt x="115" y="78"/>
                  </a:moveTo>
                  <a:lnTo>
                    <a:pt x="0" y="39"/>
                  </a:lnTo>
                  <a:lnTo>
                    <a:pt x="115" y="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4160" y="4465800"/>
              <a:ext cx="184320" cy="123840"/>
            </a:xfrm>
            <a:custGeom>
              <a:avLst/>
              <a:gdLst/>
              <a:ahLst/>
              <a:rect l="l" t="t" r="r" b="b"/>
              <a:pathLst>
                <a:path w="116" h="78">
                  <a:moveTo>
                    <a:pt x="0" y="0"/>
                  </a:moveTo>
                  <a:lnTo>
                    <a:pt x="116" y="39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3720" y="4414680"/>
              <a:ext cx="825480" cy="2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91880" y="4416480"/>
              <a:ext cx="83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0000"/>
                  </a:solidFill>
                  <a:latin typeface="Garamond"/>
                </a:rPr>
                <a:t>website and email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80720" y="4525920"/>
              <a:ext cx="832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0000"/>
                  </a:solidFill>
                  <a:latin typeface="Garamond"/>
                </a:rPr>
                <a:t>no longer fun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700200" y="3436920"/>
              <a:ext cx="8618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0"/>
            <a:stretch/>
          </p:blipFill>
          <p:spPr>
            <a:xfrm>
              <a:off x="700200" y="3436920"/>
              <a:ext cx="8618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1"/>
            <a:stretch/>
          </p:blipFill>
          <p:spPr>
            <a:xfrm>
              <a:off x="700200" y="3436920"/>
              <a:ext cx="86184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01640" y="3427560"/>
              <a:ext cx="858960" cy="888840"/>
            </a:xfrm>
            <a:custGeom>
              <a:avLst/>
              <a:gdLst/>
              <a:ahLst/>
              <a:rect l="l" t="t" r="r" b="b"/>
              <a:pathLst>
                <a:path w="541" h="560">
                  <a:moveTo>
                    <a:pt x="83" y="429"/>
                  </a:moveTo>
                  <a:cubicBezTo>
                    <a:pt x="85" y="472"/>
                    <a:pt x="113" y="504"/>
                    <a:pt x="147" y="502"/>
                  </a:cubicBezTo>
                  <a:cubicBezTo>
                    <a:pt x="156" y="501"/>
                    <a:pt x="164" y="499"/>
                    <a:pt x="171" y="494"/>
                  </a:cubicBezTo>
                  <a:cubicBezTo>
                    <a:pt x="196" y="544"/>
                    <a:pt x="248" y="560"/>
                    <a:pt x="288" y="529"/>
                  </a:cubicBezTo>
                  <a:cubicBezTo>
                    <a:pt x="305" y="516"/>
                    <a:pt x="318" y="495"/>
                    <a:pt x="325" y="470"/>
                  </a:cubicBezTo>
                  <a:cubicBezTo>
                    <a:pt x="323" y="488"/>
                    <a:pt x="334" y="503"/>
                    <a:pt x="348" y="505"/>
                  </a:cubicBezTo>
                  <a:cubicBezTo>
                    <a:pt x="349" y="505"/>
                    <a:pt x="351" y="505"/>
                    <a:pt x="352" y="505"/>
                  </a:cubicBezTo>
                  <a:cubicBezTo>
                    <a:pt x="389" y="511"/>
                    <a:pt x="425" y="492"/>
                    <a:pt x="446" y="454"/>
                  </a:cubicBezTo>
                  <a:cubicBezTo>
                    <a:pt x="474" y="460"/>
                    <a:pt x="502" y="440"/>
                    <a:pt x="512" y="406"/>
                  </a:cubicBezTo>
                  <a:cubicBezTo>
                    <a:pt x="514" y="369"/>
                    <a:pt x="499" y="330"/>
                    <a:pt x="472" y="303"/>
                  </a:cubicBezTo>
                  <a:cubicBezTo>
                    <a:pt x="498" y="273"/>
                    <a:pt x="521" y="239"/>
                    <a:pt x="539" y="202"/>
                  </a:cubicBezTo>
                  <a:cubicBezTo>
                    <a:pt x="541" y="145"/>
                    <a:pt x="514" y="93"/>
                    <a:pt x="469" y="65"/>
                  </a:cubicBezTo>
                  <a:cubicBezTo>
                    <a:pt x="451" y="20"/>
                    <a:pt x="403" y="0"/>
                    <a:pt x="362" y="20"/>
                  </a:cubicBezTo>
                  <a:cubicBezTo>
                    <a:pt x="330" y="35"/>
                    <a:pt x="311" y="70"/>
                    <a:pt x="314" y="108"/>
                  </a:cubicBezTo>
                  <a:cubicBezTo>
                    <a:pt x="296" y="76"/>
                    <a:pt x="254" y="67"/>
                    <a:pt x="221" y="89"/>
                  </a:cubicBezTo>
                  <a:cubicBezTo>
                    <a:pt x="211" y="95"/>
                    <a:pt x="204" y="102"/>
                    <a:pt x="197" y="112"/>
                  </a:cubicBezTo>
                  <a:cubicBezTo>
                    <a:pt x="149" y="81"/>
                    <a:pt x="90" y="96"/>
                    <a:pt x="64" y="146"/>
                  </a:cubicBezTo>
                  <a:cubicBezTo>
                    <a:pt x="47" y="180"/>
                    <a:pt x="49" y="223"/>
                    <a:pt x="72" y="257"/>
                  </a:cubicBezTo>
                  <a:cubicBezTo>
                    <a:pt x="29" y="265"/>
                    <a:pt x="0" y="310"/>
                    <a:pt x="7" y="357"/>
                  </a:cubicBezTo>
                  <a:cubicBezTo>
                    <a:pt x="13" y="398"/>
                    <a:pt x="45" y="428"/>
                    <a:pt x="83" y="429"/>
                  </a:cubicBez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00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120" y="381312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Avail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2"/>
            <a:stretch/>
          </p:blipFill>
          <p:spPr>
            <a:xfrm>
              <a:off x="4505400" y="3295800"/>
              <a:ext cx="13320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3"/>
            <a:stretch/>
          </p:blipFill>
          <p:spPr>
            <a:xfrm>
              <a:off x="4505400" y="3295800"/>
              <a:ext cx="13320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4"/>
            <a:stretch/>
          </p:blipFill>
          <p:spPr>
            <a:xfrm>
              <a:off x="4505400" y="3295800"/>
              <a:ext cx="1332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518000" y="3305160"/>
              <a:ext cx="1316160" cy="1128600"/>
            </a:xfrm>
            <a:custGeom>
              <a:avLst/>
              <a:gdLst/>
              <a:ahLst/>
              <a:rect l="l" t="t" r="r" b="b"/>
              <a:pathLst>
                <a:path w="829" h="711">
                  <a:moveTo>
                    <a:pt x="829" y="355"/>
                  </a:moveTo>
                  <a:lnTo>
                    <a:pt x="651" y="711"/>
                  </a:lnTo>
                  <a:lnTo>
                    <a:pt x="651" y="533"/>
                  </a:lnTo>
                  <a:lnTo>
                    <a:pt x="0" y="651"/>
                  </a:lnTo>
                  <a:lnTo>
                    <a:pt x="118" y="355"/>
                  </a:lnTo>
                  <a:lnTo>
                    <a:pt x="0" y="59"/>
                  </a:lnTo>
                  <a:lnTo>
                    <a:pt x="651" y="178"/>
                  </a:lnTo>
                  <a:lnTo>
                    <a:pt x="651" y="0"/>
                  </a:lnTo>
                  <a:lnTo>
                    <a:pt x="829" y="3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9900">
                    <a:alpha val="80392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46040" y="369576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Au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02360" y="3695760"/>
              <a:ext cx="3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9200" y="369576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Ren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88800" y="3821040"/>
              <a:ext cx="67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Grace Peri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5188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72760" y="3938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25320" y="393876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8360" y="393876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45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47360" y="39387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832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5"/>
            <a:stretch/>
          </p:blipFill>
          <p:spPr>
            <a:xfrm>
              <a:off x="5821200" y="3295800"/>
              <a:ext cx="1049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6"/>
            <a:stretch/>
          </p:blipFill>
          <p:spPr>
            <a:xfrm>
              <a:off x="5821200" y="3295800"/>
              <a:ext cx="1049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7"/>
            <a:stretch/>
          </p:blipFill>
          <p:spPr>
            <a:xfrm>
              <a:off x="5821200" y="3295800"/>
              <a:ext cx="10494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834160" y="3305160"/>
              <a:ext cx="1033200" cy="1128600"/>
            </a:xfrm>
            <a:custGeom>
              <a:avLst/>
              <a:gdLst/>
              <a:ahLst/>
              <a:rect l="l" t="t" r="r" b="b"/>
              <a:pathLst>
                <a:path w="651" h="711">
                  <a:moveTo>
                    <a:pt x="651" y="355"/>
                  </a:moveTo>
                  <a:lnTo>
                    <a:pt x="473" y="711"/>
                  </a:lnTo>
                  <a:lnTo>
                    <a:pt x="473" y="533"/>
                  </a:lnTo>
                  <a:lnTo>
                    <a:pt x="0" y="651"/>
                  </a:lnTo>
                  <a:lnTo>
                    <a:pt x="118" y="355"/>
                  </a:lnTo>
                  <a:lnTo>
                    <a:pt x="0" y="59"/>
                  </a:lnTo>
                  <a:lnTo>
                    <a:pt x="473" y="178"/>
                  </a:lnTo>
                  <a:lnTo>
                    <a:pt x="473" y="0"/>
                  </a:lnTo>
                  <a:lnTo>
                    <a:pt x="651" y="3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7c80">
                    <a:alpha val="78039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3360" y="3618000"/>
              <a:ext cx="65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Redemp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3480" y="3743280"/>
              <a:ext cx="67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Grace Peri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440" y="386712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3880" y="386712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48440" y="3867120"/>
              <a:ext cx="1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0400" y="3867120"/>
              <a:ext cx="3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3880" y="3867120"/>
              <a:ext cx="1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15400" y="386712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9600" y="3867120"/>
              <a:ext cx="34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.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3200" y="3867120"/>
              <a:ext cx="50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“</a:t>
              </a: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Pending Delete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52880" y="386712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–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34840" y="3944880"/>
              <a:ext cx="354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Restorable”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94480" y="394488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6800" y="40165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83440" y="40165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30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90360" y="401652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93400" y="40165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8"/>
            <a:stretch/>
          </p:blipFill>
          <p:spPr>
            <a:xfrm>
              <a:off x="7748640" y="3484440"/>
              <a:ext cx="6732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9"/>
            <a:stretch/>
          </p:blipFill>
          <p:spPr>
            <a:xfrm>
              <a:off x="7748640" y="3484440"/>
              <a:ext cx="6732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0"/>
            <a:stretch/>
          </p:blipFill>
          <p:spPr>
            <a:xfrm>
              <a:off x="7748640" y="3484440"/>
              <a:ext cx="6732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751880" y="3476520"/>
              <a:ext cx="668160" cy="768600"/>
            </a:xfrm>
            <a:custGeom>
              <a:avLst/>
              <a:gdLst/>
              <a:ahLst/>
              <a:rect l="l" t="t" r="r" b="b"/>
              <a:pathLst>
                <a:path w="421" h="484">
                  <a:moveTo>
                    <a:pt x="65" y="372"/>
                  </a:moveTo>
                  <a:cubicBezTo>
                    <a:pt x="66" y="408"/>
                    <a:pt x="88" y="436"/>
                    <a:pt x="114" y="434"/>
                  </a:cubicBezTo>
                  <a:cubicBezTo>
                    <a:pt x="121" y="434"/>
                    <a:pt x="127" y="432"/>
                    <a:pt x="133" y="428"/>
                  </a:cubicBezTo>
                  <a:cubicBezTo>
                    <a:pt x="152" y="471"/>
                    <a:pt x="193" y="484"/>
                    <a:pt x="224" y="458"/>
                  </a:cubicBezTo>
                  <a:cubicBezTo>
                    <a:pt x="237" y="447"/>
                    <a:pt x="248" y="428"/>
                    <a:pt x="253" y="407"/>
                  </a:cubicBezTo>
                  <a:cubicBezTo>
                    <a:pt x="252" y="422"/>
                    <a:pt x="260" y="436"/>
                    <a:pt x="271" y="437"/>
                  </a:cubicBezTo>
                  <a:cubicBezTo>
                    <a:pt x="272" y="437"/>
                    <a:pt x="273" y="437"/>
                    <a:pt x="274" y="437"/>
                  </a:cubicBezTo>
                  <a:cubicBezTo>
                    <a:pt x="303" y="443"/>
                    <a:pt x="331" y="426"/>
                    <a:pt x="347" y="393"/>
                  </a:cubicBezTo>
                  <a:cubicBezTo>
                    <a:pt x="369" y="398"/>
                    <a:pt x="390" y="381"/>
                    <a:pt x="398" y="352"/>
                  </a:cubicBezTo>
                  <a:cubicBezTo>
                    <a:pt x="400" y="319"/>
                    <a:pt x="388" y="286"/>
                    <a:pt x="367" y="263"/>
                  </a:cubicBezTo>
                  <a:cubicBezTo>
                    <a:pt x="388" y="236"/>
                    <a:pt x="405" y="207"/>
                    <a:pt x="419" y="175"/>
                  </a:cubicBezTo>
                  <a:cubicBezTo>
                    <a:pt x="421" y="126"/>
                    <a:pt x="400" y="80"/>
                    <a:pt x="365" y="57"/>
                  </a:cubicBezTo>
                  <a:cubicBezTo>
                    <a:pt x="351" y="18"/>
                    <a:pt x="313" y="0"/>
                    <a:pt x="282" y="17"/>
                  </a:cubicBezTo>
                  <a:cubicBezTo>
                    <a:pt x="257" y="30"/>
                    <a:pt x="242" y="61"/>
                    <a:pt x="244" y="94"/>
                  </a:cubicBezTo>
                  <a:cubicBezTo>
                    <a:pt x="230" y="66"/>
                    <a:pt x="197" y="58"/>
                    <a:pt x="172" y="77"/>
                  </a:cubicBezTo>
                  <a:cubicBezTo>
                    <a:pt x="164" y="82"/>
                    <a:pt x="159" y="89"/>
                    <a:pt x="154" y="97"/>
                  </a:cubicBezTo>
                  <a:cubicBezTo>
                    <a:pt x="116" y="70"/>
                    <a:pt x="70" y="84"/>
                    <a:pt x="50" y="126"/>
                  </a:cubicBezTo>
                  <a:cubicBezTo>
                    <a:pt x="36" y="156"/>
                    <a:pt x="39" y="193"/>
                    <a:pt x="56" y="223"/>
                  </a:cubicBezTo>
                  <a:cubicBezTo>
                    <a:pt x="23" y="229"/>
                    <a:pt x="0" y="268"/>
                    <a:pt x="6" y="309"/>
                  </a:cubicBezTo>
                  <a:cubicBezTo>
                    <a:pt x="11" y="344"/>
                    <a:pt x="35" y="371"/>
                    <a:pt x="65" y="372"/>
                  </a:cubicBez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00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50160" y="3773520"/>
              <a:ext cx="39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leas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7640" y="3884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41520" y="388476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Avail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93680" y="3884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4880" y="3301920"/>
              <a:ext cx="2467080" cy="1133640"/>
            </a:xfrm>
            <a:custGeom>
              <a:avLst/>
              <a:gdLst/>
              <a:ahLst/>
              <a:rect l="l" t="t" r="r" b="b"/>
              <a:pathLst>
                <a:path w="1554" h="714">
                  <a:moveTo>
                    <a:pt x="1554" y="357"/>
                  </a:moveTo>
                  <a:lnTo>
                    <a:pt x="1319" y="714"/>
                  </a:lnTo>
                  <a:lnTo>
                    <a:pt x="1318" y="537"/>
                  </a:lnTo>
                  <a:lnTo>
                    <a:pt x="0" y="653"/>
                  </a:lnTo>
                  <a:lnTo>
                    <a:pt x="88" y="357"/>
                  </a:lnTo>
                  <a:lnTo>
                    <a:pt x="0" y="61"/>
                  </a:lnTo>
                  <a:lnTo>
                    <a:pt x="1318" y="178"/>
                  </a:lnTo>
                  <a:lnTo>
                    <a:pt x="1319" y="0"/>
                  </a:lnTo>
                  <a:lnTo>
                    <a:pt x="1554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9900">
                    <a:alpha val="80392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0200" y="375768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Registe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3080" y="387684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18640" y="3876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74440" y="387684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5960" y="387684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10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69480" y="3876840"/>
              <a:ext cx="44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year ter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8160" y="387684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77320" y="3664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080" y="366408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9600" y="3664080"/>
              <a:ext cx="17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day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85240" y="3767040"/>
              <a:ext cx="17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Ad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45800" y="376704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3920" y="38685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Grac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1680" y="3970440"/>
              <a:ext cx="27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Peri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4160" y="3429000"/>
              <a:ext cx="23760" cy="86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60640" y="3433680"/>
              <a:ext cx="14400" cy="852480"/>
            </a:xfrm>
            <a:custGeom>
              <a:avLst/>
              <a:gdLst/>
              <a:ahLst/>
              <a:rect l="l" t="t" r="r" b="b"/>
              <a:pathLst>
                <a:path w="29" h="1741">
                  <a:moveTo>
                    <a:pt x="29" y="13"/>
                  </a:moveTo>
                  <a:lnTo>
                    <a:pt x="29" y="38"/>
                  </a:lnTo>
                  <a:cubicBezTo>
                    <a:pt x="29" y="45"/>
                    <a:pt x="23" y="51"/>
                    <a:pt x="16" y="51"/>
                  </a:cubicBezTo>
                  <a:cubicBezTo>
                    <a:pt x="9" y="51"/>
                    <a:pt x="3" y="45"/>
                    <a:pt x="3" y="38"/>
                  </a:cubicBezTo>
                  <a:lnTo>
                    <a:pt x="3" y="13"/>
                  </a:lnTo>
                  <a:cubicBezTo>
                    <a:pt x="3" y="5"/>
                    <a:pt x="9" y="0"/>
                    <a:pt x="16" y="0"/>
                  </a:cubicBezTo>
                  <a:cubicBezTo>
                    <a:pt x="23" y="0"/>
                    <a:pt x="29" y="5"/>
                    <a:pt x="29" y="13"/>
                  </a:cubicBezTo>
                  <a:close/>
                  <a:moveTo>
                    <a:pt x="29" y="89"/>
                  </a:moveTo>
                  <a:lnTo>
                    <a:pt x="29" y="115"/>
                  </a:lnTo>
                  <a:cubicBezTo>
                    <a:pt x="29" y="122"/>
                    <a:pt x="23" y="128"/>
                    <a:pt x="16" y="128"/>
                  </a:cubicBezTo>
                  <a:cubicBezTo>
                    <a:pt x="9" y="128"/>
                    <a:pt x="3" y="122"/>
                    <a:pt x="3" y="115"/>
                  </a:cubicBezTo>
                  <a:lnTo>
                    <a:pt x="3" y="89"/>
                  </a:lnTo>
                  <a:cubicBezTo>
                    <a:pt x="3" y="82"/>
                    <a:pt x="9" y="77"/>
                    <a:pt x="16" y="77"/>
                  </a:cubicBezTo>
                  <a:cubicBezTo>
                    <a:pt x="23" y="77"/>
                    <a:pt x="29" y="82"/>
                    <a:pt x="29" y="89"/>
                  </a:cubicBezTo>
                  <a:close/>
                  <a:moveTo>
                    <a:pt x="28" y="166"/>
                  </a:moveTo>
                  <a:lnTo>
                    <a:pt x="28" y="192"/>
                  </a:lnTo>
                  <a:cubicBezTo>
                    <a:pt x="28" y="199"/>
                    <a:pt x="23" y="205"/>
                    <a:pt x="16" y="205"/>
                  </a:cubicBezTo>
                  <a:cubicBezTo>
                    <a:pt x="9" y="205"/>
                    <a:pt x="3" y="199"/>
                    <a:pt x="3" y="192"/>
                  </a:cubicBezTo>
                  <a:lnTo>
                    <a:pt x="3" y="166"/>
                  </a:lnTo>
                  <a:cubicBezTo>
                    <a:pt x="3" y="159"/>
                    <a:pt x="9" y="153"/>
                    <a:pt x="16" y="153"/>
                  </a:cubicBezTo>
                  <a:cubicBezTo>
                    <a:pt x="23" y="153"/>
                    <a:pt x="28" y="159"/>
                    <a:pt x="28" y="166"/>
                  </a:cubicBezTo>
                  <a:close/>
                  <a:moveTo>
                    <a:pt x="28" y="243"/>
                  </a:moveTo>
                  <a:lnTo>
                    <a:pt x="28" y="269"/>
                  </a:lnTo>
                  <a:cubicBezTo>
                    <a:pt x="28" y="276"/>
                    <a:pt x="23" y="281"/>
                    <a:pt x="15" y="281"/>
                  </a:cubicBezTo>
                  <a:cubicBezTo>
                    <a:pt x="8" y="281"/>
                    <a:pt x="3" y="276"/>
                    <a:pt x="3" y="269"/>
                  </a:cubicBezTo>
                  <a:lnTo>
                    <a:pt x="3" y="243"/>
                  </a:lnTo>
                  <a:cubicBezTo>
                    <a:pt x="3" y="236"/>
                    <a:pt x="9" y="230"/>
                    <a:pt x="16" y="230"/>
                  </a:cubicBezTo>
                  <a:cubicBezTo>
                    <a:pt x="23" y="230"/>
                    <a:pt x="28" y="236"/>
                    <a:pt x="28" y="243"/>
                  </a:cubicBezTo>
                  <a:close/>
                  <a:moveTo>
                    <a:pt x="28" y="320"/>
                  </a:moveTo>
                  <a:lnTo>
                    <a:pt x="28" y="345"/>
                  </a:lnTo>
                  <a:cubicBezTo>
                    <a:pt x="28" y="352"/>
                    <a:pt x="22" y="358"/>
                    <a:pt x="15" y="358"/>
                  </a:cubicBezTo>
                  <a:cubicBezTo>
                    <a:pt x="8" y="358"/>
                    <a:pt x="3" y="352"/>
                    <a:pt x="3" y="345"/>
                  </a:cubicBezTo>
                  <a:lnTo>
                    <a:pt x="3" y="320"/>
                  </a:lnTo>
                  <a:cubicBezTo>
                    <a:pt x="3" y="313"/>
                    <a:pt x="8" y="307"/>
                    <a:pt x="15" y="307"/>
                  </a:cubicBezTo>
                  <a:cubicBezTo>
                    <a:pt x="23" y="307"/>
                    <a:pt x="28" y="313"/>
                    <a:pt x="28" y="320"/>
                  </a:cubicBezTo>
                  <a:close/>
                  <a:moveTo>
                    <a:pt x="28" y="397"/>
                  </a:moveTo>
                  <a:lnTo>
                    <a:pt x="28" y="422"/>
                  </a:lnTo>
                  <a:cubicBezTo>
                    <a:pt x="28" y="429"/>
                    <a:pt x="22" y="435"/>
                    <a:pt x="15" y="435"/>
                  </a:cubicBezTo>
                  <a:cubicBezTo>
                    <a:pt x="8" y="435"/>
                    <a:pt x="2" y="429"/>
                    <a:pt x="2" y="422"/>
                  </a:cubicBezTo>
                  <a:lnTo>
                    <a:pt x="3" y="397"/>
                  </a:lnTo>
                  <a:cubicBezTo>
                    <a:pt x="3" y="389"/>
                    <a:pt x="8" y="384"/>
                    <a:pt x="15" y="384"/>
                  </a:cubicBezTo>
                  <a:cubicBezTo>
                    <a:pt x="22" y="384"/>
                    <a:pt x="28" y="389"/>
                    <a:pt x="28" y="397"/>
                  </a:cubicBezTo>
                  <a:close/>
                  <a:moveTo>
                    <a:pt x="28" y="473"/>
                  </a:moveTo>
                  <a:lnTo>
                    <a:pt x="28" y="499"/>
                  </a:lnTo>
                  <a:cubicBezTo>
                    <a:pt x="28" y="506"/>
                    <a:pt x="22" y="512"/>
                    <a:pt x="15" y="512"/>
                  </a:cubicBezTo>
                  <a:cubicBezTo>
                    <a:pt x="8" y="512"/>
                    <a:pt x="2" y="506"/>
                    <a:pt x="2" y="499"/>
                  </a:cubicBezTo>
                  <a:lnTo>
                    <a:pt x="2" y="473"/>
                  </a:lnTo>
                  <a:cubicBezTo>
                    <a:pt x="2" y="466"/>
                    <a:pt x="8" y="461"/>
                    <a:pt x="15" y="461"/>
                  </a:cubicBezTo>
                  <a:cubicBezTo>
                    <a:pt x="22" y="461"/>
                    <a:pt x="28" y="466"/>
                    <a:pt x="28" y="473"/>
                  </a:cubicBezTo>
                  <a:close/>
                  <a:moveTo>
                    <a:pt x="28" y="550"/>
                  </a:moveTo>
                  <a:lnTo>
                    <a:pt x="28" y="576"/>
                  </a:lnTo>
                  <a:cubicBezTo>
                    <a:pt x="28" y="583"/>
                    <a:pt x="22" y="589"/>
                    <a:pt x="15" y="589"/>
                  </a:cubicBezTo>
                  <a:cubicBezTo>
                    <a:pt x="8" y="589"/>
                    <a:pt x="2" y="583"/>
                    <a:pt x="2" y="576"/>
                  </a:cubicBezTo>
                  <a:lnTo>
                    <a:pt x="2" y="550"/>
                  </a:lnTo>
                  <a:cubicBezTo>
                    <a:pt x="2" y="543"/>
                    <a:pt x="8" y="537"/>
                    <a:pt x="15" y="537"/>
                  </a:cubicBezTo>
                  <a:cubicBezTo>
                    <a:pt x="22" y="537"/>
                    <a:pt x="28" y="543"/>
                    <a:pt x="28" y="550"/>
                  </a:cubicBezTo>
                  <a:close/>
                  <a:moveTo>
                    <a:pt x="28" y="627"/>
                  </a:moveTo>
                  <a:lnTo>
                    <a:pt x="28" y="653"/>
                  </a:lnTo>
                  <a:cubicBezTo>
                    <a:pt x="28" y="660"/>
                    <a:pt x="22" y="665"/>
                    <a:pt x="15" y="665"/>
                  </a:cubicBezTo>
                  <a:cubicBezTo>
                    <a:pt x="8" y="665"/>
                    <a:pt x="2" y="660"/>
                    <a:pt x="2" y="653"/>
                  </a:cubicBezTo>
                  <a:lnTo>
                    <a:pt x="2" y="627"/>
                  </a:lnTo>
                  <a:cubicBezTo>
                    <a:pt x="2" y="620"/>
                    <a:pt x="8" y="614"/>
                    <a:pt x="15" y="614"/>
                  </a:cubicBezTo>
                  <a:cubicBezTo>
                    <a:pt x="22" y="614"/>
                    <a:pt x="28" y="620"/>
                    <a:pt x="28" y="627"/>
                  </a:cubicBezTo>
                  <a:close/>
                  <a:moveTo>
                    <a:pt x="28" y="704"/>
                  </a:moveTo>
                  <a:lnTo>
                    <a:pt x="28" y="729"/>
                  </a:lnTo>
                  <a:cubicBezTo>
                    <a:pt x="28" y="736"/>
                    <a:pt x="22" y="742"/>
                    <a:pt x="15" y="742"/>
                  </a:cubicBezTo>
                  <a:cubicBezTo>
                    <a:pt x="8" y="742"/>
                    <a:pt x="2" y="736"/>
                    <a:pt x="2" y="729"/>
                  </a:cubicBezTo>
                  <a:lnTo>
                    <a:pt x="2" y="704"/>
                  </a:lnTo>
                  <a:cubicBezTo>
                    <a:pt x="2" y="697"/>
                    <a:pt x="8" y="691"/>
                    <a:pt x="15" y="691"/>
                  </a:cubicBezTo>
                  <a:cubicBezTo>
                    <a:pt x="22" y="691"/>
                    <a:pt x="28" y="697"/>
                    <a:pt x="28" y="704"/>
                  </a:cubicBezTo>
                  <a:close/>
                  <a:moveTo>
                    <a:pt x="27" y="781"/>
                  </a:moveTo>
                  <a:lnTo>
                    <a:pt x="27" y="806"/>
                  </a:lnTo>
                  <a:cubicBezTo>
                    <a:pt x="27" y="813"/>
                    <a:pt x="22" y="819"/>
                    <a:pt x="15" y="819"/>
                  </a:cubicBezTo>
                  <a:cubicBezTo>
                    <a:pt x="8" y="819"/>
                    <a:pt x="2" y="813"/>
                    <a:pt x="2" y="806"/>
                  </a:cubicBezTo>
                  <a:lnTo>
                    <a:pt x="2" y="781"/>
                  </a:lnTo>
                  <a:cubicBezTo>
                    <a:pt x="2" y="773"/>
                    <a:pt x="8" y="768"/>
                    <a:pt x="15" y="768"/>
                  </a:cubicBezTo>
                  <a:cubicBezTo>
                    <a:pt x="22" y="768"/>
                    <a:pt x="28" y="773"/>
                    <a:pt x="27" y="781"/>
                  </a:cubicBezTo>
                  <a:close/>
                  <a:moveTo>
                    <a:pt x="27" y="857"/>
                  </a:moveTo>
                  <a:lnTo>
                    <a:pt x="27" y="883"/>
                  </a:lnTo>
                  <a:cubicBezTo>
                    <a:pt x="27" y="890"/>
                    <a:pt x="22" y="896"/>
                    <a:pt x="15" y="896"/>
                  </a:cubicBezTo>
                  <a:cubicBezTo>
                    <a:pt x="7" y="896"/>
                    <a:pt x="2" y="890"/>
                    <a:pt x="2" y="883"/>
                  </a:cubicBezTo>
                  <a:lnTo>
                    <a:pt x="2" y="857"/>
                  </a:lnTo>
                  <a:cubicBezTo>
                    <a:pt x="2" y="850"/>
                    <a:pt x="8" y="845"/>
                    <a:pt x="15" y="845"/>
                  </a:cubicBezTo>
                  <a:cubicBezTo>
                    <a:pt x="22" y="845"/>
                    <a:pt x="27" y="850"/>
                    <a:pt x="27" y="857"/>
                  </a:cubicBezTo>
                  <a:close/>
                  <a:moveTo>
                    <a:pt x="27" y="934"/>
                  </a:moveTo>
                  <a:lnTo>
                    <a:pt x="27" y="960"/>
                  </a:lnTo>
                  <a:cubicBezTo>
                    <a:pt x="27" y="967"/>
                    <a:pt x="21" y="973"/>
                    <a:pt x="14" y="973"/>
                  </a:cubicBezTo>
                  <a:cubicBezTo>
                    <a:pt x="7" y="973"/>
                    <a:pt x="2" y="967"/>
                    <a:pt x="2" y="960"/>
                  </a:cubicBezTo>
                  <a:lnTo>
                    <a:pt x="2" y="934"/>
                  </a:lnTo>
                  <a:cubicBezTo>
                    <a:pt x="2" y="927"/>
                    <a:pt x="7" y="921"/>
                    <a:pt x="14" y="921"/>
                  </a:cubicBezTo>
                  <a:cubicBezTo>
                    <a:pt x="22" y="921"/>
                    <a:pt x="27" y="927"/>
                    <a:pt x="27" y="934"/>
                  </a:cubicBezTo>
                  <a:close/>
                  <a:moveTo>
                    <a:pt x="27" y="1011"/>
                  </a:moveTo>
                  <a:lnTo>
                    <a:pt x="27" y="1037"/>
                  </a:lnTo>
                  <a:cubicBezTo>
                    <a:pt x="27" y="1044"/>
                    <a:pt x="21" y="1049"/>
                    <a:pt x="14" y="1049"/>
                  </a:cubicBezTo>
                  <a:cubicBezTo>
                    <a:pt x="7" y="1049"/>
                    <a:pt x="1" y="1044"/>
                    <a:pt x="1" y="1037"/>
                  </a:cubicBezTo>
                  <a:lnTo>
                    <a:pt x="2" y="1011"/>
                  </a:lnTo>
                  <a:cubicBezTo>
                    <a:pt x="2" y="1004"/>
                    <a:pt x="7" y="998"/>
                    <a:pt x="14" y="998"/>
                  </a:cubicBezTo>
                  <a:cubicBezTo>
                    <a:pt x="21" y="998"/>
                    <a:pt x="27" y="1004"/>
                    <a:pt x="27" y="1011"/>
                  </a:cubicBezTo>
                  <a:close/>
                  <a:moveTo>
                    <a:pt x="27" y="1088"/>
                  </a:moveTo>
                  <a:lnTo>
                    <a:pt x="27" y="1113"/>
                  </a:lnTo>
                  <a:cubicBezTo>
                    <a:pt x="27" y="1120"/>
                    <a:pt x="21" y="1126"/>
                    <a:pt x="14" y="1126"/>
                  </a:cubicBezTo>
                  <a:cubicBezTo>
                    <a:pt x="7" y="1126"/>
                    <a:pt x="1" y="1120"/>
                    <a:pt x="1" y="1113"/>
                  </a:cubicBezTo>
                  <a:lnTo>
                    <a:pt x="1" y="1088"/>
                  </a:lnTo>
                  <a:cubicBezTo>
                    <a:pt x="1" y="1081"/>
                    <a:pt x="7" y="1075"/>
                    <a:pt x="14" y="1075"/>
                  </a:cubicBezTo>
                  <a:cubicBezTo>
                    <a:pt x="21" y="1075"/>
                    <a:pt x="27" y="1081"/>
                    <a:pt x="27" y="1088"/>
                  </a:cubicBezTo>
                  <a:close/>
                  <a:moveTo>
                    <a:pt x="27" y="1165"/>
                  </a:moveTo>
                  <a:lnTo>
                    <a:pt x="27" y="1190"/>
                  </a:lnTo>
                  <a:cubicBezTo>
                    <a:pt x="27" y="1197"/>
                    <a:pt x="21" y="1203"/>
                    <a:pt x="14" y="1203"/>
                  </a:cubicBezTo>
                  <a:cubicBezTo>
                    <a:pt x="7" y="1203"/>
                    <a:pt x="1" y="1197"/>
                    <a:pt x="1" y="1190"/>
                  </a:cubicBezTo>
                  <a:lnTo>
                    <a:pt x="1" y="1165"/>
                  </a:lnTo>
                  <a:cubicBezTo>
                    <a:pt x="1" y="1157"/>
                    <a:pt x="7" y="1152"/>
                    <a:pt x="14" y="1152"/>
                  </a:cubicBezTo>
                  <a:cubicBezTo>
                    <a:pt x="21" y="1152"/>
                    <a:pt x="27" y="1157"/>
                    <a:pt x="27" y="1165"/>
                  </a:cubicBezTo>
                  <a:close/>
                  <a:moveTo>
                    <a:pt x="27" y="1241"/>
                  </a:moveTo>
                  <a:lnTo>
                    <a:pt x="27" y="1267"/>
                  </a:lnTo>
                  <a:cubicBezTo>
                    <a:pt x="27" y="1274"/>
                    <a:pt x="21" y="1280"/>
                    <a:pt x="14" y="1280"/>
                  </a:cubicBezTo>
                  <a:cubicBezTo>
                    <a:pt x="7" y="1280"/>
                    <a:pt x="1" y="1274"/>
                    <a:pt x="1" y="1267"/>
                  </a:cubicBezTo>
                  <a:lnTo>
                    <a:pt x="1" y="1241"/>
                  </a:lnTo>
                  <a:cubicBezTo>
                    <a:pt x="1" y="1234"/>
                    <a:pt x="7" y="1229"/>
                    <a:pt x="14" y="1229"/>
                  </a:cubicBezTo>
                  <a:cubicBezTo>
                    <a:pt x="21" y="1229"/>
                    <a:pt x="27" y="1234"/>
                    <a:pt x="27" y="1241"/>
                  </a:cubicBezTo>
                  <a:close/>
                  <a:moveTo>
                    <a:pt x="27" y="1318"/>
                  </a:moveTo>
                  <a:lnTo>
                    <a:pt x="27" y="1344"/>
                  </a:lnTo>
                  <a:cubicBezTo>
                    <a:pt x="27" y="1351"/>
                    <a:pt x="21" y="1357"/>
                    <a:pt x="14" y="1357"/>
                  </a:cubicBezTo>
                  <a:cubicBezTo>
                    <a:pt x="7" y="1357"/>
                    <a:pt x="1" y="1351"/>
                    <a:pt x="1" y="1344"/>
                  </a:cubicBezTo>
                  <a:lnTo>
                    <a:pt x="1" y="1318"/>
                  </a:lnTo>
                  <a:cubicBezTo>
                    <a:pt x="1" y="1311"/>
                    <a:pt x="7" y="1305"/>
                    <a:pt x="14" y="1305"/>
                  </a:cubicBezTo>
                  <a:cubicBezTo>
                    <a:pt x="21" y="1305"/>
                    <a:pt x="27" y="1311"/>
                    <a:pt x="27" y="1318"/>
                  </a:cubicBezTo>
                  <a:close/>
                  <a:moveTo>
                    <a:pt x="27" y="1395"/>
                  </a:moveTo>
                  <a:lnTo>
                    <a:pt x="26" y="1421"/>
                  </a:lnTo>
                  <a:cubicBezTo>
                    <a:pt x="26" y="1428"/>
                    <a:pt x="21" y="1433"/>
                    <a:pt x="14" y="1433"/>
                  </a:cubicBezTo>
                  <a:cubicBezTo>
                    <a:pt x="7" y="1433"/>
                    <a:pt x="1" y="1428"/>
                    <a:pt x="1" y="1421"/>
                  </a:cubicBezTo>
                  <a:lnTo>
                    <a:pt x="1" y="1395"/>
                  </a:lnTo>
                  <a:cubicBezTo>
                    <a:pt x="1" y="1388"/>
                    <a:pt x="7" y="1382"/>
                    <a:pt x="14" y="1382"/>
                  </a:cubicBezTo>
                  <a:cubicBezTo>
                    <a:pt x="21" y="1382"/>
                    <a:pt x="27" y="1388"/>
                    <a:pt x="27" y="1395"/>
                  </a:cubicBezTo>
                  <a:close/>
                  <a:moveTo>
                    <a:pt x="26" y="1472"/>
                  </a:moveTo>
                  <a:lnTo>
                    <a:pt x="26" y="1497"/>
                  </a:lnTo>
                  <a:cubicBezTo>
                    <a:pt x="26" y="1504"/>
                    <a:pt x="21" y="1510"/>
                    <a:pt x="14" y="1510"/>
                  </a:cubicBezTo>
                  <a:cubicBezTo>
                    <a:pt x="6" y="1510"/>
                    <a:pt x="1" y="1504"/>
                    <a:pt x="1" y="1497"/>
                  </a:cubicBezTo>
                  <a:lnTo>
                    <a:pt x="1" y="1472"/>
                  </a:lnTo>
                  <a:cubicBezTo>
                    <a:pt x="1" y="1465"/>
                    <a:pt x="7" y="1459"/>
                    <a:pt x="14" y="1459"/>
                  </a:cubicBezTo>
                  <a:cubicBezTo>
                    <a:pt x="21" y="1459"/>
                    <a:pt x="26" y="1465"/>
                    <a:pt x="26" y="1472"/>
                  </a:cubicBezTo>
                  <a:close/>
                  <a:moveTo>
                    <a:pt x="26" y="1549"/>
                  </a:moveTo>
                  <a:lnTo>
                    <a:pt x="26" y="1574"/>
                  </a:lnTo>
                  <a:cubicBezTo>
                    <a:pt x="26" y="1581"/>
                    <a:pt x="20" y="1587"/>
                    <a:pt x="13" y="1587"/>
                  </a:cubicBezTo>
                  <a:cubicBezTo>
                    <a:pt x="6" y="1587"/>
                    <a:pt x="1" y="1581"/>
                    <a:pt x="1" y="1574"/>
                  </a:cubicBezTo>
                  <a:lnTo>
                    <a:pt x="1" y="1549"/>
                  </a:lnTo>
                  <a:cubicBezTo>
                    <a:pt x="1" y="1541"/>
                    <a:pt x="6" y="1536"/>
                    <a:pt x="13" y="1536"/>
                  </a:cubicBezTo>
                  <a:cubicBezTo>
                    <a:pt x="21" y="1536"/>
                    <a:pt x="26" y="1541"/>
                    <a:pt x="26" y="1549"/>
                  </a:cubicBezTo>
                  <a:close/>
                  <a:moveTo>
                    <a:pt x="26" y="1625"/>
                  </a:moveTo>
                  <a:lnTo>
                    <a:pt x="26" y="1651"/>
                  </a:lnTo>
                  <a:cubicBezTo>
                    <a:pt x="26" y="1658"/>
                    <a:pt x="20" y="1664"/>
                    <a:pt x="13" y="1664"/>
                  </a:cubicBezTo>
                  <a:cubicBezTo>
                    <a:pt x="6" y="1664"/>
                    <a:pt x="0" y="1658"/>
                    <a:pt x="1" y="1651"/>
                  </a:cubicBezTo>
                  <a:lnTo>
                    <a:pt x="1" y="1625"/>
                  </a:lnTo>
                  <a:cubicBezTo>
                    <a:pt x="1" y="1618"/>
                    <a:pt x="6" y="1613"/>
                    <a:pt x="13" y="1613"/>
                  </a:cubicBezTo>
                  <a:cubicBezTo>
                    <a:pt x="20" y="1613"/>
                    <a:pt x="26" y="1618"/>
                    <a:pt x="26" y="1625"/>
                  </a:cubicBezTo>
                  <a:close/>
                  <a:moveTo>
                    <a:pt x="26" y="1702"/>
                  </a:moveTo>
                  <a:lnTo>
                    <a:pt x="26" y="1728"/>
                  </a:lnTo>
                  <a:cubicBezTo>
                    <a:pt x="26" y="1735"/>
                    <a:pt x="20" y="1741"/>
                    <a:pt x="13" y="1741"/>
                  </a:cubicBezTo>
                  <a:cubicBezTo>
                    <a:pt x="6" y="1741"/>
                    <a:pt x="0" y="1735"/>
                    <a:pt x="0" y="1728"/>
                  </a:cubicBezTo>
                  <a:lnTo>
                    <a:pt x="0" y="1702"/>
                  </a:lnTo>
                  <a:cubicBezTo>
                    <a:pt x="0" y="1695"/>
                    <a:pt x="6" y="1689"/>
                    <a:pt x="13" y="1689"/>
                  </a:cubicBezTo>
                  <a:cubicBezTo>
                    <a:pt x="20" y="1689"/>
                    <a:pt x="26" y="1695"/>
                    <a:pt x="26" y="17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4160" y="3429000"/>
              <a:ext cx="23760" cy="86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5640" y="5184720"/>
              <a:ext cx="798480" cy="1800"/>
            </a:xfrm>
            <a:prstGeom prst="line">
              <a:avLst/>
            </a:prstGeom>
            <a:ln cap="rnd" w="74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800" y="5091120"/>
              <a:ext cx="280800" cy="189000"/>
            </a:xfrm>
            <a:custGeom>
              <a:avLst/>
              <a:gdLst/>
              <a:ahLst/>
              <a:rect l="l" t="t" r="r" b="b"/>
              <a:pathLst>
                <a:path w="177" h="119">
                  <a:moveTo>
                    <a:pt x="177" y="119"/>
                  </a:moveTo>
                  <a:lnTo>
                    <a:pt x="0" y="59"/>
                  </a:lnTo>
                  <a:lnTo>
                    <a:pt x="177" y="0"/>
                  </a:lnTo>
                  <a:lnTo>
                    <a:pt x="177" y="11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0360" y="5091120"/>
              <a:ext cx="282600" cy="189000"/>
            </a:xfrm>
            <a:custGeom>
              <a:avLst/>
              <a:gdLst/>
              <a:ahLst/>
              <a:rect l="l" t="t" r="r" b="b"/>
              <a:pathLst>
                <a:path w="178" h="119">
                  <a:moveTo>
                    <a:pt x="0" y="0"/>
                  </a:moveTo>
                  <a:lnTo>
                    <a:pt x="178" y="59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96320" y="5191200"/>
              <a:ext cx="145800" cy="0"/>
            </a:xfrm>
            <a:prstGeom prst="line">
              <a:avLst/>
            </a:prstGeom>
            <a:ln cap="rnd" w="74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26320" y="5091120"/>
              <a:ext cx="281160" cy="189000"/>
            </a:xfrm>
            <a:custGeom>
              <a:avLst/>
              <a:gdLst/>
              <a:ahLst/>
              <a:rect l="l" t="t" r="r" b="b"/>
              <a:pathLst>
                <a:path w="177" h="119">
                  <a:moveTo>
                    <a:pt x="177" y="119"/>
                  </a:moveTo>
                  <a:lnTo>
                    <a:pt x="0" y="59"/>
                  </a:lnTo>
                  <a:lnTo>
                    <a:pt x="177" y="0"/>
                  </a:lnTo>
                  <a:lnTo>
                    <a:pt x="177" y="1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96400" y="5091120"/>
              <a:ext cx="282600" cy="189000"/>
            </a:xfrm>
            <a:custGeom>
              <a:avLst/>
              <a:gdLst/>
              <a:ahLst/>
              <a:rect l="l" t="t" r="r" b="b"/>
              <a:pathLst>
                <a:path w="178" h="119">
                  <a:moveTo>
                    <a:pt x="0" y="0"/>
                  </a:moveTo>
                  <a:lnTo>
                    <a:pt x="178" y="59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GNSO Ad-Hoc Working Grou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ed in/after Puerto Rico Mee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oss Constituency represent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signed to accumulate findings and research for presentation to GNSO Counci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0" y="5238720"/>
            <a:ext cx="3400560" cy="952560"/>
          </a:xfrm>
          <a:prstGeom prst="leftRightArrow">
            <a:avLst>
              <a:gd name="adj1" fmla="val 50000"/>
              <a:gd name="adj2" fmla="val 71067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reate new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90520" y="5334120"/>
            <a:ext cx="3381480" cy="771480"/>
          </a:xfrm>
          <a:custGeom>
            <a:avLst/>
            <a:gdLst>
              <a:gd name="textAreaLeft" fmla="*/ 528120 w 3381480"/>
              <a:gd name="textAreaRight" fmla="*/ 2958840 w 338148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olve current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ndulum Effe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ddressing Domain Tasting is the Objectiv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Solutions Create New Proble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033200" y="3320640"/>
            <a:ext cx="7076880" cy="20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59" y="0"/>
                </a:moveTo>
                <a:arcTo wR="10800" hR="10800" stAng="-5381209" swAng="4405936"/>
                <a:lnTo>
                  <a:pt x="10800" y="10800"/>
                </a:lnTo>
                <a:close/>
              </a:path>
              <a:path fill="none" w="21600" h="21600">
                <a:moveTo>
                  <a:pt x="10859" y="0"/>
                </a:moveTo>
                <a:arcTo wR="10800" hR="10800" stAng="-5381209" swAng="4405936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52360" y="3533760"/>
            <a:ext cx="6801120" cy="2495520"/>
            <a:chOff x="1152360" y="3533760"/>
            <a:chExt cx="6801120" cy="2495520"/>
          </a:xfrm>
        </p:grpSpPr>
        <p:sp>
          <p:nvSpPr>
            <p:cNvPr id="244" name=""/>
            <p:cNvSpPr/>
            <p:nvPr/>
          </p:nvSpPr>
          <p:spPr>
            <a:xfrm flipV="1">
              <a:off x="1152360" y="3533760"/>
              <a:ext cx="0" cy="24955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552920" y="3533760"/>
              <a:ext cx="0" cy="24955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953480" y="3533760"/>
              <a:ext cx="0" cy="24955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80960" y="3105000"/>
            <a:ext cx="1295640" cy="371520"/>
          </a:xfrm>
          <a:prstGeom prst="borderCallout1">
            <a:avLst>
              <a:gd name="adj1" fmla="val 18750"/>
              <a:gd name="adj2" fmla="val -8333"/>
              <a:gd name="adj3" fmla="val 128203"/>
              <a:gd name="adj4" fmla="val -2132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bl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352240" y="2817720"/>
            <a:ext cx="193356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860400" y="2554200"/>
            <a:ext cx="7076160" cy="208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56" y="1662"/>
                </a:moveTo>
                <a:arcTo wR="10800" hR="10800" stAng="-3467693" swAng="2234538"/>
                <a:lnTo>
                  <a:pt x="10800" y="10800"/>
                </a:lnTo>
                <a:close/>
              </a:path>
              <a:path fill="none" w="21600" h="21600">
                <a:moveTo>
                  <a:pt x="16556" y="1662"/>
                </a:moveTo>
                <a:arcTo wR="10800" hR="10800" stAng="-3467693" swAng="22345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033200" y="2343600"/>
            <a:ext cx="7076880" cy="208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02" y="1507"/>
                </a:moveTo>
                <a:arcTo wR="10800" hR="10800" stAng="-3562365" swAng="2587093"/>
                <a:lnTo>
                  <a:pt x="10800" y="10800"/>
                </a:lnTo>
                <a:close/>
              </a:path>
              <a:path fill="none" w="21600" h="21600">
                <a:moveTo>
                  <a:pt x="16302" y="1507"/>
                </a:moveTo>
                <a:arcTo wR="10800" hR="10800" stAng="-3562365" swAng="258709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118880" y="2132280"/>
            <a:ext cx="7076880" cy="20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41" y="1357"/>
                </a:moveTo>
                <a:arcTo wR="10800" hR="10800" stAng="-3658289" swAng="2683016"/>
                <a:lnTo>
                  <a:pt x="10800" y="10800"/>
                </a:lnTo>
                <a:close/>
              </a:path>
              <a:path fill="none" w="21600" h="21600">
                <a:moveTo>
                  <a:pt x="16041" y="1357"/>
                </a:moveTo>
                <a:arcTo wR="10800" hR="10800" stAng="-3658289" swAng="268301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52800" y="4537080"/>
            <a:ext cx="387360" cy="387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48080" y="3095640"/>
            <a:ext cx="961920" cy="371520"/>
          </a:xfrm>
          <a:prstGeom prst="borderCallout1">
            <a:avLst>
              <a:gd name="adj1" fmla="val 18750"/>
              <a:gd name="adj2" fmla="val -8333"/>
              <a:gd name="adj3" fmla="val 187180"/>
              <a:gd name="adj4" fmla="val -1584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331040" y="5508720"/>
            <a:ext cx="797040" cy="834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078440" y="5505480"/>
            <a:ext cx="987120" cy="849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795240" y="5460840"/>
            <a:ext cx="720720" cy="920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714840" y="38005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19120" y="3772080"/>
            <a:ext cx="103824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fefefe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ndulum Effe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lem exists at one side of pendulu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lution exists in cent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w Problems / Burdens created when pendulum switches sid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ortant to not create undue cost or burden to Registrars and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d to Educate and Encourage Appropriate Ac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t Pendulum to Cent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ome Proposed Solut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These are certainly not all of the possible solutions, nor are they necessarily recommended by the Registrar Constituency”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chnical Disincen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liminate AGP Entirel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ctivate in DNS upon committed paymen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ncial Disincen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reshold-based Restocking Fee (PIR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ke ICANN Fee Non-Refunda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nforce RAA §3.7.4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Garamond"/>
              </a:rPr>
              <a:t>ICANN Staff opinion is this does not apply via §3.7.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atus Qu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ook at how recent GTLD price increases impact current activit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199880" y="4734000"/>
            <a:ext cx="373356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Focus on Impact From Chang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of the proposed methods of addressing Domain Tasting could adversely impact registra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chnical Chang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PP Command Change (delayed activa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siness Logic Change (delayed activation, AGP elimina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 Experience changes due to technical chang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art process, management portal, customer service back office (requires re-engineering for delayed activation, AGP elimina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ncial Chang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gher cost of remedy for registrant issues (restocking fee, ICANN fee, elimination of AGP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gher general cost per unit [again] (under circumstances of threshold – restocking fe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7:52:17Z</dcterms:created>
  <dc:creator>jothan.frakes</dc:creator>
  <dc:description/>
  <dc:language>en-US</dc:language>
  <cp:lastModifiedBy>jothan.frakes</cp:lastModifiedBy>
  <dcterms:modified xsi:type="dcterms:W3CDTF">2007-10-30T17:19:27Z</dcterms:modified>
  <cp:revision>14</cp:revision>
  <dc:subject/>
  <dc:title>DTWG Report Update</dc:title>
</cp:coreProperties>
</file>