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D8D-1CA9-460F-959D-2B2824D2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CD2-B506-46AB-8675-A09E9DA4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45F-B3F3-4A42-8133-68CC26DF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789-9700-469F-AB10-C16DF18A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417D-133E-419A-8BAB-24420B7F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AE5D-E183-4DBD-9350-588213FC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DFFE-687B-40D1-B823-21C16AA5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407A-14C3-49A7-A051-C5647793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BCFE-5A8E-4485-BCE9-6F8BCB09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A41A-25E7-43B6-A9F7-51EBA538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1DAF-2DC9-404B-B81C-2E75A56B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79F-96F1-4DC5-9A5C-4943F9D4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EED8-1BF9-4CC9-92F9-0D7B0EBA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EE95-1F09-48CF-8F6E-2D749D9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8111-5395-4A27-B64B-CEDE9595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3C55-C9D3-419B-84C5-1F8BDD03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C934-F37F-48D5-9FED-B4BB3139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2F8-869D-4916-B5A8-ED41964F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549-6B4A-4AC4-9ABE-32A3FA63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119-3176-4B00-BCCE-1AE69A96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460-5971-48C6-8E82-F81885A2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053-56A9-4135-A648-5F2C161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51F-09CE-4A64-AA04-841E5369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3C8-F571-4ABB-AA1B-19C35121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5DFC-E8D5-4B0F-B698-25AE0013A55A}" type="slidenum">
              <a: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8546-B063-4476-AD34-4B390B3F615A}" type="slidenum">
              <a: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IDN President’s Advisory Committe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tatus Repor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By Yoav Keren, CEO of Domain The Ne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DN had a significant role in the debate regarding ICANN’s governance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aked in the November 2005 WSIS meeting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November 23</a:t>
            </a:r>
            <a:r>
              <a:rPr b="0" lang="en-US" sz="2800" spc="-1" strike="noStrike" baseline="30000">
                <a:solidFill>
                  <a:srgbClr val="080808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– ICANN announces the IDN PAC to “</a:t>
            </a:r>
            <a:r>
              <a:rPr b="0" i="1" lang="en-US" sz="2800" spc="-1" strike="noStrike">
                <a:solidFill>
                  <a:srgbClr val="080808"/>
                </a:solidFill>
                <a:latin typeface="Tahoma"/>
              </a:rPr>
              <a:t>provide the Board and ICANN community with advice on issues that relate to IDN policies, in particular issues that impact the implementation of IDN especially at the top level”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DN workshop held in Vancouver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H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  <a:ea typeface="Tahoma"/>
              </a:rPr>
              <a:t>istory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CANN launched a testbed of IDN.com (Hybrid IDN) in 2001 through Verisign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eople are not using these name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ose who need IDN are waiting for a full IDN: &lt;IDN&gt;.&lt;IDN-TLD&gt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echnology developed in the University of Singapore in 1998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everal implementations of &lt;IDN&gt;.&lt;IDN-TLD&gt; since 1999 using plug-ins or ISP’s DNS patch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Verisign used the same technology for its &lt;IDN&gt;.com plug-in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n IDN TLD in the root zone will cancel the need for plug-ins or DNS patche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urrent IDN PAC propos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fter its 3</a:t>
            </a:r>
            <a:r>
              <a:rPr b="0" lang="en-US" sz="3200" spc="-1" strike="noStrike" baseline="30000">
                <a:solidFill>
                  <a:srgbClr val="080808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con-call, the IDN PAC announced on March 14 the timetable for a proposed test of IDN TLD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chnology to be tested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NAMEs – an alias to the TLD (new solution)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NS-Records – root entry of an IDN TLD (based on the known technology)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roblems with the tes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Katho committee for IDN said 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olicy should be resolved before technology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(since technology is already available)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Not clear if there was really a decision to go for a test in the Vancouver workshop. Also - 10 out of 22 IDN PAC members voted on the announcement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DNAMEs is a solution that explicitly dictates policy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urrent Project Draft says: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Only current registries can participate.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ree registrations. No policy for registrations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Names are deleted after 60 days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808"/>
                </a:solidFill>
                <a:latin typeface="Tahoma"/>
              </a:rPr>
              <a:t>Problems: Only incumbents. Public confusion. Can be exploited for Phishing and Pharming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ost parts of DNAME test can be done in a lab (NS-records already tested)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0:33:53Z</dcterms:created>
  <dc:creator>Yoav</dc:creator>
  <dc:description/>
  <cp:keywords/>
  <dc:language>en-US</dc:language>
  <cp:lastModifiedBy>Yoav</cp:lastModifiedBy>
  <dcterms:modified xsi:type="dcterms:W3CDTF">2006-03-27T01:17:16Z</dcterms:modified>
  <cp:revision>8</cp:revision>
  <dc:subject/>
  <dc:title>IDN President’s Advisor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7</vt:lpwstr>
  </property>
</Properties>
</file>