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A48-4FBB-4449-AE7E-6CB1E1A7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52E-EC8D-4E09-9C4B-2308A3EF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F0E-B844-4FD6-BA17-BB61A0DB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573-DD90-4162-8DFB-44AE87B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609E-97E0-4CA0-808A-6017EBB0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7276-FD26-4529-8BB7-CE42926C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8FF2-3339-4C1C-8486-CB66779D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21E9-D2D5-4A7E-B33F-10A4F7F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936-B4CC-4158-BE16-F08E5B1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CEE5-3B5F-4EAC-AF14-AC364BE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ED4-A4C0-4D8E-8406-05F6771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1C0-5865-4802-8BAD-4B85EC4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51FC-F8B2-47C7-AF2F-7A36741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DD5-C502-495D-BAEA-D6A2962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6EA7-078F-4E18-966A-0AB6693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7FB-000D-4D86-A6C0-75B05633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EABE-2F5C-4270-8D18-9A8F8379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606-E930-4E2B-9F53-E24A656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7F8-E884-4FC6-8743-3608111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E66-532D-4D4C-8AA3-D72B2B4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8F9-B24B-46F0-B52B-9E08FD82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160-204B-41EA-BF7B-1DA1124D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C21-31EA-4570-A778-AA3DFFCC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D54-1A7B-45D3-80A4-4FB4B3E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B987-22DF-4A56-A43E-93D4C79BFD3F}" type="slidenum"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A53-1936-473D-BB00-206101FE33ED}" type="slidenum">
              <a:rPr b="0" lang="he-IL" sz="1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DN President’s Advisory Committe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tatus Repor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By Yoav Keren, CEO of Domain The Ne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DN had a significant role in the debate regarding ICANN’s governance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aked in the November 2005 WSIS meeting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ovember 23</a:t>
            </a:r>
            <a:r>
              <a:rPr b="0" lang="en-US" sz="2800" spc="-1" strike="noStrike" baseline="30000">
                <a:solidFill>
                  <a:srgbClr val="080808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– ICANN announces the IDN PAC to “</a:t>
            </a:r>
            <a:r>
              <a:rPr b="0" i="1" lang="en-US" sz="2800" spc="-1" strike="noStrike">
                <a:solidFill>
                  <a:srgbClr val="080808"/>
                </a:solidFill>
                <a:latin typeface="Tahoma"/>
              </a:rPr>
              <a:t>provide the Board and ICANN community with advice on issues that relate to IDN policies, in particular issues that impact the implementation of IDN especially at the top level”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DN workshop held in Vancouve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080808"/>
                </a:solidFill>
                <a:latin typeface="Tahoma"/>
                <a:ea typeface="Tahoma"/>
              </a:rPr>
              <a:t>istory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CANN launched a testbed of IDN.com (Hybrid IDN) in 2001 through Verisig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eople are not using these nam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ose who need IDN are waiting for a full IDN: &lt;IDN&gt;.&lt;IDN-TLD&gt;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echnology developed in the University of Singapore in 1998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veral implementations of &lt;IDN&gt;.&lt;IDN-TLD&gt; since 1999 using plug-ins or ISP’s DNS patch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erisign used the same technology for its &lt;IDN&gt;.com plug-i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n IDN TLD in the root zone will cancel the need for plug-ins or DNS patch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urrent IDN PAC propos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fter its 3</a:t>
            </a:r>
            <a:r>
              <a:rPr b="0" lang="en-US" sz="3200" spc="-1" strike="noStrike" baseline="30000">
                <a:solidFill>
                  <a:srgbClr val="080808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con-call, the IDN PAC announced on March 14 the timetable for a proposed test of IDN TLD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chnology to be tested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NAMEs – an alias to the TLD (new solution)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S-Records – root entry of an IDN TLD (based on the known technology)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 with the tes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Katho committee for IDN said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olicy should be resolved before technology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(since technology is already available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Not clear if there was really a decision to go for a test in the Vancouver workshop. Also - 10 out of 22 IDN PAC members voted on the announceme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DNAMEs is a solution that explicitly dictates policy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urrent Project Draft says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nly current registries can participate. 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 registrations. No policy for registration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Names are deleted after 60 days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Tahoma"/>
              </a:rPr>
              <a:t>Problems: Only incumbents. Public confusion. Can be exploited for Phishing and Pharming.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parts of DNAME test can be done in a lab (NS-records already tested)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0:33:53Z</dcterms:created>
  <dc:creator>Yoav</dc:creator>
  <dc:description/>
  <cp:keywords/>
  <dc:language>en-US</dc:language>
  <cp:lastModifiedBy>Yoav</cp:lastModifiedBy>
  <dcterms:modified xsi:type="dcterms:W3CDTF">2006-03-27T01:17:16Z</dcterms:modified>
  <cp:revision>8</cp:revision>
  <dc:subject/>
  <dc:title>IDN President’s Advisory Committ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7</vt:lpwstr>
  </property>
</Properties>
</file>