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1DC-B519-450D-BC2B-6654F23C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299-3261-4BB5-9C9D-D1F292B6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0A0-C660-43DC-A9E8-68947268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E92-9A18-4451-8046-9A12A654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A0C-99FD-4391-BBF0-6349290A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974-55B3-445A-9B10-7442ED6F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1E8-E68C-413E-A72C-95B0357B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308-7446-4412-BEC6-842A7454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E3D-E96F-49A9-B410-84DA1ADE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9E6-8589-4874-AA03-0DD90B8C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042-EB62-46D9-A16B-901A7A18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4A8-A45C-4BB1-80E3-5C875AF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5B2B-CDF5-4D1B-8A2D-7507E2BE5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cann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spcp.info/" TargetMode="External"/><Relationship Id="rId2" Type="http://schemas.openxmlformats.org/officeDocument/2006/relationships/hyperlink" Target="mailto:secretariat@ispcp.info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vitation to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CANN GNSO ISP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N XXX – October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et Service Providers Connectivity Providers Constituency, ICANN Generic Names Support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CA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Corporation for Assigned Names and Numbers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cann.org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s the global Internet’s unique identifiers and stable operation of the system of them, at the glob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Names, IP numbers and protoco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eetings held in a year touring all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ANN Organization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N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eneric Names Support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s responsible for developing substantive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policies relating to gTLD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(generic top-level domains) and recommending them to the ICAN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ulti-stakeholder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tracted &amp; Non-Contracted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takeholder Groups and Constituencies to represent various 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SO Organization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44280"/>
            <a:ext cx="8858160" cy="68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00720" y="5373720"/>
            <a:ext cx="1958760" cy="3603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5661000"/>
            <a:ext cx="647640" cy="57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720" y="5969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 are 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SP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ervice Providers and Connectivity Providers Constit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GNSO, and its Commercial Stakehold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Criteria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Ps, carriers and associations of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:  It’s YOU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058920" y="4581000"/>
            <a:ext cx="360360" cy="863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You are being much more influenced by gTLD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00+ new gTLDs are being injected into the root DNS zone in a couple of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e you familiar with the detai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o impact to you in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 ISPCP, you can get involved to gTLD policy making process and have closer ey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spcp.info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ecretariat@ispcp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ry you’ve just missed ICANN Toronto 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participants and ask how it w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ICANN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jing, China, 7 – 11 April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68880" y="5013360"/>
            <a:ext cx="30402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0T02:27:29Z</dcterms:created>
  <dc:creator>MAEMURA Akinori</dc:creator>
  <dc:description/>
  <dc:language>en-US</dc:language>
  <cp:lastModifiedBy>MAEMURA Akinori</cp:lastModifiedBy>
  <dcterms:modified xsi:type="dcterms:W3CDTF">2012-10-24T01:28:07Z</dcterms:modified>
  <cp:revision>7</cp:revision>
  <dc:subject/>
  <dc:title>Invitation to ICANN GNSO ISPCP</dc:title>
</cp:coreProperties>
</file>