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F6B0-322E-4D30-A5BE-2B88C480E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FCE1-2F52-4F23-BFE0-1E36A45A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CF0B-58F8-4082-82D9-8F6BDC1A5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8EA3-3272-4827-9E34-7A1EE7580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4ACF-8C6D-4EFE-8C4C-BA3BDB68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C057-0ACB-485B-9439-E47EE980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2527-37DA-4B8E-9005-1FB7B8AB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E198-1C38-4F8E-9A91-E5EFC303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AED9-F4D6-4248-B4CB-47B98EA7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9B0F-1029-4BCC-9DBE-3189725B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9A16-544B-40AB-8461-A1182364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864D-93FB-46A7-8B64-F78E3D90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AA3C-839F-4B6E-BB62-97D4443C9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cann.org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spcp.info/" TargetMode="External"/><Relationship Id="rId2" Type="http://schemas.openxmlformats.org/officeDocument/2006/relationships/hyperlink" Target="mailto:secretariat@ispcp.info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vitation to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CANN GNSO ISP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IN XXX – October,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net Service Providers Connectivity Providers Constituency, ICANN Generic Names Supporting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ICAN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Corporation for Assigned Names and Numbers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cann.org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s the global Internet’s unique identifiers and stable operation of the system of them, at the glob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ain Names, IP numbers and protoco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meetings held in a year touring all around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093080" y="0"/>
            <a:ext cx="20509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ANN Organization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544680"/>
            <a:ext cx="914400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GN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Generic Names Supporting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s responsible for developing substantive </a:t>
            </a: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policies relating to gTLD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(generic top-level domains) and recommending them to the ICANN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ulti-stakeholder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tracted &amp; Non-Contracted Pa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takeholder Groups and Constituencies to represent various st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NSO Organization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44280"/>
            <a:ext cx="8858160" cy="6850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00720" y="5373720"/>
            <a:ext cx="1958760" cy="36036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5661000"/>
            <a:ext cx="647640" cy="5763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720" y="596916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e are her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ISP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Service Providers and Connectivity Providers Constit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in GNSO, and its Commercial Stakeholder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ship Criteria: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SPs, carriers and associations of th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mportant:  It’s YOU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3058920" y="4581000"/>
            <a:ext cx="360360" cy="8636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You are being much more influenced by gTLD poli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00+ new gTLDs are being injected into the root DNS zone in a couple of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e you familiar with the detai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o impact to you in fu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n ISPCP, you can get involved to gTLD policy making process and have closer ey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spcp.info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 to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ecretariat@ispcp.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ry you’ve just missed ICANN Toronto last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participants and ask how it wa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ICANN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ijing, China, 7 – 11 April,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068880" y="5013360"/>
            <a:ext cx="304020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0T02:27:29Z</dcterms:created>
  <dc:creator>MAEMURA Akinori</dc:creator>
  <dc:description/>
  <dc:language>en-US</dc:language>
  <cp:lastModifiedBy>MAEMURA Akinori</cp:lastModifiedBy>
  <dcterms:modified xsi:type="dcterms:W3CDTF">2012-10-24T01:28:07Z</dcterms:modified>
  <cp:revision>7</cp:revision>
  <dc:subject/>
  <dc:title>Invitation to ICANN GNSO ISPCP</dc:title>
</cp:coreProperties>
</file>