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522-A189-465C-BAB2-C8D407ED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3A2-309C-43D8-9E00-E435D063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9C9-0136-4AA3-BF8F-56A25E65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1AD-8452-409D-BCA2-CD97F5E3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76E-8362-48FD-8403-CCB72EE6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760-FF7F-4826-BF37-5D026075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81F-17EA-4C41-9DFA-35B01D7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55F-D27A-4729-9ABD-8F566010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6E7-506E-4418-BB7D-294CBF60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71F-5D63-4773-BC98-9F2E241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912-6E92-42C2-AF0F-86CAFC04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518-C524-4331-BD77-CF84CAA9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18E-2907-47D8-91AC-EACC7BC0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953560" y="6014880"/>
          <a:ext cx="9144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53560" y="6014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9280" y="177840"/>
          <a:ext cx="961092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840"/>
                    <a:ext cx="961092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9280" y="177840"/>
          <a:ext cx="961092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840"/>
                    <a:ext cx="961092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20:00:13Z</dcterms:created>
  <dc:creator>Kurt Pritz</dc:creator>
  <dc:description/>
  <dc:language>en-US</dc:language>
  <cp:lastModifiedBy>ICANN</cp:lastModifiedBy>
  <dcterms:modified xsi:type="dcterms:W3CDTF">2007-10-08T12:17:27Z</dcterms:modified>
  <cp:revision>99</cp:revision>
  <dc:subject/>
  <dc:title>ICANN Finance Review</dc:title>
</cp:coreProperties>
</file>