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17A-2931-4DCF-A714-DB9CCBA4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EAA-AB05-40A2-B22E-099EE09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DCA-3B92-42E1-B542-C7FB5496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C3F-7A56-49A1-8427-B8E4782E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2CC-4D78-40A6-8DF2-10A41516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27A-DCB3-43F3-A332-932FABF2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0FE-C794-454D-9387-4DF5E21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C45-FA71-406D-9500-CACE3CB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58C-648E-42E7-BA07-359AE6B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0BF-3367-4EDE-8430-9016CF4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077-0AA2-4269-B115-F113A6C2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DF2-BDB0-45F0-A9E8-9F2A781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CAB-6642-4E03-9C05-E143CD41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953560" y="6014880"/>
          <a:ext cx="9144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53560" y="6014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177840"/>
          <a:ext cx="961092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840"/>
                    <a:ext cx="961092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9280" y="177840"/>
          <a:ext cx="961092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840"/>
                    <a:ext cx="961092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00:13Z</dcterms:created>
  <dc:creator>Kurt Pritz</dc:creator>
  <dc:description/>
  <dc:language>en-US</dc:language>
  <cp:lastModifiedBy>ICANN</cp:lastModifiedBy>
  <dcterms:modified xsi:type="dcterms:W3CDTF">2007-10-08T12:17:27Z</dcterms:modified>
  <cp:revision>99</cp:revision>
  <dc:subject/>
  <dc:title>ICANN Finance Review</dc:title>
</cp:coreProperties>
</file>