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3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200" y="198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9200" y="405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3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4520" y="1980720"/>
            <a:ext cx="2503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2880" y="1980720"/>
            <a:ext cx="2503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3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4520" y="4050720"/>
            <a:ext cx="2503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2880" y="4050720"/>
            <a:ext cx="2503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3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9200" y="1980720"/>
            <a:ext cx="3793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980720"/>
            <a:ext cx="3793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3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98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9200" y="405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980720"/>
            <a:ext cx="3793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3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ite paper on internet domain name expan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Constit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llectual Property Constit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Connectivity and Service Providers Constit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997360"/>
            <a:ext cx="777384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LDs – too small sectors to t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.biz, .info and .name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re a bit smal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789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ECD &amp; SSI analysis .name .biz .info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registrants not new to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gistrations were “defensive” to prevent bad faith use by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ose who used the new names thought of them as second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-too competition is not working: registrants still see added value in 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. A Market driven approac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 of proof of concept is cle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pace expansion should create added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consumers perceive value, there is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value = differen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ve principl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erenti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gTLD must be clearly differentiated from other gT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rtain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gTLD must give confidence that it stands for what it purports to stan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fa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gTLD must avoid increasing opportunities for bad faith and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et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gTLD must create value-added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versity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gTLD must serve commercial and non-commercia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inciples have implic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tion –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ty / Good faith - spons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/ diversity - no added value in unsponsored but considerable added value in spons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four advantages of sponsored na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t out the .com toy box – distinc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curate and authenticated WHOIS – hurr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 cyber-squatting and fraud – at la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ability – yes plea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future names should be spons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cter terms for sponsor and community – see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ome, first served with challeng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rganisation can run multiple back-end registries for economies of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D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ason to deprive IDNs of the advantages of choice, competition, diversity, differen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use the sponsored mod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4. The problem with laissez-f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 1000 flowers bloom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expect 100s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4. The problem with laissez-f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ctation of registry failure is against the public interest and st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umer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umer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 a disproportionate cost from failures, so contrary to ICANN cor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ANN cor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competition look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rket-driven appro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blem with laissez-f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blem with a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. The problem with au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8137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icing markets seems attractive b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so market driven – who decid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es bias – first mo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ill no added value – same m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et distortion – from market h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tential to be anti-competitive -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 a disproportionate cost from distortions, so contrary to ICANN cor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 from the past – look to the fu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main name world that is differentiated, structured, safe, secure, diverse, multi-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main name world that is spons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 ICANN’s core value 5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ere feasible and appropriate, depending on market mechanisms to promote and sustain a competitive enviro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re is no obligation on ICANN to create new gTLDs but to create “a competitive environ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ANN’s core value 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roducing and promoting competition in the registration of domain names where practicable and beneficial in the public interest”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new gTLDs are not a business opportunity. Introduce them when they serve the public interest because of the  public benef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ANN’s core value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specting the creativity, innovation, and flow of information made possible by the Internet by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imi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ICANN's activities to those matters within ICANN's mission requiring or significantly benefiting from global coordination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s value favours sponsored top-level domains which are managed by specific communities: and so respect creativity and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ANN’s core value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 the extent feasible and appropriate,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elega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coordination functions to, or recognizing the policy role of, other responsible entities that reflect the interests of affected parties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s core value too favours sponsored top-level domains where the policy role is deleg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 What should competition look like in the domain name world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tition at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gistra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5 with over 460 accredited registrar agreements, ICANN has succeeded in creating the opportunity for competition at the registrar lev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now to ensure that competition flourishes by equitable treatment and contract compli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etition at the registry level – three condi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unjustifi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rri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entry to the market for registry services resulting in a level-playing field for market access leading to a plural supply ba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arket-distorting suppli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min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prevents users having a fair share of any benefi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access brings new name types which ad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eyes of users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ssons from proof of concept roun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9:01:26Z</dcterms:created>
  <dc:creator>A</dc:creator>
  <dc:description/>
  <dc:language>en-US</dc:language>
  <cp:lastModifiedBy>A</cp:lastModifiedBy>
  <dcterms:modified xsi:type="dcterms:W3CDTF">2005-07-07T14:06:11Z</dcterms:modified>
  <cp:revision>15</cp:revision>
  <dc:subject/>
  <dc:title>White paper on internet domain name expansion</dc:title>
</cp:coreProperties>
</file>