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7C0D2-294C-4AE4-9139-E1A75D10076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03070-2BAA-4A8A-92DA-5DD5AAECC9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BF533-4182-417C-809B-D56EB414D9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487DD-5C87-403F-BBC3-E6574EAF83E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5895F-9453-4E8A-B996-03B8F647DD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8908E-DD48-458B-A5A2-547E38581D4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2460F-D92F-4B6D-86AF-96A69E66E9F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2F40D-2769-4B16-BBB5-92E2FBA806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6800F-50D8-4588-ADB4-2A36A7058E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9A5A5-9AB8-41E4-8EF4-5CF8C2E96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8AF3E-1C3D-4A76-9F55-EE70FF0C63F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AE704-4D57-4123-9A33-ED6C48A0C5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C93F5-1146-46BD-8A66-EFFB8672CE6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E3479-5B45-4ACE-96F9-FD62F5700A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EA5D6-B4D6-4243-8B6D-A1CB4C6D75B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1F863-4D59-49BF-908D-AA12FC0215F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6CFF8-EF94-4375-8B5A-E098A9BAA3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4213F-FC25-4927-8029-79EC11B710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E4BF7-75A8-40B0-A22C-F6DA78B96B3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D10CC-78D5-4D7A-942A-B76B2A095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C337E-EB38-41E2-88EA-974D83AC8F6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047E-CAF0-45CF-B275-EAEFB2EA37E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1B02-DE54-4A81-B430-842BC16644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16BF-552F-42BC-9F8C-06D74C6305B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D087-1AF0-4E30-BD94-AC020B9C3E0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F547-6FCE-4EAE-96F7-9E012AE2FDC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F91A-41AE-4244-BE94-9ACEF77E836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08AA-CF18-4E1A-8B19-3AC117DC32B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3001-4A68-4DC0-920F-65A4D22A06F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26A3-F4E7-49D7-9866-2F24BA4BE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FDA6-EAD6-4A9A-8601-FBE6C4B757E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FA1E-6623-40E2-8889-4D8FF5FC6E8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00EE-658F-49A6-A394-EA000D11E1E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FC87A-B9A1-4E4F-846B-AB72876AF0C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9C4C1-D7D3-430E-9B7A-79CBB5D285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1EA6A-FF4C-40D0-A34F-FF321F62EEB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35124-8DF0-4D80-A385-713BFACFA72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F7A91-295B-4A62-BA6A-65476C264B5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CB736-B3C1-465A-9CC8-6E97F09366F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D8ED5-394B-4E5B-828F-B979D28539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8CA8A-8F5F-4F6C-A15B-50A511F45B1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9EC82-2252-4C11-B5B4-4C2C1497D06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29B90-6E96-44A7-B740-004BB98454C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BBA13-277E-4A0E-9D27-5971D0B2F2B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2438F-F04E-415C-B3FD-DD54B60A071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D39A2-6C04-4416-A723-7D083C80304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1443D-179F-4D8D-8D58-EC0E2B27809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5B8DF-E1E8-473F-B28D-9A640BE72F8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68922-A2C3-4E33-8EAF-F062A7C1A58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A836D-9330-4B93-9F83-3F9D62987D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18EA3-23BC-48B2-B50E-FB75110320E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71FA8-2EB1-44B3-BF5E-D2BD3D99C7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F31B5-FD3F-4095-AB48-0D14375D70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42C91-2CA1-46C0-B6A1-287B335798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C06A8-9704-4271-8F3E-1749E27B707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EF2A7-7D69-48F9-85BA-C3CEC6B000F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9816D-6714-4FD1-B0CA-0B0D1529B6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262-09BF-4D7C-B464-7601D8EA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E48-43EC-4C46-8DEE-B16E9527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EC1-EECE-4032-A9EA-9EB223E0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C91-82F0-46B2-9DA9-8F1AB4EF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B1B-B4A6-4588-80E0-3A4A82C8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141-F19F-429B-A6D8-295C064F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496-7996-489D-959C-9E2B594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281-8842-4E87-B6D5-DFD7F0A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36A-6401-4F3A-B4E1-C0A69464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8B2-A188-4AE9-BD2C-D0F71167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0F4-2A0C-4D9D-8A17-456B8391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DAA-91C0-4B1C-8713-34FE4E51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2C19F-3F89-41AF-B145-E364790333E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21DFA-C599-4B54-AE8B-40880416C5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C6E56-0552-4AC5-9004-E0758F1D984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7620B-53BE-4EA5-869E-3396215BAB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FD529-DA8D-461A-ACCC-6FF9A07B71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1ECCA-8BFE-424F-A278-55C54082B4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A7D07-E86E-4E6E-80C1-2E0BB7E7E4F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2CE92-F548-4B5B-88AA-8149269C8FB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742F3-B568-44E9-B272-2B8CD39BF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51B52-E221-4BAF-97C9-8836D4C6621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53F44-C43E-4423-91F7-CF6CC1736B0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3F27C-DD25-45D4-AB41-11FBFDA762B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188F4-FA61-40E7-AEAC-3E2AD2C3C8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00FE1-253A-4374-806F-DDBC03900A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B18B0-A50F-4DEE-AFAC-684632EFFD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93D1D-476E-4E17-A07C-CAAED68431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45CAA-DD75-45D1-B6E0-6C7FB8CEAA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D50CA-B61D-4849-AA28-89CA63AFFC1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95390-8421-4822-A29A-AB2DA0E36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602D6-5FCA-4781-8782-C7ABCE8453D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EE3A1-36B9-4E20-ABFA-57F013BF9D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F7498-7C7E-4A5A-82DD-9B22DBED6A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CA736-B135-4453-BEEB-E78E24C161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819AD-5492-495F-ABFF-2DC1B5BB62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20B2-78DD-49E8-8482-5434326AA37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1610-83F4-4943-BB45-09508FBA3E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7C6B-56EE-4949-B9CF-9B803259F4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063B-BD34-4B97-87A6-1EAE35B897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1628-9108-4B99-B7D4-28307711B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A172-443A-4663-9BEA-35975C93FB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C5F4-DCB5-476B-A378-25DDCC6A640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AE2E-91CE-42ED-88E2-E43A0CFE4E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DB90-223E-4E4F-A9F6-7A5F38BE437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4BC3-2EB7-40CC-BB54-F151959402C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A376-9BF0-4389-9C14-784FA468D9F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D41A-2920-4A23-B584-B0FFBA13E55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C81D69-20D1-430E-ADD4-896B2AF4BD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5B32CC-1A5E-4AAF-8282-117D37729F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38A91-B0CB-4285-BA3E-331E8505E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DB216-2A17-443C-99A4-9D104AD435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5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6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2F636-AB26-4692-82C5-F8B139F4DF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4FAD1-2F8C-4A0F-A341-8B0BBC877C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A2F5F-F50E-4328-9779-DE51EF3E0E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ICANN45-TORONTO-RibbonLogo-PPT4.jp2"/>
          <p:cNvPicPr/>
          <p:nvPr/>
        </p:nvPicPr>
        <p:blipFill>
          <a:blip r:embed="rId5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0889B-8752-45DD-A8BA-C7033D52A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345BF-4292-4372-87A1-92FF07A68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ICANN45-TORONTO-RibbonLogo-PPT4.jp2"/>
          <p:cNvPicPr/>
          <p:nvPr/>
        </p:nvPicPr>
        <p:blipFill>
          <a:blip r:embed="rId5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4AE11-A902-44A5-980C-EE593411BC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FF4C3-CFC7-45EC-A380-413D34DAF0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4ED93-111D-480E-9E83-A04786EAE6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0602A-4FFB-4943-BFF1-633079D0B2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1"/>
          <p:cNvSpPr/>
          <p:nvPr/>
        </p:nvSpPr>
        <p:spPr>
          <a:xfrm>
            <a:off x="1371600" y="1981080"/>
            <a:ext cx="64771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bfbfbf"/>
                </a:solidFill>
                <a:latin typeface="Trebuchet MS"/>
                <a:ea typeface="ヒラギノ角ゴ ProN W3"/>
              </a:rPr>
              <a:t>GNSO Toronto Re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  <a:ea typeface="ヒラギノ角ゴ ProN W3"/>
              </a:rPr>
              <a:t>Stéphane Van Gelder, GNSO Council Ch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bfbfbf"/>
                </a:solidFill>
                <a:latin typeface="Trebuchet MS"/>
                <a:ea typeface="ヒラギノ角ゴ ProN W3"/>
              </a:rPr>
              <a:t>18 October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 GNSO</a:t>
            </a:r>
            <a:r>
              <a:rPr b="0" lang="ja-JP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working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380880" y="1138320"/>
            <a:ext cx="8382240" cy="48052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New brainstorming session at start of week. Issues discussed were the GNSO review and the role of the Council within the GNSO. Great session and great discu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8 sessions on Saturday including a very good exchange between the GNSO Council and the GA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9 sessions on Sunday including a 90 minute joint discussion with the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Stakeholder/constituency meetings on Tues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ublic Council meeting (7 motions considered!) on Wednesday &amp; follow-up on Thurs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7983720" cy="4500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ssue Report requested on the Uniformity of Repor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nitiation of a PDP on the Protection of certain International Organisation Names in all gTL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harter for thick WHOIS PDP WG ap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RTP-C (Inter Registrar Transfer Policy) WG Final Report adop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ssue Report on IRTP-D reques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ssue Report requested on Recommendation 2 of the Internationalized Registration Data Working Group Final Rep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Ongoing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Working Groups and ongoing project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Standing Committee on Improvements Implementation (ongoing work to </a:t>
            </a: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review and assess the effective functioning of recommendations related to GNSO Improvements that have been approved by the Counc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WHOIS service requiremen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(initial draft survey complet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etrics on Competition, Consumer Trust and Consumer Choice (recommendations still to be approv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T on Outreach Task Force (discussions ongo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anks to outgoing Councill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Outgoing Councillors (last meeting is Toront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arlos Aguirre (NomCom appointe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Rafik Dammak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ary Wong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Bill Drake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avid Taylor (IP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Stéphane Van Gelder (Rr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Welcome to incoming Councill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New Councill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Jennifer Wolfe (NomCom appointee – non vot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avid Cake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agaly Pazello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aria Farell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etter Rindforth (IP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Volker Greimann (Rr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Welco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w Council Leadership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Council Ch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Jonathan Robin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Council Vice Chair (NCP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TB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Council Vice Chair (CP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ason C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380520" y="1498320"/>
            <a:ext cx="7929720" cy="39114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Hosts and Meeting planning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Council support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4:26:44Z</dcterms:created>
  <dc:creator>Lynn Lipinski</dc:creator>
  <dc:description/>
  <cp:keywords/>
  <dc:language>en-US</dc:language>
  <cp:lastModifiedBy>Stéphane Van Gelder</cp:lastModifiedBy>
  <dcterms:modified xsi:type="dcterms:W3CDTF">2012-10-18T14:57:02Z</dcterms:modified>
  <cp:revision>24</cp:revision>
  <dc:subject/>
  <dc:title>Presentation Title</dc:title>
</cp:coreProperties>
</file>