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B80043-F8E9-4CFB-A9D7-A672AAC783E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6CB647-250A-47F0-A4CE-8F5CE024D1B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8E412E-9F11-446F-8BA9-B5492F1AEC1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54301C-7E6D-4077-89FB-7A66595A452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A93FBC-C19F-4C5C-8419-F2CB345B857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3B74F0-76DB-4B4E-B1AA-701B3C001C3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988BBE-2E51-4574-A661-D3C4A82F6AB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C3DF41-AE8A-4F57-8B0C-533A995AFD0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F7987F-EC40-4EB0-B320-D35FA0AE3A3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48A56-17F5-4080-9FBE-3DE68F1BA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DA10D7-A61B-454F-B461-554300D9FF5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86738-BA00-4826-9241-FE428C3F88B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BB8F4-4124-4F14-9CF8-E968E4A46AA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3EE73-0380-4D9B-974A-F0EA9ED8FBA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87745-F9D6-4D22-AB26-0B0CB7B68FF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69A11-1DE1-4D35-B185-227696792D1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2C947-CFD2-4F44-8393-4B31BDDA5A6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430B7B-75F6-415F-8457-CBCCE76DD89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1C7EE-0886-48CF-9626-13727DCDCD2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4EA08-9D77-4084-9E9A-2B494435A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73888-8DDF-46CC-81B4-B42CF157127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B13F2-637F-42E4-AF6F-374A97CD7A0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89AEF-49B1-493F-A4B4-AF4DF3A150E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E2553-41E9-48E5-AAEA-63BF908832B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A1873-F8A0-4A9B-ADCD-FE05C90EFCB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7D093-3847-4102-A9B7-0D7801F9CFE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5895A-9C11-40B7-9FBE-5E17719A931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7E3B7-B5F1-455A-86DC-3B8E5C8CB9C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4D1CE-63C8-403C-967A-EE0E7B06333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E1D54-566E-46A7-832E-E3D9ED49C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2BB56-83F7-4ADE-BD03-61ACA809B6A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FF510-9B9E-469D-AC04-4CBF66A7BCB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1092B-71A5-466A-ADD0-4183F34F864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A3BA06-B296-4D77-8A02-D6B9330B4B4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B3A989-B080-4F8D-B7AD-6864BDFFD85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79D296-779A-4D97-949E-979200A7D40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6FD4A5-2516-445B-ABB1-446E2416CFB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609D4F-B934-40D3-84FE-C50B9744537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A0DA31-785B-4837-8BC9-3F9F8605688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C6155A-27B3-40FD-8132-B02E6D607A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C08EBA-AD89-4BF5-B54D-219D104843A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046D34-25EF-4DDF-B2AB-50586173371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BBA507-9C6B-490B-992E-8AEF56E24F6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E3F15B-3589-43D1-96AB-36A6A73C40A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E48FC3-82E4-47BE-ABA8-7CA1FDF7F8C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4A12DD-ADFD-4F1E-B269-23D79BB3A00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4F6C03-2455-419D-942C-00A12FCADE9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F94F42-B307-410A-A2FE-1EE11C0D842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E787AA-1EA3-4E23-B37E-306CC3ED94B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CB6906-2D08-42A5-9E79-B420D607A9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9B6747-E6E8-4EA2-8BC4-768A8D5D907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45D0DB-7AD5-40D4-BE6B-75573F4B5A2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FE2142-9738-43A7-98BA-2585A746B9B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C830CC-D752-4CF3-8967-1A04BC0DCB2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29AE70-852E-4814-AEBF-819B14D5C50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E8A52A-2F2F-414B-AB19-1AA5CDB4625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6C09FA-9D24-4104-BAE1-B13957DB38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8215-F455-4113-BFEA-CB4B43DC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379-9985-4110-A484-3A3208E0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7D5-E609-45A1-889D-AD99BE64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9118-64EE-43D4-AE71-EAE78AB2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E07A-CC4D-4BEF-AD23-3208A21E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C79-7B85-446F-8DFE-B8C144B4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80CA-2011-4407-ACAF-6E234602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A744-0DD1-46FC-96C1-F1F98798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135E-5BE4-4FB0-87F7-7E5421A6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FF8C-1F94-492E-8F54-E7E1751B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BBDA-3A5B-4583-96BF-1FFE88E1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0CD-FEF0-4873-AF42-4FD84813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469D2-1B6C-47CB-ABA9-AF8E45B0163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A05AF-5A24-4739-86B3-F5B870AC726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1C6EE-B793-4085-A58D-F8FE474870E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FAC23-1156-4738-8784-2A1C04185AD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61653-2AC1-416D-A7C4-DF553D1FE27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C57A7-1F95-468F-A12C-305BC1881BE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95A62-EFA5-4E03-BE96-1D10BBC2780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3CBAA-91D1-4D11-9F09-FC8C634A8A1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226EC-C87A-444A-93D6-03C95078C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9DB08-4753-419A-869D-71016C2DB70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356B3-2D41-4A55-BEF8-9F2B13B078C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AA85D-E156-4343-9320-FBC235C0E41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EE70A-712A-410B-B0E8-23079C69DDD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51CAD-4D24-44F0-B6D8-614B6CF42F3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42501-F99E-4650-83F7-2560EBB93D1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E07CE-6431-415B-BAE4-49D3A5071F6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2667C-79F2-4057-9D4B-ABB7E28A3D4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0B911-4DA9-4433-B29F-BCEC258F76C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D4ED6-B37C-43C7-ABEC-7EB81CED6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9FBD2-6FF8-4A70-BEC6-51CE64A5F1D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C3B81-029A-4C3F-A048-48162997630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7CE9A-7523-46F7-8081-29ACBC9281A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314B3-315B-414B-96F4-0BC92AD2223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78D4C-D797-4C55-8F34-3497AEB43B3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72BF-E4EF-461D-948E-D36830B66A7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E886-6908-4690-AD3B-2FF151D29A8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8DA5-43B3-4612-9FA0-C50DF6CAE3F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DC8C-3203-4E40-9B51-374280A528B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8A5E-B080-4252-B32E-07B1C10CE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EDE7-2E12-43DB-91FB-0DBAE5DD51C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0F70-5479-419F-97CD-D9003D575ED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E2DE-D82A-4C5A-AE97-22724ED4DC1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D5F1-530F-48CD-86A5-A0EF25AD67A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B4E8-DF86-4F84-83ED-28BA4D1E95E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8282-1B83-4420-B898-8CC1DFD9A43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2BA7-5EED-43D0-9F89-9EB2FBB4762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4F5A11-376D-46C3-A21B-225D670EA0C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48473E-DB4F-4C85-B04B-221D2D83E79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EA5CD1-6AD2-409B-B9D2-5DD019ED7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ICANN45-TORONTO-RibbonLogo-PPT4.jp2"/>
          <p:cNvPicPr/>
          <p:nvPr/>
        </p:nvPicPr>
        <p:blipFill>
          <a:blip r:embed="rId3"/>
          <a:stretch/>
        </p:blipFill>
        <p:spPr>
          <a:xfrm>
            <a:off x="109440" y="5257800"/>
            <a:ext cx="1548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" descr="ICANN45-TORONTO-RibbonLogo-PPT4.jp2"/>
          <p:cNvPicPr/>
          <p:nvPr/>
        </p:nvPicPr>
        <p:blipFill>
          <a:blip r:embed="rId4"/>
          <a:stretch/>
        </p:blipFill>
        <p:spPr>
          <a:xfrm>
            <a:off x="109440" y="5513400"/>
            <a:ext cx="1548000" cy="9637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31F74-DB26-4D49-8037-E20D701ED1D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ICANN45-TORONTO-RibbonLogo-PPT4.jp2"/>
          <p:cNvPicPr/>
          <p:nvPr/>
        </p:nvPicPr>
        <p:blipFill>
          <a:blip r:embed="rId4"/>
          <a:stretch/>
        </p:blipFill>
        <p:spPr>
          <a:xfrm>
            <a:off x="109440" y="5513400"/>
            <a:ext cx="1548000" cy="963720"/>
          </a:xfrm>
          <a:prstGeom prst="rect">
            <a:avLst/>
          </a:prstGeom>
          <a:ln w="0">
            <a:noFill/>
          </a:ln>
        </p:spPr>
      </p:pic>
      <p:sp>
        <p:nvSpPr>
          <p:cNvPr id="402" name="TextBox 5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6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1AD76-8307-4951-90D7-A2DF75FF648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ICANN45-TORONTO-RibbonLogo-PPT4.jp2"/>
          <p:cNvPicPr/>
          <p:nvPr/>
        </p:nvPicPr>
        <p:blipFill>
          <a:blip r:embed="rId4"/>
          <a:stretch/>
        </p:blipFill>
        <p:spPr>
          <a:xfrm>
            <a:off x="109440" y="5513400"/>
            <a:ext cx="1548000" cy="963720"/>
          </a:xfrm>
          <a:prstGeom prst="rect">
            <a:avLst/>
          </a:prstGeom>
          <a:ln w="0">
            <a:noFill/>
          </a:ln>
        </p:spPr>
      </p:pic>
      <p:sp>
        <p:nvSpPr>
          <p:cNvPr id="44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793B2-FA35-455C-882B-F102FCC7B1B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" descr="ICANN45-TORONTO-RibbonLogo-PPT4.jp2"/>
          <p:cNvPicPr/>
          <p:nvPr/>
        </p:nvPicPr>
        <p:blipFill>
          <a:blip r:embed="rId3"/>
          <a:stretch/>
        </p:blipFill>
        <p:spPr>
          <a:xfrm>
            <a:off x="109440" y="5513400"/>
            <a:ext cx="1548000" cy="9637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FB5B8-6DC2-49B0-A144-E84127C8556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ICANN45-TORONTO-RibbonLogo-PPT4.jp2"/>
          <p:cNvPicPr/>
          <p:nvPr/>
        </p:nvPicPr>
        <p:blipFill>
          <a:blip r:embed="rId5"/>
          <a:stretch/>
        </p:blipFill>
        <p:spPr>
          <a:xfrm>
            <a:off x="109440" y="5257800"/>
            <a:ext cx="1548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ICANN45-TORONTO-RibbonLogo-PPT4.jp2"/>
          <p:cNvPicPr/>
          <p:nvPr/>
        </p:nvPicPr>
        <p:blipFill>
          <a:blip r:embed="rId4"/>
          <a:stretch/>
        </p:blipFill>
        <p:spPr>
          <a:xfrm>
            <a:off x="109440" y="5513400"/>
            <a:ext cx="1548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ICANN45-TORONTO-RibbonLogo-PPT4.jp2"/>
          <p:cNvPicPr/>
          <p:nvPr/>
        </p:nvPicPr>
        <p:blipFill>
          <a:blip r:embed="rId3"/>
          <a:stretch/>
        </p:blipFill>
        <p:spPr>
          <a:xfrm>
            <a:off x="109440" y="5513400"/>
            <a:ext cx="1548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8E3D9-1B7D-42DB-BF50-F6DFF30AEC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EEE347-7F27-42E3-B94C-BF1E90C7B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ICANN45-TORONTO-RibbonLogo-PPT4.jp2"/>
          <p:cNvPicPr/>
          <p:nvPr/>
        </p:nvPicPr>
        <p:blipFill>
          <a:blip r:embed="rId5"/>
          <a:stretch/>
        </p:blipFill>
        <p:spPr>
          <a:xfrm>
            <a:off x="109440" y="5257800"/>
            <a:ext cx="1548000" cy="963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F05BF-1907-45F1-9F5A-74E672A19B4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ICANN45-TORONTO-RibbonLogo-PPT4.jp2"/>
          <p:cNvPicPr/>
          <p:nvPr/>
        </p:nvPicPr>
        <p:blipFill>
          <a:blip r:embed="rId4"/>
          <a:stretch/>
        </p:blipFill>
        <p:spPr>
          <a:xfrm>
            <a:off x="109440" y="5513400"/>
            <a:ext cx="1548000" cy="9637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FEC59D-DFC8-4EC0-98F6-52FB9E40D78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ICANN45-TORONTO-RibbonLogo-PPT4.jp2"/>
          <p:cNvPicPr/>
          <p:nvPr/>
        </p:nvPicPr>
        <p:blipFill>
          <a:blip r:embed="rId4"/>
          <a:stretch/>
        </p:blipFill>
        <p:spPr>
          <a:xfrm>
            <a:off x="109440" y="5513400"/>
            <a:ext cx="1548000" cy="9637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CEA56-A921-422F-9600-3DCE42A6FA5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ICANN45-TORONTO-RibbonLogo-PPT4.jp2"/>
          <p:cNvPicPr/>
          <p:nvPr/>
        </p:nvPicPr>
        <p:blipFill>
          <a:blip r:embed="rId4"/>
          <a:stretch/>
        </p:blipFill>
        <p:spPr>
          <a:xfrm>
            <a:off x="109440" y="5513400"/>
            <a:ext cx="1548000" cy="963720"/>
          </a:xfrm>
          <a:prstGeom prst="rect">
            <a:avLst/>
          </a:prstGeom>
          <a:ln w="0">
            <a:noFill/>
          </a:ln>
        </p:spPr>
      </p:pic>
      <p:sp>
        <p:nvSpPr>
          <p:cNvPr id="321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E5165-A267-4298-9EFD-7DDE7834CA4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Box 1"/>
          <p:cNvSpPr/>
          <p:nvPr/>
        </p:nvSpPr>
        <p:spPr>
          <a:xfrm>
            <a:off x="1371600" y="1981080"/>
            <a:ext cx="64771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bfbfbf"/>
                </a:solidFill>
                <a:latin typeface="Trebuchet MS"/>
                <a:ea typeface="ヒラギノ角ゴ ProN W3"/>
              </a:rPr>
              <a:t>GNSO Toronto Repo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  <a:ea typeface="ヒラギノ角ゴ ProN W3"/>
              </a:rPr>
              <a:t>Stéphane Van Gelder, GNSO Council Ch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bfbfbf"/>
                </a:solidFill>
                <a:latin typeface="Trebuchet MS"/>
                <a:ea typeface="ヒラギノ角ゴ ProN W3"/>
              </a:rPr>
              <a:t>18 October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 GNSO</a:t>
            </a:r>
            <a:r>
              <a:rPr b="0" lang="ja-JP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working w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380880" y="1138320"/>
            <a:ext cx="8382240" cy="480528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New brainstorming session at start of week. Issues discussed were the GNSO review and the role of the Council within the GNSO. Great session and great discus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8 sessions on Saturday including a very good exchange between the GNSO Council and the GA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9 sessions on Sunday including a 90 minute joint discussion with the Bo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Stakeholder/constituency meetings on Tues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Public Council meeting (7 motions considered!) on Wednesday &amp; follow-up on Thurs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80520" y="1218960"/>
            <a:ext cx="7983720" cy="45003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marL="522360" indent="-522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Issue Report requested on the Uniformity of Repor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360" indent="-522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Initiation of a PDP on the Protection of certain International Organisation Names in all gTL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360" indent="-522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Charter for thick WHOIS PDP WG appro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360" indent="-522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IRTP-C (Inter Registrar Transfer Policy) WG Final Report adop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360" indent="-522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Issue Report on IRTP-D reques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2360" indent="-522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 startAt="5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Issue Report requested on Recommendation 2 of the Internationalized Registration Data Working Group Final Repo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Ongoing Pro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Working Groups and ongoing projects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GNSO Standing Committee on Improvements Implementation (ongoing work to </a:t>
            </a: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review and assess the effective functioning of recommendations related to GNSO Improvements that have been approved by the Counc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alibri"/>
              </a:rPr>
              <a:t>WHOIS service requirement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(initial draft survey complet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Metrics on Competition, Consumer Trust and Consumer Choice (recommendations still to be approv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DT on Outreach Task Force (discussions ongo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anks to outgoing Councill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Outgoing Councillors (last meeting is Toront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Carlos Aguirre (NomCom appointe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Rafik Dammak (NCS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Mary Wong (NCS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Bill Drake (NCS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David Taylor (IP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Stéphane Van Gelder (RrS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Welcome to incoming Councill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New Councill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Jennifer Wolfe (NomCom appointee – non vot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David Cake (NCS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Magaly Pazello (NCS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Maria Farell (NCS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Petter Rindforth (IP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Volker Greimann (RrS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Welcom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New Council Leadership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GNSO Council Cha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Jonathan Robins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GNSO Council Vice Chair (NCP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TB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GNSO Council Vice Chair (CP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858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Mason Co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380520" y="1498320"/>
            <a:ext cx="7929720" cy="391140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Hosts and Meeting planning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GNSO Council support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4:26:44Z</dcterms:created>
  <dc:creator>Lynn Lipinski</dc:creator>
  <dc:description/>
  <cp:keywords/>
  <dc:language>en-US</dc:language>
  <cp:lastModifiedBy>Stéphane Van Gelder</cp:lastModifiedBy>
  <dcterms:modified xsi:type="dcterms:W3CDTF">2012-10-18T14:57:02Z</dcterms:modified>
  <cp:revision>24</cp:revision>
  <dc:subject/>
  <dc:title>Presentation Title</dc:title>
</cp:coreProperties>
</file>