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5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6B7AA-B9FA-4070-8B38-9DA4708AE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ture framework could be an “Organizational Audit Progra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8 months means Feb 2014 – at least</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9AC72-AD4A-419A-81AB-71556ECF7A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F8D5B-4550-4AAE-8655-0DDC240C65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817235A-B377-409E-86FF-9C3634977E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CC91CCB-1174-48D6-AEB4-84109F81D4F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E15BA81-35BE-44B1-A888-4216384F693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C164594-380F-4616-8D52-942EE657BFE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108E8A-6E07-4A9D-A386-9A54E0DF143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8867AD-5EFA-4522-A0BB-8FA1F2407B6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D019A2-D295-4745-815E-EBE9C7CE84D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C90248-2FB6-47FF-A488-25878B87524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8EAB185-EFAA-4092-937B-C236B309AD5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B9CA1F8-40A7-4BFA-A4DE-C3C183E3CE4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A6DA0AE-BEBC-4422-A089-343E3C84D3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670CC22-99B1-4B69-987B-81D866539ED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45D9D8F-D64E-4CB0-A203-887D6EBC613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FC95B179-1585-4359-AC75-5B2C3298DD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0C8003F-3B17-4981-9398-A6CDB447852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3CE42F11-5795-4AD8-B215-8AF784B921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FD177C2-9AF5-4991-A470-73164C8347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5E93C95-CBFF-4D5F-A2DA-DE20A440609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F8B1494-8572-4E59-BF40-F33906287BE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687E36B-B9F3-4864-B259-58849B47674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C7DDCF1-A9DB-48CE-8825-6BF88BF3150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18A949EB-6CCB-4771-AF8B-ED05BB661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861DCAC-17A4-4E8D-892A-9154A67CBD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FA06538-D0DA-40F7-B3B2-8C9180CC7BA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0B7766C-6295-4DB4-9A81-367A80EB5EC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A635AA86-97EF-45A9-BF82-B4714C54AE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EC83A293-AF3B-4BC4-A910-2B487BFDA4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0024EC99-258A-4516-A0F4-D6F8A372360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54B7BADF-F874-4479-B38A-C26D86582EA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952E32BC-32CF-4D19-895B-3153958C9CA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7F79D0EC-DD2E-4262-B5EC-2F44741F3D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1365B0C0-D635-4CBB-A674-DFBBDA05FF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7877EC2C-41CE-4199-A7F0-D4A542383C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EB97F8-9371-44E9-82C5-B288C0E5571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F4673B04-CFBA-41FE-AE20-D00E8D96243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79228813-682A-4074-ACB9-AD524E673F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DEE03606-1038-44C5-9F94-A6E2BE0412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B645E21-4C4F-48C4-A913-882CAF569B7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EB2C155-1778-446A-9CC3-15C11307A30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33435267-9FF8-4D6F-9047-0DF31E8130A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462F1C94-C5C6-453F-89D2-89E5C55BF69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01FDDBBC-8208-4470-9C94-A6C41EA9E86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20494677-66DA-4ECF-9B60-648BC72446B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9607A961-67B6-4DAE-8837-F990D6E804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629278-481F-4354-8C29-245AC435068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F8B3CA4-270E-44DB-868C-F780FE24F47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32A45037-EFA3-4A10-A33B-E03C6BA3C9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D01A03FB-8054-4DE9-A21C-572AFCA8F6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492068B6-5522-4C0B-8046-23F7E34C3A0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2F8BBD71-53E2-4B99-8139-F842D2EAFF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BBA08ED-64DB-4B2E-8D5B-5EC08B9980A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9985365-9505-41C7-9BF2-BFEFB64519D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DB4F5744-186D-470A-B57C-58F45E4BB9E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8800A40A-5874-4444-AF2B-4AAB3E580A7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A5F96C03-0079-4379-8667-B816B62736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913ED99-DB31-4306-AB83-37FB6A9E83F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5EECD356-2CE1-4029-9FD6-EC9BB01D04D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08CB31C-80EF-4ACC-A6BD-540F38564E9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B6BD8E5-0E59-4F0E-B494-9425759E7E7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B21A835-C1FB-4773-AE9B-1EE24C27300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5256BFF-B362-421C-B103-43271332D18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43B353D7-F91B-46B2-B3BE-08F323BDF3A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7E5F01F1-F2A9-4814-AC7A-0FA76655233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EA3A211-4F4A-447D-929F-049EBC8B8DE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660FA3F-DE94-4CE4-B670-F275213FB0F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E597A11-3A12-47D2-90FE-4901E2CAF1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ED86FA5-CC51-4278-A3CD-A99B5DF415F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2BDF9DE-6798-4C49-9F2F-AA33F590D41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A0998E4F-16C9-4B0E-954D-2712C35C3CF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8C4CA2F0-7FD3-4B62-8DBA-2F90F75623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F8F790B-22FC-406C-BC30-9E7CF5A6178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0B2853E-1FDC-4240-9CD0-2524FC343F2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B53D6F2-D2F5-4174-A57B-0DA736363C3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12A28CA-906A-47CF-8D13-DB3F52E5A23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C9327AFA-68DC-4A55-ADDF-2112E6655C3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1EF822BC-18E4-47B4-B601-44B96C96D4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3D45AEA-EA6A-46AA-A7C4-EBEC8742C1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FC34BBF-80CA-4476-B11D-17057DD411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D72F4F-CB3F-4594-A57D-4905C4F107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091BEF-97DE-4C7F-93D9-5362D5F8F8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F7B3F9-359A-4376-8B80-BBAF109364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820121-6CA2-4136-9A9A-BF200EFE61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35F1A1F-224A-47EF-8187-B6FF67850C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3C512E0-1F15-4018-AF9C-522E91FCEF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5280CEB-9471-46BF-B2F0-9B54D60A01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1E22C39-66B8-492C-AB5B-8A5EC75B72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7C4F64-F7D1-4910-A14A-9A2E0B7C8E9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2032105-F50B-49C4-885C-037F9877F4B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504BBCF-56C9-45F3-9497-52AF4C1F21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B87D5FD-CE8A-4DFE-B39E-685DD4149EF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D91B463-DB5B-440A-8369-EC72BDCED93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04B4BE9-CFEA-4362-967A-D3D842434F1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EE5B74E-82A5-4F44-BAFA-1695DAF96E6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3353D8-2B7B-4E2E-ABDF-75BABDC35F1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D77F0A-DEC3-426D-949B-9DE83E74B47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2AACFB-6FE3-4279-8B9B-54ABEBB4EA6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2754912-CA41-4AB7-8B9D-D3DB47426F6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4F027E1-5FCA-49AB-AA6B-C5504028BE1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FAE3FBA-15FA-45F8-8874-C87C9CD108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97E3F2-5636-4365-A5DD-7A36E14240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EC88EEA-9F36-4421-ABCF-63B795F895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66870C7-3F9C-4CD3-8E96-047D0FC6EBF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4FE88B5-EF31-46AD-9FD9-ECD6EC4E2EA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DDD46B7-C9B4-4E12-98A9-F2A0B7434F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C78710E-9BF2-4D6E-9653-AE25464673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525C865-F5BF-463C-AB05-ECD40DF9826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F0E5F3-3055-4D52-BD75-B09A262362E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88528B-32FA-4010-8D84-0B2173D7997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0A849A-2E4C-4B7A-AD63-FA5BB27D568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9DB815-853B-45A1-A3F0-DE343085EB6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BD3434-38A1-47EF-B668-8EE7BFD981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F803E63-C79F-4385-B016-8C5E98EF3B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F054C20-DB9B-413B-8AE9-61AFE24C572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CEACE3-E261-4CDF-9E70-2C3BD296BF6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70CF0E7-94F8-40AC-98F0-27B573B228C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95630F-3EAA-4063-BC3C-909E94273AF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AF3526-62E7-4471-8E4C-EC88F52506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449CE71-9AAA-4C9F-B726-BC0621D7F95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A7A8868-C448-4F5B-B9CC-EC263E0B915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9DD0CC5-5001-4406-B5E0-2D4D5DA4274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4EB6C80-9AEB-409C-90BF-C8456BF3D66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8049A9-8021-4BBA-AF85-93D3D28F7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2A1C10-A614-435E-B495-FB2FC1D8C7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ED2D6DC-F513-49B3-A105-3D4E57CA456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9497445-8AFD-4893-B1C0-8F502F454B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B031E9C-2575-4A6B-8928-149D39D17CE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0F8492-2561-4173-939E-AB50F287EB8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DB8F955-6EB0-4ED0-B1E4-23240452C27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FF1B7E0-8C2E-41F5-8D1C-BFDDB059447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546F1E-7E8C-4339-B99C-9B99F70D08D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F12FF3D-23C1-4CF2-AD53-AF41EA1923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789240C-4818-4CBF-95F7-A02F57F8425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1BF9F8-4716-42CB-9A7E-25AF611144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D04F72-9D87-462F-A012-2C4B6B6104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708F025-E60F-4B35-A37E-DBDFF9ED3E4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D2C905-CEBC-4876-93FB-BAD42D5954A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1B2D5A0-F5C4-4A68-A52F-0E766CAAF79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954DF6B-A3C6-4864-A4A3-31546429C50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B6B81DC-C78E-42D0-83E0-008BCF85091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48E3104-6CD1-4ABF-A80B-1731DD40137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07FD708-A5C7-45BC-8356-A25B36D655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F270E1D-07E1-429F-BEEC-59CD030C83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FA323F9-3394-47B1-A362-1BA555570BE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B2DB8D1-A5EB-4C1F-9F6A-AA0D8A3EC1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36B43A-CE45-4045-9BA3-D483DDE328A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4954AA2-3217-4933-A07C-5E6A8F24919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31A721F-15BF-4A19-87C0-97AB299AE0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4471AC2-9683-4222-AB47-ACCE27B4BA7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057A75B-E9C5-4451-9A6D-7D5000839F8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C62005E-B4A7-495F-812D-3F8ABA3592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EA545FE-E2B4-4CCB-92EF-1CBD937A35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1FEC887-54C7-4E43-8230-E31EF268F08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F9B5460-1628-4D6F-B81E-D814E68465B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7A09612-CF35-41BA-848A-00CFDB30FFD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BC07A41-4D45-4863-8B95-CFE1C73ED597}" type="slidenum">
              <a:t>&lt;#&gt;</a:t>
            </a:fld>
          </a:p>
        </p:txBody>
      </p:sp>
      <p:sp>
        <p:nvSpPr>
          <p:cNvPr id="6" name="PlaceHolder 5"/>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5BB5E-BE13-4EAC-A7C9-11C31D72D2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 name="Picture 9" descr="durban-title.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3" descr="durban-2pg-bar.jpg"/>
          <p:cNvPicPr/>
          <p:nvPr/>
        </p:nvPicPr>
        <p:blipFill>
          <a:blip r:embed="rId2"/>
          <a:stretch/>
        </p:blipFill>
        <p:spPr>
          <a:xfrm>
            <a:off x="0" y="6102360"/>
            <a:ext cx="9024840" cy="755640"/>
          </a:xfrm>
          <a:prstGeom prst="rect">
            <a:avLst/>
          </a:prstGeom>
          <a:ln w="0">
            <a:noFill/>
          </a:ln>
        </p:spPr>
      </p:pic>
      <p:sp>
        <p:nvSpPr>
          <p:cNvPr id="352" name="PlaceHolder 1"/>
          <p:cNvSpPr>
            <a:spLocks noGrp="1"/>
          </p:cNvSpPr>
          <p:nvPr>
            <p:ph type="sldNum" idx="11"/>
          </p:nvPr>
        </p:nvSpPr>
        <p:spPr>
          <a:xfrm>
            <a:off x="25560" y="6481800"/>
            <a:ext cx="213336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91B92-4338-4B83-83CA-C93A7BA2661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6" descr="durban-slide.jpg"/>
          <p:cNvPicPr/>
          <p:nvPr/>
        </p:nvPicPr>
        <p:blipFill>
          <a:blip r:embed="rId2"/>
          <a:stretch/>
        </p:blipFill>
        <p:spPr>
          <a:xfrm>
            <a:off x="0" y="0"/>
            <a:ext cx="1660680" cy="6858000"/>
          </a:xfrm>
          <a:prstGeom prst="rect">
            <a:avLst/>
          </a:prstGeom>
          <a:ln w="0">
            <a:noFill/>
          </a:ln>
        </p:spPr>
      </p:pic>
      <p:sp>
        <p:nvSpPr>
          <p:cNvPr id="390"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1"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 name="PlaceHolder 3"/>
          <p:cNvSpPr>
            <a:spLocks noGrp="1"/>
          </p:cNvSpPr>
          <p:nvPr>
            <p:ph type="sldNum" idx="12"/>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91109-3388-41C8-9E9B-6952100A65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6" descr="durban-slide.jpg"/>
          <p:cNvPicPr/>
          <p:nvPr/>
        </p:nvPicPr>
        <p:blipFill>
          <a:blip r:embed="rId2"/>
          <a:stretch/>
        </p:blipFill>
        <p:spPr>
          <a:xfrm>
            <a:off x="0" y="0"/>
            <a:ext cx="1660680" cy="6858000"/>
          </a:xfrm>
          <a:prstGeom prst="rect">
            <a:avLst/>
          </a:prstGeom>
          <a:ln w="0">
            <a:noFill/>
          </a:ln>
        </p:spPr>
      </p:pic>
      <p:sp>
        <p:nvSpPr>
          <p:cNvPr id="430"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1"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2" name="PlaceHolder 3"/>
          <p:cNvSpPr>
            <a:spLocks noGrp="1"/>
          </p:cNvSpPr>
          <p:nvPr>
            <p:ph type="sldNum" idx="13"/>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8C460-E025-4AA6-B91B-70F3CC3FC2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6" descr="durban-slide.jpg"/>
          <p:cNvPicPr/>
          <p:nvPr/>
        </p:nvPicPr>
        <p:blipFill>
          <a:blip r:embed="rId2"/>
          <a:stretch/>
        </p:blipFill>
        <p:spPr>
          <a:xfrm>
            <a:off x="0" y="0"/>
            <a:ext cx="1660680" cy="6858000"/>
          </a:xfrm>
          <a:prstGeom prst="rect">
            <a:avLst/>
          </a:prstGeom>
          <a:ln w="0">
            <a:noFill/>
          </a:ln>
        </p:spPr>
      </p:pic>
      <p:sp>
        <p:nvSpPr>
          <p:cNvPr id="470"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1"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2" name="PlaceHolder 3"/>
          <p:cNvSpPr>
            <a:spLocks noGrp="1"/>
          </p:cNvSpPr>
          <p:nvPr>
            <p:ph type="sldNum" idx="14"/>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F52F5-E8BF-43EF-A1B7-1CF87C8315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9" descr="durban-title.jpg"/>
          <p:cNvPicPr/>
          <p:nvPr/>
        </p:nvPicPr>
        <p:blipFill>
          <a:blip r:embed="rId2"/>
          <a:stretch/>
        </p:blipFill>
        <p:spPr>
          <a:xfrm>
            <a:off x="0" y="0"/>
            <a:ext cx="9144000" cy="6858000"/>
          </a:xfrm>
          <a:prstGeom prst="rect">
            <a:avLst/>
          </a:prstGeom>
          <a:ln w="0">
            <a:noFill/>
          </a:ln>
        </p:spPr>
      </p:pic>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1" name="PlaceHolder 2"/>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91F9E-C3BD-4317-8B81-CC988F56E3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sldNum" idx="2"/>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21FF0-D346-4AC5-9DB9-4E5BDE83F7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2" name="Picture 6" descr="durban-slide.jpg"/>
          <p:cNvPicPr/>
          <p:nvPr/>
        </p:nvPicPr>
        <p:blipFill>
          <a:blip r:embed="rId2"/>
          <a:stretch/>
        </p:blipFill>
        <p:spPr>
          <a:xfrm>
            <a:off x="0" y="0"/>
            <a:ext cx="1660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durban-2pg-bar.jpg"/>
          <p:cNvPicPr/>
          <p:nvPr/>
        </p:nvPicPr>
        <p:blipFill>
          <a:blip r:embed="rId2"/>
          <a:stretch/>
        </p:blipFill>
        <p:spPr>
          <a:xfrm>
            <a:off x="0" y="6102360"/>
            <a:ext cx="902484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 name="PlaceHolder 3"/>
          <p:cNvSpPr>
            <a:spLocks noGrp="1"/>
          </p:cNvSpPr>
          <p:nvPr>
            <p:ph type="sldNum" idx="3"/>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92635-EC5A-4CF5-8DFC-8016A4ADAF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19" name="Picture 6" descr="durban-slide.jpg"/>
          <p:cNvPicPr/>
          <p:nvPr/>
        </p:nvPicPr>
        <p:blipFill>
          <a:blip r:embed="rId2"/>
          <a:stretch/>
        </p:blipFill>
        <p:spPr>
          <a:xfrm>
            <a:off x="0" y="0"/>
            <a:ext cx="1660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41680-FB39-4157-B28C-0C8F39B7C3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58" name="Picture 9" descr="durban-title.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9" descr="durban-title.jpg"/>
          <p:cNvPicPr/>
          <p:nvPr/>
        </p:nvPicPr>
        <p:blipFill>
          <a:blip r:embed="rId2"/>
          <a:stretch/>
        </p:blipFill>
        <p:spPr>
          <a:xfrm>
            <a:off x="0" y="0"/>
            <a:ext cx="9144000" cy="685800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 name="PlaceHolder 2"/>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D7B14-C2AC-4C0A-828E-4CDFF377F5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9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3" descr="durban-2pg-bar.jpg"/>
          <p:cNvPicPr/>
          <p:nvPr/>
        </p:nvPicPr>
        <p:blipFill>
          <a:blip r:embed="rId2"/>
          <a:stretch/>
        </p:blipFill>
        <p:spPr>
          <a:xfrm>
            <a:off x="0" y="6102360"/>
            <a:ext cx="9024840" cy="755640"/>
          </a:xfrm>
          <a:prstGeom prst="rect">
            <a:avLst/>
          </a:prstGeom>
          <a:ln w="0">
            <a:noFill/>
          </a:ln>
        </p:spPr>
      </p:pic>
      <p:sp>
        <p:nvSpPr>
          <p:cNvPr id="236" name="PlaceHolder 1"/>
          <p:cNvSpPr>
            <a:spLocks noGrp="1"/>
          </p:cNvSpPr>
          <p:nvPr>
            <p:ph type="sldNum" idx="6"/>
          </p:nvPr>
        </p:nvSpPr>
        <p:spPr>
          <a:xfrm>
            <a:off x="25560" y="6481800"/>
            <a:ext cx="213336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E7085-D234-4714-A054-85ACEF61E05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3" descr="durban-2pg-bar.jpg"/>
          <p:cNvPicPr/>
          <p:nvPr/>
        </p:nvPicPr>
        <p:blipFill>
          <a:blip r:embed="rId2"/>
          <a:stretch/>
        </p:blipFill>
        <p:spPr>
          <a:xfrm>
            <a:off x="0" y="6102360"/>
            <a:ext cx="9024840" cy="755640"/>
          </a:xfrm>
          <a:prstGeom prst="rect">
            <a:avLst/>
          </a:prstGeom>
          <a:ln w="0">
            <a:noFill/>
          </a:ln>
        </p:spPr>
      </p:pic>
      <p:sp>
        <p:nvSpPr>
          <p:cNvPr id="274" name="PlaceHolder 1"/>
          <p:cNvSpPr>
            <a:spLocks noGrp="1"/>
          </p:cNvSpPr>
          <p:nvPr>
            <p:ph type="sldNum" idx="7"/>
          </p:nvPr>
        </p:nvSpPr>
        <p:spPr>
          <a:xfrm>
            <a:off x="25560" y="6481800"/>
            <a:ext cx="213336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F8909-FB11-453C-9021-B09857AF7DC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3" descr="durban-2pg-bar.jpg"/>
          <p:cNvPicPr/>
          <p:nvPr/>
        </p:nvPicPr>
        <p:blipFill>
          <a:blip r:embed="rId2"/>
          <a:stretch/>
        </p:blipFill>
        <p:spPr>
          <a:xfrm>
            <a:off x="0" y="6102360"/>
            <a:ext cx="9024840" cy="755640"/>
          </a:xfrm>
          <a:prstGeom prst="rect">
            <a:avLst/>
          </a:prstGeom>
          <a:ln w="0">
            <a:noFill/>
          </a:ln>
        </p:spPr>
      </p:pic>
      <p:sp>
        <p:nvSpPr>
          <p:cNvPr id="312" name="PlaceHolder 1"/>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13" name="PlaceHolder 2"/>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55631-3169-4F58-B03D-05AB8128126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387520"/>
            <a:ext cx="7772400" cy="245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0" spc="-1" strike="noStrike">
                <a:solidFill>
                  <a:srgbClr val="ffffff"/>
                </a:solidFill>
                <a:latin typeface="Calibri"/>
              </a:rPr>
              <a:t>GNSO Public Council Meeting</a:t>
            </a:r>
            <a:br>
              <a:rPr sz="5000"/>
            </a:br>
            <a:r>
              <a:rPr b="0" lang="en-GB" sz="3500" spc="-1" strike="noStrike">
                <a:solidFill>
                  <a:srgbClr val="ffffff"/>
                </a:solidFill>
                <a:latin typeface="Calibri"/>
              </a:rPr>
              <a:t>Wednesday, 17 July 2013</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50480" y="571320"/>
            <a:ext cx="8535960" cy="13842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8. Update and Discussion </a:t>
            </a:r>
            <a:br>
              <a:rPr sz="3500"/>
            </a:br>
            <a:r>
              <a:rPr b="1" lang="en-GB" sz="3500" spc="-1" strike="noStrike">
                <a:solidFill>
                  <a:srgbClr val="000000"/>
                </a:solidFill>
                <a:latin typeface="Calibri"/>
              </a:rPr>
              <a:t>on GNSO Review (15min)</a:t>
            </a:r>
            <a:endParaRPr b="0" lang="en-US" sz="3500" spc="-1" strike="noStrike">
              <a:solidFill>
                <a:srgbClr val="000000"/>
              </a:solidFill>
              <a:latin typeface="Calibri"/>
            </a:endParaRPr>
          </a:p>
        </p:txBody>
      </p:sp>
      <p:sp>
        <p:nvSpPr>
          <p:cNvPr id="581"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82" name="Rectangle 1"/>
          <p:cNvSpPr/>
          <p:nvPr/>
        </p:nvSpPr>
        <p:spPr>
          <a:xfrm>
            <a:off x="558720" y="2209680"/>
            <a:ext cx="8267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pdate of recent GNSO Review developments; upcoming public comment opportun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998720" y="2130120"/>
            <a:ext cx="668808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Review Update</a:t>
            </a:r>
            <a:endParaRPr b="0" lang="en-US" sz="4400" spc="-1" strike="noStrike">
              <a:solidFill>
                <a:srgbClr val="000000"/>
              </a:solidFill>
              <a:latin typeface="Calibri"/>
            </a:endParaRPr>
          </a:p>
        </p:txBody>
      </p:sp>
      <p:sp>
        <p:nvSpPr>
          <p:cNvPr id="584" name="TextBox 1"/>
          <p:cNvSpPr/>
          <p:nvPr/>
        </p:nvSpPr>
        <p:spPr>
          <a:xfrm>
            <a:off x="3594240" y="5467320"/>
            <a:ext cx="4216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NSO Council Meeting – 17 July 2013</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b Hoggar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Why?</a:t>
            </a:r>
            <a:endParaRPr b="0" lang="en-US" sz="4400" spc="-1" strike="noStrike">
              <a:solidFill>
                <a:srgbClr val="000000"/>
              </a:solidFill>
              <a:latin typeface="Calibri"/>
            </a:endParaRPr>
          </a:p>
        </p:txBody>
      </p:sp>
      <p:sp>
        <p:nvSpPr>
          <p:cNvPr id="586" name=""/>
          <p:cNvSpPr txBox="1"/>
          <p:nvPr/>
        </p:nvSpPr>
        <p:spPr>
          <a:xfrm>
            <a:off x="2038320" y="1600200"/>
            <a:ext cx="664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laws required (Article 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iodic Review of Structures and Procedures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inforce Accountability Mechanism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inforce Core Values (Article 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Goals</a:t>
            </a:r>
            <a:endParaRPr b="0" lang="en-US" sz="4400" spc="-1" strike="noStrike">
              <a:solidFill>
                <a:srgbClr val="000000"/>
              </a:solidFill>
              <a:latin typeface="Calibri"/>
            </a:endParaRPr>
          </a:p>
        </p:txBody>
      </p:sp>
      <p:sp>
        <p:nvSpPr>
          <p:cNvPr id="588" name=""/>
          <p:cNvSpPr txBox="1"/>
          <p:nvPr/>
        </p:nvSpPr>
        <p:spPr>
          <a:xfrm>
            <a:off x="2038320" y="1600200"/>
            <a:ext cx="664848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organization has a “continuing purpose” in the ICANN structure Performance and Operations; and</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any change in structure or operations is desirable to improve its effective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What?</a:t>
            </a:r>
            <a:endParaRPr b="0" lang="en-US" sz="4400" spc="-1" strike="noStrike">
              <a:solidFill>
                <a:srgbClr val="000000"/>
              </a:solidFill>
              <a:latin typeface="Calibri"/>
            </a:endParaRPr>
          </a:p>
        </p:txBody>
      </p:sp>
      <p:sp>
        <p:nvSpPr>
          <p:cNvPr id="590" name=""/>
          <p:cNvSpPr txBox="1"/>
          <p:nvPr/>
        </p:nvSpPr>
        <p:spPr>
          <a:xfrm>
            <a:off x="2038320" y="1925640"/>
            <a:ext cx="664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formance and Operati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Supporting Organization and each Supporting Organization Counc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How?</a:t>
            </a:r>
            <a:endParaRPr b="0" lang="en-US" sz="4400" spc="-1" strike="noStrike">
              <a:solidFill>
                <a:srgbClr val="000000"/>
              </a:solidFill>
              <a:latin typeface="Calibri"/>
            </a:endParaRPr>
          </a:p>
        </p:txBody>
      </p:sp>
      <p:sp>
        <p:nvSpPr>
          <p:cNvPr id="592" name=""/>
          <p:cNvSpPr txBox="1"/>
          <p:nvPr/>
        </p:nvSpPr>
        <p:spPr>
          <a:xfrm>
            <a:off x="2038320" y="1600200"/>
            <a:ext cx="664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iteria and Standards established by the Bo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ducted by independent ent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When</a:t>
            </a:r>
            <a:endParaRPr b="0" lang="en-US" sz="4400" spc="-1" strike="noStrike">
              <a:solidFill>
                <a:srgbClr val="000000"/>
              </a:solidFill>
              <a:latin typeface="Calibri"/>
            </a:endParaRPr>
          </a:p>
        </p:txBody>
      </p:sp>
      <p:sp>
        <p:nvSpPr>
          <p:cNvPr id="594" name=""/>
          <p:cNvSpPr txBox="1"/>
          <p:nvPr/>
        </p:nvSpPr>
        <p:spPr>
          <a:xfrm>
            <a:off x="2038320" y="1600200"/>
            <a:ext cx="664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less frequently than every five year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ycle computed from the moment of the reception by the Board of the final report of the relevant review Working Group </a:t>
            </a:r>
            <a:r>
              <a:rPr b="1" lang="en-US" sz="2400" spc="-1" strike="noStrike">
                <a:solidFill>
                  <a:srgbClr val="953735"/>
                </a:solidFill>
                <a:latin typeface="Calibri"/>
              </a:rPr>
              <a:t>(GNSO February 2008)</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ed on “feasibility” as determined by the Bo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Cycle</a:t>
            </a:r>
            <a:endParaRPr b="0" lang="en-US" sz="4400" spc="-1" strike="noStrike">
              <a:solidFill>
                <a:srgbClr val="000000"/>
              </a:solidFill>
              <a:latin typeface="Calibri"/>
            </a:endParaRPr>
          </a:p>
        </p:txBody>
      </p:sp>
      <p:pic>
        <p:nvPicPr>
          <p:cNvPr id="596" name="Content Placeholder 4" descr=""/>
          <p:cNvPicPr/>
          <p:nvPr/>
        </p:nvPicPr>
        <p:blipFill>
          <a:blip r:embed="rId1"/>
          <a:stretch/>
        </p:blipFill>
        <p:spPr>
          <a:xfrm>
            <a:off x="1517760" y="1852560"/>
            <a:ext cx="7778520" cy="407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ounded Rectangle 2"/>
          <p:cNvSpPr/>
          <p:nvPr/>
        </p:nvSpPr>
        <p:spPr>
          <a:xfrm>
            <a:off x="1778040" y="2971800"/>
            <a:ext cx="5842080" cy="304812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Cycle</a:t>
            </a:r>
            <a:endParaRPr b="0" lang="en-US" sz="4400" spc="-1" strike="noStrike">
              <a:solidFill>
                <a:srgbClr val="000000"/>
              </a:solidFill>
              <a:latin typeface="Calibri"/>
            </a:endParaRPr>
          </a:p>
        </p:txBody>
      </p:sp>
      <p:pic>
        <p:nvPicPr>
          <p:cNvPr id="599" name="Content Placeholder 4" descr=""/>
          <p:cNvPicPr/>
          <p:nvPr/>
        </p:nvPicPr>
        <p:blipFill>
          <a:blip r:embed="rId1"/>
          <a:stretch/>
        </p:blipFill>
        <p:spPr>
          <a:xfrm>
            <a:off x="682560" y="1852560"/>
            <a:ext cx="7778880" cy="4071960"/>
          </a:xfrm>
          <a:prstGeom prst="rect">
            <a:avLst/>
          </a:prstGeom>
          <a:ln w="0">
            <a:noFill/>
          </a:ln>
        </p:spPr>
      </p:pic>
      <p:sp>
        <p:nvSpPr>
          <p:cNvPr id="600" name="Right Brace 4"/>
          <p:cNvSpPr/>
          <p:nvPr/>
        </p:nvSpPr>
        <p:spPr>
          <a:xfrm>
            <a:off x="7620120" y="3111480"/>
            <a:ext cx="431640" cy="2803680"/>
          </a:xfrm>
          <a:custGeom>
            <a:avLst/>
            <a:gdLst>
              <a:gd name="textAreaLeft" fmla="*/ 0 w 431640"/>
              <a:gd name="textAreaRight" fmla="*/ 155880 w 431640"/>
              <a:gd name="textAreaTop" fmla="*/ 11160 h 2803680"/>
              <a:gd name="textAreaBottom" fmla="*/ 2792520 h 280368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solidFill>
            <a:srgbClr val="604a7b"/>
          </a:solid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1" name="TextBox 6"/>
          <p:cNvSpPr/>
          <p:nvPr/>
        </p:nvSpPr>
        <p:spPr>
          <a:xfrm>
            <a:off x="8051760" y="4294080"/>
            <a:ext cx="952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1" lang="en-US" sz="2000" spc="-1" strike="noStrike">
                <a:solidFill>
                  <a:srgbClr val="000000"/>
                </a:solidFill>
                <a:latin typeface="Calibri"/>
              </a:rPr>
              <a:t>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Yea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Review Next Steps:</a:t>
            </a:r>
            <a:endParaRPr b="0" lang="en-US" sz="4400" spc="-1" strike="noStrike">
              <a:solidFill>
                <a:srgbClr val="000000"/>
              </a:solidFill>
              <a:latin typeface="Calibri"/>
            </a:endParaRPr>
          </a:p>
        </p:txBody>
      </p:sp>
      <p:sp>
        <p:nvSpPr>
          <p:cNvPr id="603" name=""/>
          <p:cNvSpPr txBox="1"/>
          <p:nvPr/>
        </p:nvSpPr>
        <p:spPr>
          <a:xfrm>
            <a:off x="2006640" y="1600200"/>
            <a:ext cx="71373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to confirm or </a:t>
            </a:r>
            <a:r>
              <a:rPr b="1" lang="en-US" sz="3200" spc="-1" strike="noStrike">
                <a:solidFill>
                  <a:srgbClr val="953735"/>
                </a:solidFill>
                <a:latin typeface="Calibri"/>
              </a:rPr>
              <a:t>re-tool review framework</a:t>
            </a:r>
            <a:r>
              <a:rPr b="0" lang="en-US" sz="3200" spc="-1" strike="noStrike">
                <a:solidFill>
                  <a:srgbClr val="000000"/>
                </a:solidFill>
                <a:latin typeface="Calibri"/>
              </a:rPr>
              <a:t> </a:t>
            </a:r>
            <a:r>
              <a:rPr b="0" lang="en-US" sz="2800" spc="-1" strike="noStrike">
                <a:solidFill>
                  <a:srgbClr val="000000"/>
                </a:solidFill>
                <a:latin typeface="Calibri"/>
              </a:rPr>
              <a:t>(possible improved review regimen - OA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to </a:t>
            </a:r>
            <a:r>
              <a:rPr b="1" lang="en-US" sz="3200" spc="-1" strike="noStrike">
                <a:solidFill>
                  <a:srgbClr val="953735"/>
                </a:solidFill>
                <a:latin typeface="Calibri"/>
              </a:rPr>
              <a:t>confirm review/audit process </a:t>
            </a:r>
            <a:r>
              <a:rPr b="0" lang="en-US" sz="2800" spc="-1" strike="noStrike">
                <a:solidFill>
                  <a:srgbClr val="000000"/>
                </a:solidFill>
                <a:latin typeface="Calibri"/>
              </a:rPr>
              <a:t>(standards and requirements, aka “criter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to </a:t>
            </a:r>
            <a:r>
              <a:rPr b="1" lang="en-US" sz="3200" spc="-1" strike="noStrike">
                <a:solidFill>
                  <a:srgbClr val="953735"/>
                </a:solidFill>
                <a:latin typeface="Calibri"/>
              </a:rPr>
              <a:t>confirm timing</a:t>
            </a:r>
            <a:r>
              <a:rPr b="0" lang="en-US" sz="3200" spc="-1" strike="noStrike">
                <a:solidFill>
                  <a:srgbClr val="000000"/>
                </a:solidFill>
                <a:latin typeface="Calibri"/>
              </a:rPr>
              <a:t> </a:t>
            </a:r>
            <a:r>
              <a:rPr b="0" lang="en-US" sz="2800" spc="-1" strike="noStrike">
                <a:solidFill>
                  <a:srgbClr val="000000"/>
                </a:solidFill>
                <a:latin typeface="Calibri"/>
              </a:rPr>
              <a:t>(decide new schedule w/i 6-8 months – public comments)</a:t>
            </a:r>
            <a:endParaRPr b="0" lang="en-US" sz="2800" spc="-1" strike="noStrike">
              <a:solidFill>
                <a:srgbClr val="000000"/>
              </a:solidFill>
              <a:latin typeface="Calibri"/>
            </a:endParaRPr>
          </a:p>
          <a:p>
            <a:pPr marL="343080" indent="-343080">
              <a:lnSpc>
                <a:spcPct val="90000"/>
              </a:lnSpc>
              <a:spcBef>
                <a:spcPts val="700"/>
              </a:spcBef>
              <a:buClr>
                <a:srgbClr val="9537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53735"/>
                </a:solidFill>
                <a:latin typeface="Calibri"/>
              </a:rPr>
              <a:t>GNSO preparation</a:t>
            </a:r>
            <a:r>
              <a:rPr b="0" lang="en-US" sz="3200" spc="-1" strike="noStrike">
                <a:solidFill>
                  <a:srgbClr val="000000"/>
                </a:solidFill>
                <a:latin typeface="Calibri"/>
              </a:rPr>
              <a:t> </a:t>
            </a:r>
            <a:r>
              <a:rPr b="0" lang="en-US" sz="2800" spc="-1" strike="noStrike">
                <a:solidFill>
                  <a:srgbClr val="000000"/>
                </a:solidFill>
                <a:latin typeface="Calibri"/>
              </a:rPr>
              <a:t>(public comment prep; self-review/audit discussion, etc.?)</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94840" y="147240"/>
            <a:ext cx="8535960" cy="15541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000000"/>
                </a:solidFill>
                <a:latin typeface="Calibri"/>
              </a:rPr>
              <a:t>Presentation by Stakeholder Groups and Constituency Leaders</a:t>
            </a:r>
            <a:br>
              <a:rPr sz="3000"/>
            </a:br>
            <a:r>
              <a:rPr b="1" lang="en-GB" sz="3000" spc="-1" strike="noStrike">
                <a:solidFill>
                  <a:srgbClr val="000000"/>
                </a:solidFill>
                <a:latin typeface="Calibri"/>
              </a:rPr>
              <a:t>15.00-15.45</a:t>
            </a:r>
            <a:endParaRPr b="0" lang="en-US" sz="3000" spc="-1" strike="noStrike">
              <a:solidFill>
                <a:srgbClr val="000000"/>
              </a:solidFill>
              <a:latin typeface="Calibri"/>
            </a:endParaRPr>
          </a:p>
        </p:txBody>
      </p:sp>
      <p:sp>
        <p:nvSpPr>
          <p:cNvPr id="557"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58" name="Rectangle 1"/>
          <p:cNvSpPr/>
          <p:nvPr/>
        </p:nvSpPr>
        <p:spPr>
          <a:xfrm>
            <a:off x="165240" y="1571760"/>
            <a:ext cx="8966160" cy="411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ommercial and Business Users Constituency – Elisa Cooper</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gistries Stakeholder Group – Keith Drazek</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gistrars Stakeholder Group – Michele Neylon</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ternet Service Providers and Connectivity Providers – Tony Holmes</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tellectual Property Constituency –  Kristina Rosette</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t-for-Profit Operational Concerns Constituency – Marie-Laure Lemineur</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n Commercial Users Constituency – Bill Drake</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n Commercial Stakeholder Group (NCSG) –David Cak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387520"/>
            <a:ext cx="7772400" cy="245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Thank you</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0480" y="571320"/>
            <a:ext cx="8535960" cy="6858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9. Cross-Community Working Groups </a:t>
            </a:r>
            <a:r>
              <a:rPr b="1" lang="en-GB" sz="2800" spc="-1" strike="noStrike">
                <a:solidFill>
                  <a:srgbClr val="000000"/>
                </a:solidFill>
                <a:latin typeface="Calibri"/>
              </a:rPr>
              <a:t>(15min)</a:t>
            </a:r>
            <a:endParaRPr b="0" lang="en-US" sz="2800" spc="-1" strike="noStrike">
              <a:solidFill>
                <a:srgbClr val="000000"/>
              </a:solidFill>
              <a:latin typeface="Calibri"/>
            </a:endParaRPr>
          </a:p>
        </p:txBody>
      </p:sp>
      <p:sp>
        <p:nvSpPr>
          <p:cNvPr id="606"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607" name="Rectangle 1"/>
          <p:cNvSpPr/>
          <p:nvPr/>
        </p:nvSpPr>
        <p:spPr>
          <a:xfrm>
            <a:off x="419040" y="1333440"/>
            <a:ext cx="82677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GNSO has previously drafted a set of Principles on Cross Community working groups and circulated these widely for comment and input.</a:t>
            </a:r>
            <a:r>
              <a:rPr b="0" lang="en-US" sz="2200" spc="-1" strike="noStrike" u="sng">
                <a:solidFill>
                  <a:srgbClr val="000000"/>
                </a:solidFill>
                <a:uFillTx/>
                <a:latin typeface="Calibri"/>
              </a:rPr>
              <a:t>https://community.icann.org/pages/viewpage.action?pageId=30345124</a:t>
            </a:r>
            <a:endParaRPr b="0" lang="en-US" sz="2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 response to the GNSO Council request to provide feed-back from the broader community, a paper was adopted at the ccNSO Council meeting on 11 June 2013. The ccNSO Council looks forward to further dialogue on this topic.</a:t>
            </a:r>
            <a:endParaRPr b="0" lang="en-US" sz="2200" spc="-1" strike="noStrike">
              <a:solidFill>
                <a:srgbClr val="000000"/>
              </a:solidFill>
              <a:latin typeface="Calibri"/>
            </a:endParaRPr>
          </a:p>
        </p:txBody>
      </p:sp>
      <p:sp>
        <p:nvSpPr>
          <p:cNvPr id="608" name="Rectangle 2"/>
          <p:cNvSpPr/>
          <p:nvPr/>
        </p:nvSpPr>
        <p:spPr>
          <a:xfrm>
            <a:off x="584280" y="4545000"/>
            <a:ext cx="7721640" cy="180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view ccNSO paper</a:t>
            </a:r>
            <a:endParaRPr b="0" lang="en-US" sz="2500" spc="-1" strike="noStrike">
              <a:solidFill>
                <a:srgbClr val="000000"/>
              </a:solidFill>
              <a:latin typeface="Calibri"/>
            </a:endParaRPr>
          </a:p>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a:t>
            </a:r>
            <a:endParaRPr b="0" lang="en-US" sz="2500" spc="-1" strike="noStrike">
              <a:solidFill>
                <a:srgbClr val="000000"/>
              </a:solidFill>
              <a:latin typeface="Calibri"/>
            </a:endParaRPr>
          </a:p>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ext step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0480" y="571680"/>
            <a:ext cx="8535960" cy="17143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10. Discussion</a:t>
            </a:r>
            <a:br>
              <a:rPr sz="3400"/>
            </a:br>
            <a:r>
              <a:rPr b="1" lang="en-GB" sz="3000" spc="-1" strike="noStrike">
                <a:solidFill>
                  <a:srgbClr val="000000"/>
                </a:solidFill>
                <a:latin typeface="Calibri"/>
              </a:rPr>
              <a:t>on Expert Working Group on gTLD Directory Services (10min)</a:t>
            </a:r>
            <a:endParaRPr b="0" lang="en-US" sz="3000" spc="-1" strike="noStrike">
              <a:solidFill>
                <a:srgbClr val="000000"/>
              </a:solidFill>
              <a:latin typeface="Calibri"/>
            </a:endParaRPr>
          </a:p>
        </p:txBody>
      </p:sp>
      <p:sp>
        <p:nvSpPr>
          <p:cNvPr id="610"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611" name="Rectangle 1"/>
          <p:cNvSpPr/>
          <p:nvPr/>
        </p:nvSpPr>
        <p:spPr>
          <a:xfrm>
            <a:off x="419040" y="2435400"/>
            <a:ext cx="82677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Expert Working Group on gTLD Directory Services has published its Initial Report: </a:t>
            </a:r>
            <a:endParaRPr b="0" lang="en-US" sz="2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ttp://www.icann.org/en/groups/other/gtld-directory-services/initial-report-24jun13-en.pdf </a:t>
            </a:r>
            <a:endParaRPr b="0" lang="en-US" sz="2200" spc="-1" strike="noStrike">
              <a:solidFill>
                <a:srgbClr val="000000"/>
              </a:solidFill>
              <a:latin typeface="Calibri"/>
            </a:endParaRPr>
          </a:p>
        </p:txBody>
      </p:sp>
      <p:sp>
        <p:nvSpPr>
          <p:cNvPr id="612" name="Rectangle 2"/>
          <p:cNvSpPr/>
          <p:nvPr/>
        </p:nvSpPr>
        <p:spPr>
          <a:xfrm>
            <a:off x="457200" y="4059360"/>
            <a:ext cx="7721640" cy="180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onsider EWG Initial Report</a:t>
            </a:r>
            <a:endParaRPr b="0" lang="en-US" sz="2500" spc="-1" strike="noStrike">
              <a:solidFill>
                <a:srgbClr val="000000"/>
              </a:solidFill>
              <a:latin typeface="Calibri"/>
            </a:endParaRPr>
          </a:p>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a:t>
            </a:r>
            <a:endParaRPr b="0" lang="en-US" sz="2500" spc="-1" strike="noStrike">
              <a:solidFill>
                <a:srgbClr val="000000"/>
              </a:solidFill>
              <a:latin typeface="Calibri"/>
            </a:endParaRPr>
          </a:p>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ext step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50480" y="571680"/>
            <a:ext cx="8535960" cy="10540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11. Any other Business (5min)</a:t>
            </a:r>
            <a:endParaRPr b="0" lang="en-US" sz="3500" spc="-1" strike="noStrike">
              <a:solidFill>
                <a:srgbClr val="000000"/>
              </a:solidFill>
              <a:latin typeface="Calibri"/>
            </a:endParaRPr>
          </a:p>
        </p:txBody>
      </p:sp>
      <p:sp>
        <p:nvSpPr>
          <p:cNvPr id="614"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50480" y="571680"/>
            <a:ext cx="8535960" cy="10540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12. Open Microphone (10min)</a:t>
            </a:r>
            <a:endParaRPr b="0" lang="en-US" sz="3500" spc="-1" strike="noStrike">
              <a:solidFill>
                <a:srgbClr val="000000"/>
              </a:solidFill>
              <a:latin typeface="Calibri"/>
            </a:endParaRPr>
          </a:p>
        </p:txBody>
      </p:sp>
      <p:sp>
        <p:nvSpPr>
          <p:cNvPr id="616"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pic>
        <p:nvPicPr>
          <p:cNvPr id="617" name="Picture 3" descr=""/>
          <p:cNvPicPr/>
          <p:nvPr/>
        </p:nvPicPr>
        <p:blipFill>
          <a:blip r:embed="rId1"/>
          <a:stretch/>
        </p:blipFill>
        <p:spPr>
          <a:xfrm>
            <a:off x="762120" y="1523880"/>
            <a:ext cx="761976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387520"/>
            <a:ext cx="7772400" cy="245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0" spc="-1" strike="noStrike">
                <a:solidFill>
                  <a:srgbClr val="ffffff"/>
                </a:solidFill>
                <a:latin typeface="Calibri"/>
              </a:rPr>
              <a:t>Thank You!</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94840" y="147600"/>
            <a:ext cx="8535960" cy="13384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1. Administrative Matters</a:t>
            </a:r>
            <a:br>
              <a:rPr sz="3500"/>
            </a:br>
            <a:r>
              <a:rPr b="1" lang="en-GB" sz="2800" spc="-1" strike="noStrike">
                <a:solidFill>
                  <a:srgbClr val="000000"/>
                </a:solidFill>
                <a:latin typeface="Calibri"/>
              </a:rPr>
              <a:t>(10min)</a:t>
            </a:r>
            <a:endParaRPr b="0" lang="en-US" sz="2800" spc="-1" strike="noStrike">
              <a:solidFill>
                <a:srgbClr val="000000"/>
              </a:solidFill>
              <a:latin typeface="Calibri"/>
            </a:endParaRPr>
          </a:p>
        </p:txBody>
      </p:sp>
      <p:sp>
        <p:nvSpPr>
          <p:cNvPr id="560"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61" name="Rectangle 2"/>
          <p:cNvSpPr/>
          <p:nvPr/>
        </p:nvSpPr>
        <p:spPr>
          <a:xfrm>
            <a:off x="457200" y="1830240"/>
            <a:ext cx="8229600" cy="45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ll Call</a:t>
            </a:r>
            <a:endParaRPr b="0" lang="en-US" sz="2800" spc="-1" strike="noStrike">
              <a:solidFill>
                <a:srgbClr val="000000"/>
              </a:solidFill>
              <a:latin typeface="Calibri"/>
            </a:endParaRPr>
          </a:p>
          <a:p>
            <a:pPr marL="514440" indent="-514440">
              <a:lnSpc>
                <a:spcPct val="15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tement of interest updates</a:t>
            </a:r>
            <a:endParaRPr b="0" lang="en-US" sz="2800" spc="-1" strike="noStrike">
              <a:solidFill>
                <a:srgbClr val="000000"/>
              </a:solidFill>
              <a:latin typeface="Calibri"/>
            </a:endParaRPr>
          </a:p>
          <a:p>
            <a:pPr marL="514440" indent="-514440">
              <a:lnSpc>
                <a:spcPct val="15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view/amend agenda</a:t>
            </a:r>
            <a:endParaRPr b="0" lang="en-US" sz="2800" spc="-1" strike="noStrike">
              <a:solidFill>
                <a:srgbClr val="000000"/>
              </a:solidFill>
              <a:latin typeface="Calibri"/>
            </a:endParaRPr>
          </a:p>
          <a:p>
            <a:pPr marL="514440" indent="-514440">
              <a:lnSpc>
                <a:spcPct val="15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te the status of minutes for the previous Council meeting per the GNSO Operating Procedures</a:t>
            </a:r>
            <a:endParaRPr b="0" lang="en-US" sz="2800" spc="-1" strike="noStrike">
              <a:solidFill>
                <a:srgbClr val="000000"/>
              </a:solidFill>
              <a:latin typeface="Calibri"/>
            </a:endParaRPr>
          </a:p>
          <a:p>
            <a:pPr marL="514440" indent="-51444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94840" y="377640"/>
            <a:ext cx="8535960" cy="13381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2. Opening Remarks from the GNSO Chair </a:t>
            </a:r>
            <a:r>
              <a:rPr b="1" lang="en-GB" sz="2800" spc="-1" strike="noStrike">
                <a:solidFill>
                  <a:srgbClr val="000000"/>
                </a:solidFill>
                <a:latin typeface="Calibri"/>
              </a:rPr>
              <a:t>(10min)</a:t>
            </a:r>
            <a:endParaRPr b="0" lang="en-US" sz="2800" spc="-1" strike="noStrike">
              <a:solidFill>
                <a:srgbClr val="000000"/>
              </a:solidFill>
              <a:latin typeface="Calibri"/>
            </a:endParaRPr>
          </a:p>
        </p:txBody>
      </p:sp>
      <p:sp>
        <p:nvSpPr>
          <p:cNvPr id="563"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64" name="Rectangle 1"/>
          <p:cNvSpPr/>
          <p:nvPr/>
        </p:nvSpPr>
        <p:spPr>
          <a:xfrm>
            <a:off x="825480" y="1906560"/>
            <a:ext cx="731520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view of  focus areas and updates on specific key themes / topic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view of Projects List and Action List</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ents or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94840" y="377640"/>
            <a:ext cx="8535960" cy="13381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3. Consent Agenda</a:t>
            </a:r>
            <a:endParaRPr b="0" lang="en-US" sz="3500" spc="-1" strike="noStrike">
              <a:solidFill>
                <a:srgbClr val="000000"/>
              </a:solidFill>
              <a:latin typeface="Calibri"/>
            </a:endParaRPr>
          </a:p>
        </p:txBody>
      </p:sp>
      <p:sp>
        <p:nvSpPr>
          <p:cNvPr id="566"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67" name="Rectangle 1"/>
          <p:cNvSpPr/>
          <p:nvPr/>
        </p:nvSpPr>
        <p:spPr>
          <a:xfrm>
            <a:off x="825480" y="190656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94840" y="161640"/>
            <a:ext cx="8535960" cy="14000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4. Motion</a:t>
            </a:r>
            <a:br>
              <a:rPr sz="3500"/>
            </a:br>
            <a:r>
              <a:rPr b="1" lang="en-GB" sz="2800" spc="-1" strike="noStrike">
                <a:solidFill>
                  <a:srgbClr val="000000"/>
                </a:solidFill>
                <a:latin typeface="Calibri"/>
              </a:rPr>
              <a:t>on ICANN Bylaw recommendation (15min)</a:t>
            </a:r>
            <a:endParaRPr b="0" lang="en-US" sz="2800" spc="-1" strike="noStrike">
              <a:solidFill>
                <a:srgbClr val="000000"/>
              </a:solidFill>
              <a:latin typeface="Calibri"/>
            </a:endParaRPr>
          </a:p>
        </p:txBody>
      </p:sp>
      <p:sp>
        <p:nvSpPr>
          <p:cNvPr id="569"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70" name="Rectangle 1"/>
          <p:cNvSpPr/>
          <p:nvPr/>
        </p:nvSpPr>
        <p:spPr>
          <a:xfrm>
            <a:off x="295200" y="1359000"/>
            <a:ext cx="8535960" cy="506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work undertaken to deal with the most recent Reconsideration Request (13-3) highlighted the point that there is no currently defined policy or process within ICANN that requires the Board of ICANN or the ICANN staff to consult with the GNSO Council if ICANN Board or Staff is acting in contravention to a statement made by the GNSO Council outside of the policy development process (PDP). This motion recognises this point and seeks to recommend to the ICANN Board, a change to the bylaws of ICANN to mandate such consultation in future.</a:t>
            </a:r>
            <a:endParaRPr b="0" lang="en-US" sz="2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ading of the motion (Jeff Neuman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 of motio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Vote (Threshold: simple majority in each house 50%, i.e., 4 CPH 7 NCPH) </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94840" y="377640"/>
            <a:ext cx="8535960" cy="205236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5. Motion</a:t>
            </a:r>
            <a:br>
              <a:rPr sz="3500"/>
            </a:br>
            <a:r>
              <a:rPr b="1" lang="en-GB" sz="2800" spc="-1" strike="noStrike">
                <a:solidFill>
                  <a:srgbClr val="000000"/>
                </a:solidFill>
                <a:latin typeface="Calibri"/>
              </a:rPr>
              <a:t>to adopt the Charter for the</a:t>
            </a:r>
            <a:br>
              <a:rPr sz="2800"/>
            </a:br>
            <a:r>
              <a:rPr b="1" lang="en-GB" sz="2800" spc="-1" strike="noStrike">
                <a:solidFill>
                  <a:srgbClr val="000000"/>
                </a:solidFill>
                <a:latin typeface="Calibri"/>
              </a:rPr>
              <a:t>Policy and Implementation Working Group (15min)</a:t>
            </a:r>
            <a:endParaRPr b="0" lang="en-US" sz="2800" spc="-1" strike="noStrike">
              <a:solidFill>
                <a:srgbClr val="000000"/>
              </a:solidFill>
              <a:latin typeface="Calibri"/>
            </a:endParaRPr>
          </a:p>
        </p:txBody>
      </p:sp>
      <p:sp>
        <p:nvSpPr>
          <p:cNvPr id="572"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73" name="Rectangle 2"/>
          <p:cNvSpPr/>
          <p:nvPr/>
        </p:nvSpPr>
        <p:spPr>
          <a:xfrm>
            <a:off x="295200" y="2430360"/>
            <a:ext cx="8391600" cy="35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is motion seeks to conclude the work of the Drafting Team by adopting the proposed charter for the Policy  and Implementation Working Group.</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ading of the motion (Wolf-Ulrich Knobe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 of the motio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Vote (Threshold: simple majority in each house 50%, i.e., 4 CPH 7 NCPH)</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94840" y="161640"/>
            <a:ext cx="8535960" cy="22129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6. Motion</a:t>
            </a:r>
            <a:br>
              <a:rPr sz="3500"/>
            </a:br>
            <a:r>
              <a:rPr b="1" lang="en-GB" sz="2800" spc="-1" strike="noStrike">
                <a:solidFill>
                  <a:srgbClr val="000000"/>
                </a:solidFill>
                <a:latin typeface="Calibri"/>
              </a:rPr>
              <a:t>on the adoption of the Final Report</a:t>
            </a:r>
            <a:br>
              <a:rPr sz="2800"/>
            </a:br>
            <a:r>
              <a:rPr b="1" lang="en-GB" sz="2800" spc="-1" strike="noStrike">
                <a:solidFill>
                  <a:srgbClr val="000000"/>
                </a:solidFill>
                <a:latin typeface="Calibri"/>
              </a:rPr>
              <a:t>‘Locking of a Domain Name subject to UDRP Proceedings’ PDP Working Group (15min)</a:t>
            </a:r>
            <a:endParaRPr b="0" lang="en-US" sz="2800" spc="-1" strike="noStrike">
              <a:solidFill>
                <a:srgbClr val="000000"/>
              </a:solidFill>
              <a:latin typeface="Calibri"/>
            </a:endParaRPr>
          </a:p>
        </p:txBody>
      </p:sp>
      <p:sp>
        <p:nvSpPr>
          <p:cNvPr id="575"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76" name="Rectangle 3"/>
          <p:cNvSpPr/>
          <p:nvPr/>
        </p:nvSpPr>
        <p:spPr>
          <a:xfrm>
            <a:off x="457200" y="2784600"/>
            <a:ext cx="7835760" cy="33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s motion seeks to conclude the work of the Working Group by adopting the Final Report on ‘Locking of a Domain Name subject to UDRP Proceedings’</a:t>
            </a:r>
            <a:endParaRPr b="0" lang="en-US" sz="2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ading of the motion (Jeff Neuman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 of motio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Vote (Threshold: super majority; &gt;50% in both houses &gt;75% in one house </a:t>
            </a:r>
            <a:r>
              <a:rPr b="0" i="1" lang="en-US" sz="2500" spc="-1" strike="noStrike">
                <a:solidFill>
                  <a:srgbClr val="000000"/>
                </a:solidFill>
                <a:latin typeface="Calibri"/>
              </a:rPr>
              <a:t>i.e.</a:t>
            </a:r>
            <a:r>
              <a:rPr b="0" lang="en-US" sz="2500" spc="-1" strike="noStrike">
                <a:solidFill>
                  <a:srgbClr val="000000"/>
                </a:solidFill>
                <a:latin typeface="Calibri"/>
              </a:rPr>
              <a:t> 4 CPH/10 NCPH or</a:t>
            </a:r>
            <a:br>
              <a:rPr sz="2500"/>
            </a:br>
            <a:r>
              <a:rPr b="0" lang="en-US" sz="2500" spc="-1" strike="noStrike">
                <a:solidFill>
                  <a:srgbClr val="000000"/>
                </a:solidFill>
                <a:latin typeface="Calibri"/>
              </a:rPr>
              <a:t>6 CPH/7 NCPH )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94840" y="161640"/>
            <a:ext cx="8535960" cy="14000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7. Update and Discussion</a:t>
            </a:r>
            <a:br>
              <a:rPr sz="3500"/>
            </a:br>
            <a:r>
              <a:rPr b="1" lang="en-GB" sz="2800" spc="-1" strike="noStrike">
                <a:solidFill>
                  <a:srgbClr val="000000"/>
                </a:solidFill>
                <a:latin typeface="Calibri"/>
              </a:rPr>
              <a:t>on Proposed GNSO Letter on IDN Variants (15min)</a:t>
            </a:r>
            <a:endParaRPr b="0" lang="en-US" sz="2800" spc="-1" strike="noStrike">
              <a:solidFill>
                <a:srgbClr val="000000"/>
              </a:solidFill>
              <a:latin typeface="Calibri"/>
            </a:endParaRPr>
          </a:p>
        </p:txBody>
      </p:sp>
      <p:sp>
        <p:nvSpPr>
          <p:cNvPr id="578"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79" name="Rectangle 2"/>
          <p:cNvSpPr/>
          <p:nvPr/>
        </p:nvSpPr>
        <p:spPr>
          <a:xfrm>
            <a:off x="295200" y="1708200"/>
            <a:ext cx="8535960" cy="33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Council reviews the proposed response to an ICANN Board request on input regarding the implementation of the Recommendations from the Report on User Experience Implications of Active Variant TLD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endParaRPr b="0" lang="en-US" sz="2500" spc="-1" strike="noStrike">
              <a:solidFill>
                <a:srgbClr val="000000"/>
              </a:solidFill>
              <a:latin typeface="Calibri"/>
            </a:endParaRPr>
          </a:p>
          <a:p>
            <a:pPr>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scussion</a:t>
            </a:r>
            <a:endParaRPr b="0" lang="en-US" sz="3000" spc="-1" strike="noStrike">
              <a:solidFill>
                <a:srgbClr val="000000"/>
              </a:solidFill>
              <a:latin typeface="Calibri"/>
            </a:endParaRPr>
          </a:p>
          <a:p>
            <a:pPr>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ext step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5:15:36Z</dcterms:created>
  <dc:creator>Lynn Lipinski</dc:creator>
  <dc:description/>
  <cp:keywords>Template ICANN 47</cp:keywords>
  <dc:language>en-US</dc:language>
  <cp:lastModifiedBy>Lars Hoffmann</cp:lastModifiedBy>
  <cp:lastPrinted>2013-07-14T07:59:28Z</cp:lastPrinted>
  <dcterms:modified xsi:type="dcterms:W3CDTF">2013-07-17T10:17:42Z</dcterms:modified>
  <cp:revision>58</cp:revision>
  <dc:subject/>
  <dc:title>ICANN 47 Durban Template</dc:title>
</cp:coreProperties>
</file>