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</p:sldMasterIdLst>
  <p:sldIdLst>
    <p:sldId id="256" r:id="rId64"/>
    <p:sldId id="257" r:id="rId65"/>
    <p:sldId id="25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" Target="slides/slide1.xml"/><Relationship Id="rId65" Type="http://schemas.openxmlformats.org/officeDocument/2006/relationships/slide" Target="slides/slide2.xml"/><Relationship Id="rId66" Type="http://schemas.openxmlformats.org/officeDocument/2006/relationships/slide" Target="slides/slide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C35AE-EF5D-4DDA-A856-FB7F9CE8AA9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54A59-47CF-4EEA-B01B-6C2E3D42E19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56CD8-5320-46A5-AA62-C51D5B53BEE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C1239-7D03-481A-BBED-2AFB7F67F2A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78C61-8764-4D98-B136-09FF693FEBA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40E0D-9B8E-43CD-8359-EFB1EE70836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B1400-5494-4533-A173-F1D8B333360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D5624-C872-47DA-A5B6-DEB13B8FB62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6E2BC-0D78-4B4F-AFDD-E27D56C1C52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AD6F-0426-41CE-859C-C08825C8F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6072-CD10-41C6-BA14-9E3055AE0E2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B184-9C67-4CAF-BD6F-94427E3DC6F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9257-3E8A-4800-8CBE-3C6F48CEB3A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2962-28C3-42CF-A0DB-94851888DA4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B3D7-1596-4854-B2ED-2FFE9C68136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DDA5-2B9F-4059-9DA7-C26749D456D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26E7-D723-4CF5-B2A9-C952228D838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2655-300F-4838-A308-4D24921BE7C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DC6A-D54B-476B-842D-58B6F869D93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7BC4-2828-41A8-9288-D103225E14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6DFB-49C2-4DEB-BCE8-4E79F4C410B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1EB664-BD3E-41E2-BCA7-E93E20FA5D2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BDDE03-BA90-46E9-A452-F9130465ACB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C7639D-62A1-41D3-8F10-5F6502E683E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AE3653-722A-4599-BF64-9D4242D0F5F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630440-B0CE-4B09-86CF-858266AEB3C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CC41C1-EEA7-4972-80F1-251C37EA64B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9919AB-AE34-46E6-A8B6-CBC361C2FAA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9D6683-5572-477A-89C2-8A243968D0D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20AB35-1EA7-4573-A3DC-DF5894FE1C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4B7F9F-3571-4DA9-898C-05A2BE7D959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E28D97-CC17-431B-8641-E656AF2E1C6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58F76A-8C2B-47C6-B629-D5581693DF2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3CDA29-E2C0-4811-B0BF-CAABBF98E10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2F94A0-6EA2-43D2-A954-D8ED9748B46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9D250C-0A82-436B-9FCE-A9087E04707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83BC56-1374-4563-B5AC-680C374D089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FEEACF-25A8-4F30-B1D8-A1A9E5A0441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F75D24-DAB8-4FBC-8C44-58422472322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E83011-5A85-49B5-BE34-91DA31464C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42FB4F-56AC-4E4C-B315-1F9A2F2B890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A7B39A-74FF-4226-A8A4-F76A6EE5F91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D9F089-1540-4D85-A25F-95A7F5B99F6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ACBE08-5115-427E-A683-18FCF8E88FE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EA5385-8097-4E38-B723-1782852B788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C1D8A-5718-47D6-A917-2191EB18F5D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622A0-DE7C-40A6-8C06-047C88D2C8A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E0FBF-EFB3-4FB9-B4E6-21081DE2743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27849-DEB0-4BB7-B2A9-05EA1D0B1CE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A1B42-7CDA-4694-9760-57BCBEF923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CA7AB-94F1-4B76-B7C8-E479511BECB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E3A04-72DE-4F67-9992-9E8447BADD0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C1CE4-4118-47B7-94C8-C368CE522A8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A3DC9-219E-44E7-A73D-F53DB4691EB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B8DED-6750-4381-A509-C739B6E031A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23090-9AFD-47D0-BE70-509363B308B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9DBD7-F9C5-44DB-B677-0B18CA8C65D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3EB39-0072-4707-AA3C-9411EDF4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A0C53-19E4-441B-9DF1-E054806E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380CF-0B39-494B-9D05-0E2B21EB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CE4B7-12CC-4ECD-BCE0-7028F1A4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66885-F4C4-4F1E-9E05-71EDF1D8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A94B4-AF47-469D-87A2-0323F287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17D14-3A7C-4657-80EC-73621B2B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21FEC-A8BD-41E7-AA77-E49B6996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11FCD-0E85-4495-98AB-6283AF6B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27969-6B38-4122-A541-AC4757C4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E7F2D-E3ED-443C-A1E8-90628612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A20CD-92CE-420C-83BB-765E0DD00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C9D5A7-630F-4A15-9470-AC89C59A33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B11558-FD91-46D6-87D8-516F36C986A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C1BD9B-72A8-4E85-82E2-F8E1BC9339F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BA65CB-D156-4D44-9EC1-8C13BAB647E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C2DEF2-BAF0-431D-BDC6-F681A8A7451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8BEBEF-1FAE-48EC-A4A5-7A02E43D806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B0DF71-31E5-4862-8A8C-D11F6450AAC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5F206B-83D0-451A-846A-FA9C32160F2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3D4743-E9DC-4A83-BE99-FFDE768FB90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92D182-7C33-4C3A-9CC3-196FF39BE0A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A37E9B-C929-4F0E-973B-9414159BBB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05700D-8990-4F87-A292-E30CD0F603F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1C37E0-A37E-4249-BA5F-9EC4EAF6B2C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D0739C-11B1-478D-A7BC-C61D20F0E0F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D55D8E-326F-4FCA-B10B-13709069663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020EED-5FC5-43FF-9C89-7DAEA327F92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231E5C-918F-4972-BC5D-DD6FE9D00F87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685992-BF6B-47B4-A3A4-7C0F4D8CF41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F1DC2E-663A-4B2E-BE60-B8077AFD9A3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9BF107-63F3-4317-805B-2429D11A88C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33455E-2334-40CA-802D-A1000D051D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25EA19-61E5-4D64-B197-46381B36DDD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CAE653-AE2A-4A66-867F-29C974DBEF7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DDCFB3-6FF0-4774-8D8C-1AE43A705E8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6D38B-2E89-4019-9D5C-B15E89685168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D9632-FAFB-420E-B6AF-7E8507B22B3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53C33-DBCA-475D-86B3-8719579D09C0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4208F-145C-4B8B-A129-B5E0AD414FD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5E6F3-239A-4FCB-92C0-014B584E97D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434D1-71F3-40C0-9040-1F1FA0B93CD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49753-E761-4F9C-ABBC-15975E8853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12A01-C6CB-41B8-AE50-E4691A5E8A6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5AAAE-4636-4BFC-97F6-BEDF0A1D8A2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E91B8-C857-4079-B669-5FE438D344F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57FAA-8BEC-441C-A1A9-9649ACD1AFE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E5E10-8D54-4DB1-8B04-6A13CFE62B0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3CEF0B-4D61-43CC-9860-A36537B594C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853795-8AC9-4BD4-B4F4-6CDC4A0FB90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20E1D9-DB43-4F58-A3EC-0587C84D63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99B9FF-D267-401B-8D96-CE292C08581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AFB124-116A-4280-8965-090B457D9AD0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AEFB06-6E21-4FB9-B51C-0669FD8B212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4BCD13-208D-4D34-A0C1-268E49C60369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7529B2-387E-44ED-B5E5-01612AC73D7F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D82595-740F-4172-8226-C61FE4D6822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704005-F30E-43F7-BF73-A35F1C36789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BB1B97-5093-4E94-BC79-D76BE3286B8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C10070-E586-4E9B-81D1-DB42BD73C80A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D99DD8-FB34-48F0-B3F2-35C6BEF7D0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F148A2-30AF-4F98-83C2-2E4C7D29F873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416018-C5CF-4905-B0A0-8E63D164C62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D5AA16-3D74-49F0-BD82-B95B2A8ED8D0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F2E220-5790-4CB8-AF36-E890EB5B3957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0ECABF-E967-4C8B-ADB2-10FA086C01E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E9A22D-BFEC-4A89-972B-5BE2972CCD72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1854DA-A74E-4240-93C1-CBC267CAA63F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012EBC-66C3-40E0-85A4-A65918F255A2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BD091C-6677-46E6-9DE3-429709A73AC1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AC69D1-3A5A-49C5-BA87-D434E57CD8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C57082-F309-4A8C-A22E-D981D9AF718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BFA46E-6A34-4BD0-AD9D-EC0CAE829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2A4B0F-E5B5-4010-BDCA-2E885423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D9451A-93F3-4306-8486-AD20119A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3C47FF-E1C6-41FB-AE8D-ABF9E221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AED145-7EEE-4153-AF80-6D131A6D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65EC7A-15D9-4FBF-A09D-3E8F0F64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671576-EF45-4E87-AF89-2E246075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C0A2AA-4AF7-4B1F-91F2-71036708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3609CC-8C9D-428A-88E5-B8521499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D38D42-6D98-4F1B-989D-8C8C92FF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2ECE78-452D-4DFD-B203-E561EEB0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45ED6F-FA7C-444D-BDA3-2E227B46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549E0-D826-4732-80D7-0D1C9814610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52688-9019-4923-8D8F-16D4529D90C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9D81B-7A57-48F5-9F2C-34BC4EE4A760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7255D-A90E-41D2-98B2-39B94E5EF7B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20A05-1FC9-4DE0-8D2B-07467C8E3430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D64C5-8744-4F00-ABD1-289E9EE1AF6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479A9-14A1-442C-BA70-BD1FA5E1C1E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866D9-D8D6-4732-931A-C25B31F76C0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FBBA0-2833-4F72-8906-27A23CCF9E17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07999-FAB4-444B-AB1C-83E725AC522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653A1-488F-4DFE-A69A-AC129D1DBCF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EE607-338C-4B7C-8643-A7B576A82C25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0DB743-C79E-4FCF-9421-23E09FFD8F4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C65B3B-BEF3-4811-9904-DD6E3592084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9079D8-592A-45BC-9F72-6DE19036703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901324-E7A2-4364-8ACA-C9903AC9794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22CA34-B38A-4ACA-8CAE-F521C2B0CD1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786924-7CD5-47A4-B996-FCCDC3684E4C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BA9CDD-2AF3-49C5-9328-0389FC5892AB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549CDC-D574-4F41-B431-1A20A66B89EB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996CDF-CFED-4C45-BCB7-0B05E5EECD65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BABBEA-49A0-4ECD-83BB-6D51B39ADDF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4B65E6-9F9B-4BB1-AA21-73693970562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FD3A48-AA55-4F2A-AD34-5FD7D626BA6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BCB62C-E9AD-46DA-9E37-093AA086D7F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0909EC-F16E-400E-8AAC-1D772FA2997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97944C-F427-461B-B10C-B169C1B5D2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130A67-FF5C-4D7A-843F-302FC157075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81B35C-07AF-456C-8D62-48559D3194D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25EC5D-25AF-4766-875C-FFAF73C552D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7EDF36-C399-4C56-A204-A233CBC99C0F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20FA62-91B8-428B-B313-26E47AE7EF3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6AA71D-78B2-4074-9658-BE32E73E2250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FFD207-CCBA-4208-BA43-DFE32EB30228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A5004C-C2A3-40E5-92D5-53287651C27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3DCE4F-D14F-465F-91B7-ECAF7693385A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9B07D-AB76-4B6E-8E31-9FDD4018A03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BE6DB-3A7C-4D9B-98E1-22B2D3933D1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AF873-129F-4FCA-B344-CD728A91788E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D84D2-5B82-4876-802C-8D0A9DA8EF14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E1248-4F26-4280-8EF4-5E8BCF9C3226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9F9A2-9BBC-4F3A-8E88-BA257BFC3D03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E26A8-1075-41C1-B771-2A040739B39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84FAC-3C1D-4550-ACB1-41BEEF9495B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B01F4-7640-44BA-BE63-3E5CB66C43B6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66E71-901E-4D26-8DFF-778B268DE2D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04D0B-7A3B-4392-BB76-034F9C148E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FC799-BCB6-46C5-A443-A71FAD29BF0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BDB5D7-7DD4-4289-B86B-26FA9A0C9C2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A7891F-A38F-426C-9FDE-FFDFBC5FAE95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F42EE3-D4E3-43FD-8666-C6297A2A6E1D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13DB37-EA2E-46B3-9272-BA1C71884AA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DB6F7E-DBBF-4174-8C0C-DA23E83EBDFD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247187-48B9-4D08-BFDA-D55C2E1EA66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D1B455-2B04-4997-A267-E0CDB43D35B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E611BD-C757-4706-8A3A-A1B9289C2ED9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F56261-CBDF-45E6-BDA4-24DC7BE1FA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DEF638-22A1-4775-8C54-75CDBDAC0C7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CE3997-33C7-4416-8D3F-F397F354ECC5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980A5D-3DA5-49C8-B9B6-0D9907506B43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ABDF51-9E30-4090-BAAE-F0DBA4283684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F0965A-F03C-461B-9406-8A9AFD550A44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F8674E-9EB8-4E2A-8B56-FB7C1508196D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E52B51-B1D9-4943-9D5A-B1B904DF69C9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32CD93-EDAF-415D-9EC8-63DF98B8B1D9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1199DE-9B2C-4484-9960-99BD02C8B106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B2B672-E9A4-4BBC-822F-6D936941CD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493913-86FC-4997-A26E-77561C07AC92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53AB4D-D67A-4E35-98BE-A53E6F586771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131645-B1B3-45BB-9959-D1443B01163F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97862D-8489-4BF1-9720-CA57A6B3C3FC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BCB339-6563-4B28-BC4D-CA32C7F458CF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D70AE-E87D-4E0E-A42D-A0388DECA8A3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51234-EED8-42CC-9DFB-29C9FB4C3607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047A9-1D71-45B7-85DD-A9EBC5883E43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73162-2488-4981-8A0F-ED2B045F8000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17927-EFDA-41A2-A0AC-B43F326E235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6C15D-105C-414C-A69D-DACB23159DA2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BBAD6-1FF5-4033-9607-7FC5C5BBC959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2D30D-E042-4CBA-AC90-94B0F6213D1A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B03B2-5DD6-49AE-8BDC-434175B2A362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6CE8F-C414-48FA-A1B6-0AF4A0E052E0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282EF-DB8F-4614-8872-F43DE69B42E3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3528E-A84A-442E-BD38-7DD7C1327F3C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1A0C0D-7CF1-4088-87BB-A14311E20B6F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CF8532-8FE3-4CE8-91EE-93A7BAA8D9AF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7EFB72-DCA5-447C-B441-5DA7EFA9BE7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442852-DE55-40A7-BFBF-087BAB709897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091A93-95DE-46FD-8369-C03C18D23350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59F1FD-B84C-410A-8FCC-FBE33FA76D5C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65818B-1D46-40B9-9AF5-9BB3B479A80A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853379-FCBF-42B1-981A-597F130295C1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9A32FC-CBB4-48F2-8A11-8449D96FB0ED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BA77DD-F22B-42D7-8F4E-6E5648D21566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94E0A0-404C-401B-A449-92301570F1E6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C0EAF6-1ABF-421C-98C5-1A07BDC40464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DED61E-0BAE-4629-A511-0B5DB528C17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C002F7-E74C-496F-9AD9-46FA5CBA0A73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2BAA14-A374-4C61-B8EB-1D767D087C08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2AEC3A-AE1C-427F-A3AD-7052B207A041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10E732-D9AD-467F-8757-E210CCED58F7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5A8C5C-3298-4250-9C35-16CBBE3DF082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567E2F-4A91-4F93-93F2-73C626A83FB4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9640CB-D12F-4DD2-AF07-BC91D98C8CA5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62F7C7-996E-4850-AD66-A5FCA4830E98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16A7E1-9542-4BA5-8B49-A6C8EC799828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B13FEF-D3DF-4361-AB17-831E17DE5A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DA7CFE-689E-4C18-8D78-8308C125C7EB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B7EF7-1186-49F4-8FEA-C8EA91357A84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E91DB8-CC09-4D9B-AF9F-7B0F7C127599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4857B-CA79-4095-9C9A-A469F359EAEA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AE694-2FBB-4362-8EA8-F78347213E91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6402D-3A67-49D3-A946-C41EAB59DA7B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F3DB5-96B0-47DA-B79B-E9D1514CB215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8E204-906D-4F59-AAE1-5FC1CA755E18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026A5-E06A-43E7-A494-884DB2373C8D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6384F-82D1-4A85-9987-AFCE4E1F143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85212-15FB-4CD8-B1EB-40EE9608294D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B8A4E-923C-42D8-823E-B215D8BCAC4A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AFC51-A8FB-4C15-A379-1AFEEAB472A7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4A30408-07D2-40C6-9840-BA291ABEA60F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6985E18-2E48-42DD-80B9-F0D3C0C6F146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40C773D-E04E-4E3B-86FE-AA062CE3F3B0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00921A-41C4-4E81-AFA8-30AA14D2A200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54DACCF-600F-4A44-9BE7-70E81427D7D7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AB0AC9-3232-4970-A76F-317CBF83D120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888D1A-DB74-41F4-8AEE-A7FDE35AEF1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497F0CE-14E8-447F-98CC-17CEB3B98052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4703D0-EAA2-411B-8C4E-646738D2D72E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042A25-93A0-4665-AF1C-8F14FA1C406F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B18A6B4-7F3F-46F2-8ADA-0DBB38C8E359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DBD814E-70E0-4DC1-B82B-0522A22B71F3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9D8772-2DA7-46DB-91E6-BB5582AE31AA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569355-4BD7-4C9B-9764-333525CBD7F8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F08A1E-C7BB-43FD-9E8A-1BF1D4952D43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7E9142-4DA3-4EE1-BA18-2EFE0FD1C75A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4BE0FF-60D9-42A7-A9C6-9E95CDB32BA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2ACF93-8A40-405D-80F3-DBFB53CF2B96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96684A-E053-4A99-87BB-5B18BA1857F5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0E55E0-AE16-43FA-839B-325E26828DDD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1A87E3-1AFC-4D73-A970-5E71A9495036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2095CA-FFBA-40A2-8F30-9244A82776F4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EFD29E-E067-4F1F-B3FD-9C32D2B9F91D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7CC95B-8187-4637-A93A-E413C5375DBF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A364C-4D23-4618-95F0-6F3B4047193B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FD441-3D4C-4DAF-9D24-CE5CB0E685DC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87CF5-9FD3-4ED7-8418-B7B3E2E4C3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BDA00-490A-4B25-9BEB-DE8AE0AC46F1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8C1F0-1AD3-41D6-B514-9830C6658EA7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C433F-EC32-4705-84C1-B98A88329F1D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6FB02-6F96-4E83-93AD-A730E5349EE6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B8064-1487-4B61-8507-87F93C1BC4A3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19679-FA85-4DAF-ABD1-04DB3D19B58B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D496C-87A5-45FE-A446-9548F9160B61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85BD1-EC8D-4927-9EEA-4998CAF4486C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5B19A-2F43-436B-A018-06BAA4900D24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EAC87B-1310-4E3D-965E-606E3BB66B1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447B8D-1FAF-4D85-B22F-60BB05234D30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9B627D-FC3F-4C36-820A-2C807F27B74A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1BCF4C-3489-4232-A46C-3E25EBE5C72E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BB5E31-ED48-429A-8C18-3E85E4DA3D55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2208DD-FBD1-437B-AD1C-F6955E62B447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9D0456-86F4-45F8-BC32-4E1F3D743D2A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93DF04-B0E1-4769-A973-773A9A898459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88D722-4147-412A-AD26-0CBB2F6119E9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C5BC3D-CA88-4284-AEE1-2066C48E6CD3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624EFA-36A9-47F7-ADAA-C0BE71FED94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FE15C3-7567-4874-93D3-914C31B09D08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9776AE5-F691-4153-84D8-8B4BA41DCB38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E72D639-B5AC-446C-B796-18279C7DD3E0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932814-B060-4B3F-BCFD-BD89DFFD4431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1A8227-C3A6-4D36-B82E-6B5B22702766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435893C-042E-4AF5-9D4E-83CEA4C83BED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27A463-D92F-4A2C-BA8F-450AC3531E79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963E166-6A07-445C-BEB3-FBD8FC66FECD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000BA1-43AA-4707-91CA-FF4068716C74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61AE3C2-B8FB-4E94-B37D-9E9CDD49732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D46AC90-2042-42FD-AB72-FDBC2A81BD89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C5EFAA-7D6E-4138-A233-F7B6E86BF628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6608FA5-3A9C-4DA8-8E41-DC1410575690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68DD5-C184-40D3-BC04-69C8CD4E4929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D06B3F-AC5E-4EE7-A53E-864C7ED26B38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FD3F0-6A9F-4DEF-AF93-682E55A2DF77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AF259-D257-46D0-9DED-143F1DE75781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47363B-C269-41C6-9A47-CFAD90FA154D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66223-371F-442A-8BD5-FE155F7079EE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6E636D-CB77-437A-BBC0-E0F2BBC18AF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CD31BD-D5E9-4181-B1CB-365E5344452F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4A8929-8ABC-4552-8387-56FB67F7D858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77C57E-FFD0-4349-B91D-3395423C63B2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7F7243-1C74-4E4C-B447-7EDCFE872FF2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7EB20-51E8-470B-8623-CE2B8293EECB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C95776F-956E-49F9-8E18-D5A97910B8E5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A6EA0C4-EAB0-4AB8-804A-A5C48DAFA0AC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BAD08E1-8BA6-42DA-B47C-5080E6447CCE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DF4D7C2-F1B3-4E45-9ED1-D25E800804C1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6E9B037-DC39-482B-8737-C83734C5E84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8EDA983-A8AA-4638-9E3D-6FFE463FC04F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92743B5-AC8B-4019-AB70-94B3530CC35C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3DC5955-AAEC-4287-AECB-99293284EEBF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D8722F3-24EB-4D96-A2F6-44528F99D645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27B9A18-127F-41E4-B4F4-F0A0BB48340C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3CB2267-613F-41F6-95A2-08BF17684187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DEF6214-F24F-4CE0-B8CA-B3601C60771D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3203D3-7AC8-41B5-8613-4E9CEF7D24C2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8349C9-07D7-434A-9E5A-96FFDF7879B8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2BADDF-7750-4BB6-87A5-9813685C5F3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80518F-F4B6-4622-AADE-E85E8BEB8871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9ED0BD-5910-44E9-8CA1-1E9559FA12AF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289FAA-0298-4151-ACC2-FFA8114125EF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B9C378-3630-4C83-BA35-3DA63AA38853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306E48-1DB8-4BD6-83A7-210BA19909BA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5E38BE-8F17-4526-8086-9B0FABEE5CD2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EAABA9-6593-4B8E-8235-B4A22B88A187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06E45D-E39C-4254-82A7-DFB2C35C6245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F32B30-018C-4B4B-8E55-73B2F3938630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126AFF-AC42-4D72-B462-09811C913CE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09BB02-E03D-4E71-B08B-ADB020044E0A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CBED6A-C7A8-48B8-A7D5-A6182EA2293B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3B052C-77FE-4C5D-AD08-D9BECC655E46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DD8698-9EF9-496E-B418-50BE66F44A8C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E4DFC3-B8DD-423B-8B7B-4A3B0FAA9357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295B53-D1FF-4E7B-8AB2-DAC732E7ECF6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49B6A7-CC0E-40E9-99C2-62DBEECF24B6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3BC393-1607-4060-8857-C3FEC8D97ADD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562008-532D-4146-8060-7474CFCD65CF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BF1BA2-3C07-47E7-9EC8-48DE0A0C961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5CBD22-2D5A-4F5E-8266-6119102EA579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DECE2E4-261E-40C9-93E8-471278E100E4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567C294-341D-44D5-8ADF-BDBEB269BDEE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B3C99E6-27FC-44B6-AC16-F266E7D01FB3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17E5031-A4F3-4175-972C-81343035FCE7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49DE0CD-8C92-4E07-8EC9-541801E07FCA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3E32317-9526-4667-8540-91857D3EC9E1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5435E29-E39E-4E2F-B5DF-9295E04052EF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157B1FB-6752-4CC8-92A5-8F351C8C8364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6706A5D-EB45-4644-8B66-759405DEC87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3596F9B-0CF3-4772-B987-BA8C26C2B94C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2E0E78E-E708-4103-8405-9DAACA8185AF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FAA7C76-1C84-4256-B04B-6661D6A10304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84B7818-6532-4FF6-8BA2-05367A82B8D1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B7280B0-6466-46D1-B357-C6D4BC39A4F2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2D36495-3EF5-440E-9FCE-828EA6457651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9FC7E22-7586-4FF6-8BD0-1838DC6764AE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5DCC4F0-92BC-443F-8CE5-63632B140D9B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9B621D7-6CD7-48EA-989F-16DB18469C43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03D30A6-FE9D-40B6-9C8C-EFC405DB4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DF6D46F-1E86-4B6B-AA98-EB0425465ED8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D552CD7-C4E1-4251-9B86-A8E09054C3A8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D14AF03-AAC9-4D8C-B60C-590425226223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DA05DFF-B313-4C0A-978B-9C8408343A61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37B9BF3-AF91-46B0-AC8F-EFB2EE84FE27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4D66E9-0084-4200-B6C0-5D6545CD7723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ADA6F5-A71D-4DB6-A72C-6E1F5CB64801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7046E6-7CD8-4520-8ECF-CAA820E37B1F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D0B6BE-96A5-4FB2-BD9B-938AFF64243B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057FDD-DCBA-431F-BFC1-392CB3FE1DE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1E7C97-9926-4CB2-980A-5C72316062E7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779E8F-4544-4670-9496-A66F46E18BAC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01F5CC-094D-484B-B88D-3053047CB2B0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D0B8FF-DB9B-4D83-A88A-AF2EBEB7FDE0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700DF4-00FD-4324-8E9E-4F233F3623E0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20EB60-00E8-4CF3-9A4B-15EF554D7CAB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CCAF5A-3579-465A-8A5F-AE6A5139F0C4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DCC77C1-A25C-4E23-B76F-296C9DF2ECC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7FC0314-B7A7-46E6-AD3F-613A351FA1DD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C4831EA-7BE9-437F-B356-3716D8EFBB0B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E6DC607-303F-4A28-AAAF-3A56E62CC1A4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708EBBD-4353-4B2E-A23E-69A3D6736FAE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6E4EF3E-9278-4E56-B4E0-87F608D71B5A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9D6E963-E105-4278-A15F-F17EF93C5004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D03A9D1-64CA-40E3-8113-872F118BFB91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205A91A-7FDC-4339-A9A8-24FFF21879FF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9B995C0-DAC2-46A6-B3E8-AF613D1ABD18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E198DFC-F5A4-4266-8F83-B87D79A0E17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04DA3C5-B70F-420C-8820-76B165606877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8167844-D4A3-45C3-AEA4-1E3930670C7D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8A8F78D-3103-441A-B834-FA6D1D522707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053C4B4-BC38-476B-88E4-FD77B13F5067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E906C34-EA35-4AAD-8D8F-434C83156207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C7D2D43-48D7-4CEA-B86F-A90E9920BBCC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D66277A-0C17-439F-8B94-79369B4C800B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3D6B8B9-F681-41F8-A0AA-10AF566AE44D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D80F9EA-610F-4DBD-B5A9-C8DD8FF1A730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DFE29B1-76C7-426C-AD37-E723E9A0DF0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C9ECD73-002F-40CF-A5C4-A69BACED0C66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01D0B04-6E31-49B8-AA05-6BF83A5071A6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F48D3A5-36AC-4E55-AF6B-900FF8A3F583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5F9503-5A60-455D-9A5B-9438CB61D530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BE7BA2-A532-4670-871F-6D46A889CA52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43576C-F023-4C3C-B903-4A14944F55B7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FF2415-B7A5-4813-8050-BAF255B9DC98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3EEC35-741D-440D-9043-36B2AD5A3ECB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72B683-5DF5-491C-8477-0F694E71DF28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F41F51-3CEB-4634-9B9F-B0E1925F050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63A2E2-A759-46F5-B5A9-FE488F5663A1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766169-D12E-47D4-9C0F-7C6ECA5A5BBA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E899C3-B088-4A0D-9B27-4A83D05E8FBF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0BF253-5DDC-488F-AC16-443AA7C2CE31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2BE46E-F39D-416F-98FF-C61451F9389C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F5038CF-E8DA-4B4B-B59B-0A8433077D9B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40A6FD1-D2F3-446D-9793-D97655F35FC6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28393AD-3A8B-4783-AB0D-15168F4BD10D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69B3981-F9A1-47B7-9508-17D8B90B5B70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D7F2E76-33EF-4C90-9737-D8012B5B11A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C8BC64B-64F4-48DC-9058-612F7C6524AA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0C5942B-AA81-4B50-ABBF-5C3371406BD9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7C4AB3E-44F7-4D8C-8C2A-4AF41560253F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6DA884F-B7A1-48A1-8A1A-0726685EEE6B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790C01D-E6C7-4A53-9BF7-69C6BE509A41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7462B73-2B97-4728-9934-EF552DAD719E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36EF450-2229-4826-B232-0348A8E4B00B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ED1B49C-B3F5-4A9F-BEBD-99F813147298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FF450DB-A14C-4909-BA6A-D1DB8998B617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5A27CC4-AC7A-44B3-A477-63E5B168E67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755A01E-E448-4B28-A2FD-D75F3C466B9A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2005C31-69AA-4C09-835A-36E154E7105E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19DBD46-A665-4AEC-9DF3-21F68E8A4EEC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20B69E6-A8BC-4E3C-AE98-C691C9BCCE49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E47DFB6-FDAE-4A60-9684-C28A7767098E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08FC7A2-8F46-4118-95D0-0BB3B32D5FD8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9F90ED7-71C0-4D75-883E-21AC8E45D766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E87CE4A-6D9B-4CF7-9EDD-01DA0444E691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39A524D-97BE-495B-9E1D-869940013140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EC20D7B-3655-4DCD-8157-FF250577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94CADA4-1F86-4A70-8741-A567AC0F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F3125B6-B0A8-4D27-87CB-20E21A7A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2E8F52B-7802-4CBE-81E1-7A01AD31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7A3D15B-1F8E-4F01-99C9-A8BDC4A1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4B0ED62-57BC-4E13-BB52-06F976E4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30E4C9C-85B0-4F86-8DE6-0FB9CDCC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8E70931-0E9D-4E6A-BB04-ECDA8661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232ED73-E9F9-4E03-B96A-8C496ABC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5B47C74-5E9C-4929-9771-AF4FAFEE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D3981CE-8910-4A69-A6B4-ACB8FE869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0350419-640A-47C4-B6D4-CE163475C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E56DEA-65E8-4BF3-AF4A-29FF20124DB0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FFEB18-9C6F-4EDC-ADC3-1E4E73819E6B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BB4588-8331-458F-A505-AAC8E9AD0AF6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12A30B-5A3E-4F15-A9F3-9A8484FC79AA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C63593-402C-44BB-9ED7-EFE06BD976AC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65A076-C8C5-4162-A348-226FCDC77A2B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78380B-AF0C-4E2A-AA5D-F6ED53C99DF6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528113-77BB-46D7-BAE8-9235E80F303E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2603CA-B5CD-4BF9-991B-6882447C2D1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C396E4-B9FF-4342-909C-AFE07DB19E6D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FCE50C-69DF-4F1C-A1F7-7B22A7577A39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21AA38-E7F1-48CB-80F5-32874CB2CFE7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096CDA7-659A-4ED8-8B66-4133631FA696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3761079-3A84-4447-94E1-D0881DED5A76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289C77E-AB4B-49E5-B030-874799DDCA90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5E0CA5F-7B99-4034-9D37-4038813463CA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166A60B-5B6C-4670-A6D9-1BE491E4F29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0FCAC1F-0F80-4C21-8070-DE44F2E96E51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97BCB68-97B3-448B-8C35-702529A12082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28C8A12-F18B-4765-9EE5-A6F6CE9E47E0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33DBDC3-80A5-404E-B485-D49AF1E99C59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C8AA53E-6B97-419D-9ECB-43030298B529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2A29BCD-FBFB-4382-B994-02F36687FABF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E96A0B8-346E-417F-B9C7-E329EFC09F0F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57E6C37-6145-4BE1-BB7A-EA76AC2364D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E810C01-CFD1-41EB-A195-A1C146CA44E6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07CD008-2C74-4451-9A79-F24D0FFC55BF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FD27036-E2A7-4F14-8F76-B54DA2C5410A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C8C0890-FD00-4220-84FB-CB07FA84E498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86FA371-2A43-4B22-A0DE-DDDE847D9B2A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49BB198-A87C-4315-8697-566D2CE5D425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591A2E6-F078-45A2-9315-2A5A633812B1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DF94762-A9D6-418B-838A-F896DFE9E50E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71721B7-DC47-4011-8475-BE66164DD791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59DA5FD-3942-4B1D-8BFA-C1A8EB53F3C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76BA1C8-7191-4E49-B814-73B13728C673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8FCA12-E349-408D-9686-F36FE1FB06C4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2C7DD4-62BD-4883-9007-CDEC28C88708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3CBD5F-75B3-4493-9771-819EDBD3AEFF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5B213B-0A97-45EC-8101-1B90378DD4B4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9AE21B-AFB6-40EB-9617-309B661CEA38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B7C0A2-4143-4627-BD27-BB84EBB5CD15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795A63-FC31-4C07-8572-7398A6A5468F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36CA63-4CB3-4191-BAA3-FBBF09CF73E0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BA503A-E2D3-4920-AF24-37EC365C2AD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55460B-1849-4EF8-8B09-809AAFA6AB7E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AB47AD-BDC2-4292-8984-CF50560BC7E8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046D5D-73DB-4436-9700-899906BB81F5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D219600-B0B6-4C76-97A1-7F8600117304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96CCDAE-E3CD-4C99-B6E4-EC8FF669ECB4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97539F0-F257-4D1A-8B9A-0FAC82F50C22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F10B683-9192-4CE8-B883-5392E151E24E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09586E6-CD95-4F38-A089-64348D62F271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5169C2A-EF34-4DC9-B018-F8341EC2C1AF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E2FF3A3-FE2D-4965-8C6A-5BBD2CB6682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39DF095-DF99-483F-9A91-10A8E2C7CC1F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60A7BAB-1B16-498D-BCDB-24F040EF6055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C91A49B-FF0E-4CC0-BB79-C28713259FB4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E21705F-48E5-411F-9489-88E2CFDCB626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9194407-770D-4582-A21D-9423948FF81F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F125A54-8F4E-4042-928F-A3CF02A1A30E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C0E9E8A-30BB-4E7D-9608-042F1710AAAB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8EC839C-AC2C-4E20-9E08-A45922ED31C7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D8B83AE-BA97-4DC7-9A3C-DB6F56BDE19E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3AE9D5E-7640-4138-8834-44ACA883184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A30C2FB-827B-43BD-A6CE-7F964DAAD5D1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A6D1D6F-6528-4664-BA21-A8FEA806FA67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95A60BE-F1EF-4378-83F5-58522625FDE7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49503E8-47D6-4A8D-BFB6-4A071F3322EE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5FA0737-125C-4FCD-87DE-EB8DA6A4FD9D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E89F34E-999E-4578-A2EC-015FFB50599E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52047F5-53CC-4D40-9E3A-31B74A9417DC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3AB4DC-FB2D-4CC5-9CCE-B6C3DBBF0825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EE7805-0964-4133-B6B1-74725E3DFBBA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2F0C98-7B50-42BD-AA19-7E8303B6B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667E08-C29F-486E-BA75-545F2E609905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14EA96-4881-410E-BA8C-5A952F98C8F8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F5174E-F534-4696-B397-F85172C9741C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2ADF06-4461-43C5-9C1F-BC4AF40B18C7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8816FD-B3D6-46B6-84DF-484A195ACD8B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31AB36-0235-44E1-AD78-CADCAED763B9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55F65D-E6EA-4B8D-84C4-D4D846CC2829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76D39D-38F1-42DF-937C-2CBEED796035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3E01F1-21BB-49DB-ABA0-96FC93653F76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D98ED93-6CB3-41E2-9AD9-1985BDF330D3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5BB2BA7-5818-4B74-9DB6-CCE27CC4B893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02DBD4E-8002-4973-BB68-2C12CB3D2641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DFEBAB9-DAD8-4CD2-B118-70967307EE38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0734847-5A3C-4A90-8F51-C4B2C6759B10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919A9AB-B3C8-4E00-8D71-8E4E57A5170F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93EFE3C-A308-4B77-BC88-E30EC6B07A0B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5F5BAE2-43FE-4675-B7EC-4B3158790331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CA49AA2-1913-4242-B715-50ABD52D8C5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4E5E-8274-4F57-8A28-39E385E6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899B04C-D0E8-4FB1-9CB9-3B6CEC3383D1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9ADAC3E-7F84-4425-9059-54FABDA3FC05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3267E57-690B-4FB9-9690-07E4BBDB5A1F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1542321-B54B-470D-81B2-FB4EFD139D4B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E6E4C5D-515C-4D3F-8610-780093B149E1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FD9C06C-CF72-4934-BDCF-8589ED603EC6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185C13E-4BF2-4B24-B6F8-73303A4BFF8F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11620F1-019A-458D-9C78-DB662CBE6B80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048578F-69FE-432A-9F1B-DAA466654EC8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DF80D03-BABF-417E-8FFB-50C7E3AD11A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892E-145F-4FF6-B7BF-0585C5D8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4346397-625E-405B-BC71-BFE27A45C6ED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8321811-4564-4E6A-A37C-6F97295440F4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CA3E404-7D66-40C3-9E4F-0DF58D6AB5CB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1002744-9B55-4BEC-94E3-3454365CD1EB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38F7E6C-BCD0-4927-93E2-0D250CB3323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1F6F-171D-4231-8102-121BE2E7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45F5-D9D2-4B3D-A8B4-00190A57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534F-071F-4264-B6D4-F62970E3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490D-C55D-4530-8A08-7A87C2FA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E027-386B-42D7-B1D3-02D3CF6C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7939-E33A-420A-B58E-316B2D47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2CA4-37A9-42ED-91BA-706C8222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D628-8E7D-4410-A275-61F214C2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FA40-C3AA-4E39-9BD9-260D27A4B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609E-8B66-4843-B3D2-C168C9A61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BD45F-9F5D-4A0E-9CFA-25F9E52495F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D5C7C-141C-413B-866D-DDF72762BCF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ACB91-BD4C-4253-9EEB-3C10C2B6673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5C5DCB-2AC9-4487-A446-17F990BD234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6FD75-9DED-4F87-9C51-F904046F5C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1B3A0-E738-4B3E-9420-370C4737DEA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51B5C-8408-40CF-B238-EB965890DB6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460E2-0C86-4197-A92B-D6FEA3F123B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A7B2E-2DC3-42D2-AC79-E3842CDF089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0FD75-D2F4-44EB-871C-22B0B84F124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E68EB-5A08-4DCE-859A-B6511941C38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A9D0E-6CFB-4B5E-AB42-7F97EA696EA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D3FE5-04F6-48D5-9D02-02D5A3BDC10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06DC6-0A77-4345-83AB-CFFD6435F07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78E19-C3B8-42D7-AE26-DFD6C2542B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Num" idx="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Num" idx="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Num" idx="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Num" idx="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F86E1C-5C33-475E-961C-3D093D341107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CC5C7D-9C6C-4CA5-8F11-95CA7CF2F60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D92A85-CDBA-4C5F-A89A-71A27D3AEA9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606370-CBF9-4BBD-9D14-6C931BA863F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E00711-5079-464D-BDE5-A23DAC872F5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976D21-41FC-4C7B-8CE4-DB40D440880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FA0B8F-C72B-473E-BB68-09DF4E0C056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A38D06-2107-4939-A79F-27B3D48B3DB3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C9CC3C-6BC6-4E67-B76A-AC127FA132F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Num" idx="2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EAD105-C8FA-4813-AF68-B3FC421E8F6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Num" idx="2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681103-95C9-4FF5-84F0-C30DB8ECF22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Num" idx="2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EA44BE-F41B-4337-A10B-4A7B2C4661F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Num" idx="2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3DD387-DF81-4D4F-96E0-DA23E31FD11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Num" idx="2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E35758-9749-47C5-BE97-77EF0E98C98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Num" idx="2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C9E026-AD10-431F-AAE8-6DB6A52AA88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Num" idx="2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E7EE13-51DC-4FD2-9E1F-44879BF833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Num" idx="2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52A7DA-97EE-4EDD-AEA3-322E03A500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6E4754-731D-4A90-BE1C-3FB37E430205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48BA-Logo-640x320_11Sep13.png"/>
          <p:cNvPicPr/>
          <p:nvPr/>
        </p:nvPicPr>
        <p:blipFill>
          <a:blip r:embed="rId2"/>
          <a:stretch/>
        </p:blipFill>
        <p:spPr>
          <a:xfrm>
            <a:off x="6997680" y="5857920"/>
            <a:ext cx="1951200" cy="83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Num" idx="2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49266C-D9B0-43E9-8081-28B5E17E64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Num" idx="3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9005E8-09AE-4F37-8286-997B57D900D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Num" idx="3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AF3402-6ACB-4F7F-920B-6E7A6E642F0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ldNum" idx="3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73CC89-27CA-42D6-921B-3A15B4B6884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ldNum" idx="3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4298DF-11F8-4126-B3D6-3EC3747ED6F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sldNum" idx="3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2201E0-55D8-48E7-9885-9512FD7D40B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ldNum" idx="3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D4A14-A146-410D-B1A3-D141B9E6664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TextBox 1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Num" idx="3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970835-6F00-4FCF-92B6-12A573D4297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sldNum" idx="3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DD80F5-8E4A-411D-8A43-419D39CC2F3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ldNum" idx="3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0F7E1D-CF6F-41B8-A6CB-98F0539F0F9A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48BA-Logo-640x320_11Sep13.png"/>
          <p:cNvPicPr/>
          <p:nvPr/>
        </p:nvPicPr>
        <p:blipFill>
          <a:blip r:embed="rId2"/>
          <a:stretch/>
        </p:blipFill>
        <p:spPr>
          <a:xfrm>
            <a:off x="6997680" y="5857920"/>
            <a:ext cx="1951200" cy="83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Num" idx="3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ldNum" idx="4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349125-7F53-42AC-A8C2-7F5FA557B82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sldNum" idx="41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Num" idx="4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331866-CC11-45BC-871D-8977D3EDE81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sldNum" idx="4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919CB6-5107-4CB1-B887-5FC75CA058C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sldNum" idx="44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sldNum" idx="4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sldNum" idx="4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sldNum" idx="4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9A3E78-89B9-4D4E-AE34-98D0D8E4983E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48BA-Logo-640x320_11Sep13.png"/>
          <p:cNvPicPr/>
          <p:nvPr/>
        </p:nvPicPr>
        <p:blipFill>
          <a:blip r:embed="rId2"/>
          <a:stretch/>
        </p:blipFill>
        <p:spPr>
          <a:xfrm>
            <a:off x="6997680" y="5857920"/>
            <a:ext cx="1951200" cy="8319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 type="ftr" idx="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 type="sldNum" idx="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0C2951-665D-4127-AB2C-54EDFA82084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sldNum" idx="5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88579A-F5AE-440F-99EA-9F2CFF7E0F9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ldNum" idx="5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27BB43-4467-423B-B81D-AFCBC622803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sldNum" idx="5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E09302-0BFA-4129-A326-7878D580804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Num" idx="5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F2FADF-50BB-437D-B1BB-80BE7F25E6A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sldNum" idx="5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251CBA-AD72-45A8-A422-53AEFA4FBC4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sldNum" idx="5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A7B994-D50F-4BC5-8DC2-09BE77769F9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sldNum" idx="5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1D44C7-E0BA-4A1D-A3A8-F16A670B8DF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D128F8-2BFA-41D4-9C04-DE797FB3D7EA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3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2" descr="48BA-Logo-640x320_11Sep13.png"/>
          <p:cNvPicPr/>
          <p:nvPr/>
        </p:nvPicPr>
        <p:blipFill>
          <a:blip r:embed="rId2"/>
          <a:stretch/>
        </p:blipFill>
        <p:spPr>
          <a:xfrm>
            <a:off x="6997680" y="5857920"/>
            <a:ext cx="1951200" cy="83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sldNum" idx="5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D1FFDE-C9BC-4F0D-8F7D-8AB1D56612F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sldNum" idx="5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0C9539-9B38-4978-BF87-1BE5C6FBAB3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2A9252-BCE2-4E6B-87B9-B41F2E3314F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Num" idx="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D41B74-0691-471A-B351-23B4F012076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Num" idx="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cann.org/sites/default/files/packages/reserved-names/ReservedNames.xml" TargetMode="External"/><Relationship Id="rId2" Type="http://schemas.openxmlformats.org/officeDocument/2006/relationships/hyperlink" Target="http://gnso.icann.org/en/issues/igo-ingo-final-rcrc-scope-names-10nov13-en.pdf" TargetMode="External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cann.org/en/news/correspondence/dryden-to-crocker-chalaby-annex2-22mar13-en.pdf" TargetMode="External"/><Relationship Id="rId2" Type="http://schemas.openxmlformats.org/officeDocument/2006/relationships/hyperlink" Target="http://csonet.org/content/documents/E2011INF4.pdf" TargetMode="External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178920" y="469800"/>
            <a:ext cx="59770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Identifier Defin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"/>
          <p:cNvSpPr txBox="1"/>
          <p:nvPr/>
        </p:nvSpPr>
        <p:spPr>
          <a:xfrm>
            <a:off x="178920" y="1103400"/>
            <a:ext cx="768852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ier - The full name or acronym used by the organization seeking protection; its eligibility is established by an approved lis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 – the limited list of eligible identifiers distinguished by type (name or acronym) or by additional designations as agreed upon and indicated in the text below; may also include lists approved by the GAC (where this is the case it is expressly indicated as such in the text below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 – The scope of languages for which a Latin-script identifier is to be protec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1D373A-CC97-47D8-B304-FE8F76286C7C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178920" y="469800"/>
            <a:ext cx="597708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Identifier Scope – RCRC / IO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"/>
          <p:cNvSpPr txBox="1"/>
          <p:nvPr/>
        </p:nvSpPr>
        <p:spPr>
          <a:xfrm>
            <a:off x="178920" y="1103400"/>
            <a:ext cx="768852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d Cross Red Crescent Socie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 1 Identifiers : "Red Cross", "Red Crescent", "Red Lion and Sun" and "Red Crystal" (Language: UN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cann.org/sites/default/files/packages/reserved-names/ReservedNames.x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 2 Identifiers : 189 recognized National Red Cross and Red Crescent Societies; International Committee of the Red Cross; International Federation of Red Cross and Red Crescent Societies; ICRC, CICR, CICV, MKKK, IFRC, FICR (Language: in English, as well as in their respective national languages; ICRC &amp; IFRC protected in UN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gnso.icann.org/en/issues/igo-ingo-final-rcrc-scope-names-10nov13-en.pdf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national Olympic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 1 Identifiers: olympic, olympiad (Language: UN6, + German, Greek, and Korea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AA46A3-9374-46B3-BBAA-9DDB89FB8AFC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178920" y="469800"/>
            <a:ext cx="84963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Identifier Scope – IGO / INGO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ヒラギノ角ゴ ProN W6"/>
              </a:rPr>
              <a:t>(other than RCRC &amp; IO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"/>
          <p:cNvSpPr txBox="1"/>
          <p:nvPr/>
        </p:nvSpPr>
        <p:spPr>
          <a:xfrm>
            <a:off x="178920" y="1103400"/>
            <a:ext cx="865692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national Governmental Organiz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 1 Identifiers: GAC List  (22 March 2013) - Full Name (Language: Up to two language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 2 Identifiers: GAC List (22 March 2013) - Acronym (Language: Up to two languag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cann.org/en/news/correspondence/dryden-to-crocker-chalaby-annex2-22mar13-en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national Non-Governmental Organizations (other than RCRC &amp; IO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 1 Identifiers: ECOSOC List  (General Consultative Status) (Language: English onl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 2 Identifiers: ECOSOC List (Special Consultative Status) (Language: English onl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ote, this list of Identifiers are INGOs other than the RCRC and IO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csonet.org/content/documents/E2011INF4.pdf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207221-D29A-4314-BC5B-504F2AF1E8E6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09:45:36Z</dcterms:created>
  <dc:creator>Marika Konings</dc:creator>
  <dc:description/>
  <dc:language>en-US</dc:language>
  <cp:lastModifiedBy>Mary Wong</cp:lastModifiedBy>
  <dcterms:modified xsi:type="dcterms:W3CDTF">2013-11-19T10:57:23Z</dcterms:modified>
  <cp:revision>155</cp:revision>
  <dc:subject/>
  <dc:title>GNSO Policy Issues</dc:title>
</cp:coreProperties>
</file>