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sldIdLst>
    <p:sldId id="256" r:id="rId64"/>
    <p:sldId id="257" r:id="rId65"/>
    <p:sldId id="25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8812B-A88F-4599-9C35-4D90F7CEDA7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CB961-37BE-4799-8588-8E2E0F86E41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AB9A3-C230-4582-972F-75AD68FED10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C879C-0861-433F-918C-6EDBD561BA9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BF7D6-0502-4826-AF97-4CA6C7D4E70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67AB3-019E-4B99-ADA9-BB8E98EF706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A0282-1BC2-4573-9707-5EC4CD0C86D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DBF22-D16A-4BFC-B546-A2A5BDB4F87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BECC0-7586-4C32-A908-EA60EBB5782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F782-E57C-4E81-832F-CFC8F208C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D475-B5D9-45C5-A0BD-D661A1C5868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130E-6486-4FB4-B840-A2438614721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4621-5997-49CA-AE3D-13FFE8C8351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43D0-4842-4F30-AF79-0FC5017AD80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CC5A-5ADE-47C9-8D98-0707BA0400E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0F65-D356-4F62-929C-F4304021806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0A05-6391-4A8F-84F2-8282C02416D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6779-5755-416A-B37A-64C155CF322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0299-4E6C-44AB-A315-8CEA28FCD4D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78B4-E81C-431B-974E-593D01A3A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2B16-8847-4A89-B441-EB30E4CA5FE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D9C56B-3CB3-4489-B722-12FBF406C5F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19260B-A88C-46DC-B9B1-9580917F51F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0E879C-8F10-450A-B116-C1B203318B9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76E2F3-E2A1-40B2-9AE4-64EDA7AA6EC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023156-F429-4909-9677-37B373891A1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40CE14-B6FD-4100-BAE6-5AEA9BFCEE1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9CEA8F-4739-4EE1-AAB0-6BA745C99B7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12C61F-A615-4D43-A7BF-7FE912F8BB0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B410D7-AB02-4996-857C-2A83BB583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169573-4B42-4B28-8511-523F36D1DCB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26BE1F-DE53-468E-9DAF-ACC79B61D44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90C8B1-CEF3-4770-BB56-5F2EC8AA99B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EEC7A-A3A0-4F11-92DF-2B1349830E1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76B61-91E3-48B9-BEEB-A4FF31E6665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234628-165C-43C6-8C94-273DDE48E55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4093E-077C-41DA-90EE-34F02CF6D65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62570-620A-44B7-842A-A966B0F020F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17C49-1B84-4C39-A2FA-C273D8B515D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1B9BB7-0EB0-4D28-8DBA-25BBC7B9A3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814FA-F60E-4D3D-B39F-8103A99EC2D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3B557-8194-4305-9468-3E700E0B0F5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880AE-5CFA-41E1-9B7F-1B32844167D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336D3-9DB5-4A67-90CF-8310069CF0A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9F49B-A378-4D3F-88F1-A3DB2B6D9EA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877F9-EBF1-458A-B2B9-BAB3BA2DB74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987E8-0EC0-4A8C-AD71-69CF0CBCC1B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5B5C5-9A32-43D9-9573-9D22803D53C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FAF95-F33C-4047-A1A5-1FCD4EC467A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D9CD3-AA1F-4935-BDE7-7BD2B69C76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EBDBE-B948-45EA-8743-E0E1E42DE99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622A0-53B4-4704-BD04-E021D789974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29DAC-C85C-4503-ADA2-C4DB87FD184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FAB68-4411-40BE-B9CF-19321E004B7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EE3DE-7AB5-440F-A27A-FBCDD3EC9DE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12BF3-7991-493E-B25B-44163638BF9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B3915-A4B7-4154-8B6A-6491B0E9F0D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B3332-807D-4F05-9F10-065D1983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E9AD1-C990-459C-A5D7-809F7B3B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E6247-155E-40F0-84C8-E42E4C5D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7AFB5-70A4-4407-BFBD-839F2F5B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5920A-B7B8-4801-8A79-38193984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EF1D5-256F-4F9F-B218-006225A2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17B50-12AE-4AB6-B3FA-7B98B552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7A102-DEA8-48B9-B281-8CC91B04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E90F5-66CE-4FD1-9F8E-67BA52C9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BAC2C-8725-4545-926E-AD724964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A2CFC-4B52-4191-8528-B8421807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4796E-83C4-495E-940F-633641CE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EB9443-2AD7-48AF-A076-43CFBDEDBB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EB8019-DD40-4B96-9A1C-C3436ED13FA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C9AEC6-DF29-46A2-B8D8-376677A7049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9DC360-F593-47CC-B0A9-68BFF168E69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82DA2E-0969-4238-A4E5-92F9FD8F6BC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F27CD5-75F2-40E8-A20F-445BF247847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DDFE02-F9AF-4924-8501-1D5984C8D23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13C3D4-C52B-4E12-BE3D-5D7A1BE1A62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99D118-89A7-4204-8D85-9398FD9A9B6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40E47D-F727-4A0A-B0CC-69E45431072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C0E6FE-0917-4B65-92B8-742BCCC731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5AE969-254B-472E-96A8-E0340D2904D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6D311-FDA0-4F9D-97B1-E2A85016C53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F413ED-80B8-461A-A6EA-682E29110B6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C8E142-34B6-44C7-B9F2-5EFE161A54A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E93E6-0221-4C81-8542-32DD8818B4F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97D80D-BDA7-47C5-9344-83B225A5051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37FB0-8386-47CB-9FF1-9C9962CC94B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CC8B7D-7A2C-48B9-B493-CC30AAE3052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113F3-FB4A-477B-83A9-BE0193F3CCD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6365DF-6120-43AB-A509-1ECD36C6B0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9259EB-CBFF-4189-8E9B-9C6AD940D24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7A0B7B-60C2-4BF5-9A25-3A0CB8CAE21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E411E6-8922-4608-B94F-B29022D7A5B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EB781-0E76-4860-80ED-C346520BD73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320E6-6287-4BDF-BA40-EB7A6DBCD5D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1A45F-BD1D-4738-B623-50A5BE806D7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C3BD9-E42F-4913-92B3-8AC8FA90375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2544C-E473-4A5D-BA6F-E4F6C97367F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A7BBF-7EAC-4D8E-B473-2622DB8A3BD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3A3AF-D350-4F1B-98A3-AA10533D39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CA7C0-107F-481C-BF59-0D0C063A473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5B399-B4B2-486D-8C9F-EDC1F417574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7DDF5-00FA-4365-AAA8-39C39E4C2CC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CE6EE-E0DD-4714-96C6-B924D042B11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06E09-0E26-41AE-B8B0-D35F9C83039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9E74DE-C22E-4E66-AF18-93F85380929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CA4A54-C8D9-48FC-AB5F-4B25FD9720C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2DB4A5-DC96-48B8-8E8C-6F9F6BD25E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F6B63B-2D6E-4AB1-8F6C-A0A8F4E95B9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0578DF-89AD-48C6-A1C1-3E72C3E5B85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89417C-B45D-459B-8630-DC0C1A44369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C13111-1343-466C-9761-52AC62E67B3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AE9170-E986-46D6-9C55-E34AE3CCAA6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A35360-02F6-40CB-8F63-F3D14511053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48A534-EEA5-48A8-B990-3276F028ABB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AC9726-92E2-4B4B-A015-8EAE96A3604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907382-76A3-49E8-ADDA-742209FD081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855B79-43C9-4037-B3A2-57EDBE6572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AB9E17-A98F-4591-A753-E9DE0128CF6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2A18FB-BD5D-4866-9FDE-5E7ED4CB5FA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2F60F0-A77C-4A3B-B01F-516C0CE3F38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05F95D-4E68-46F4-9FB8-69C1568F6A2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B6B9F2-056B-427E-B494-502EF185C56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6D5BE-EDC2-40FA-BD6B-801714F5337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2F8118-B21B-4BFF-B806-A2FF1CCC397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02742D-02D9-420D-8AA5-AB54972048A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9758C4-2408-4A87-8A53-C1C6F978AAE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D47A41-F263-416A-A96D-1ED97DF641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37A38C-9F50-44A2-9482-55EF84C28AF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A363DB-D501-40D9-9D9D-B24DAA52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08F68B-1420-4F5B-9232-A8656248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F605AE-96C8-4EC6-AFC3-177C0963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D09AA3-36D3-4F3D-9D04-5E715638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2122EE-03C9-4BA9-8ABD-700A618D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C388A3-CA56-483C-A113-4AE4636A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6C26DF-3CF6-451D-A7E7-6FDDCC3B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6D328D-CE9F-4326-AAE9-A6BF027C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44404C-F657-4F92-8C0D-5EAEB335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61C378-9B08-4701-815F-2FAF53D2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A99332-FDEA-4C7F-922C-E7F6A1D8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519B18-CD97-42C8-8F3B-CEEFB879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9F5AC-797B-4EF7-909C-E5E95E6D711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48F87-4CDA-4055-8087-196713F039A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F1BDC-A959-4E64-A7BA-B5901D947A8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3BEAE-6CD7-4F1D-892C-E3698DF73B9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ACB77-A617-438B-A911-FA23A261541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A3ED7-50E6-4372-9A9A-90FA35EE3EA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8A915-7B05-44C6-9D21-45949DC9D3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84D17-F83F-4573-A09E-550133B933C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133F8-74F4-4B57-BE37-4F33810783B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40F4E-842E-402C-BA1B-7772F7C3964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9A832-92BF-4D8E-AE21-A068698F999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7EA3E-CEF8-4308-8B5F-983B321ECCB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C5C3BE-4D1D-4CB4-A288-95ED058DD54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6A1656-0B15-4F9A-8A63-4338AF675F6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CA5FE9-433C-4532-BC1D-71B05A8A573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0842ED-9F5B-4A01-B5CC-4CF732F8DC4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9E8ABE-F63F-430A-B018-98C71E381F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4EFB58-8B13-410D-9D81-9D6CD5FECBB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820ACD-34C6-4697-975F-B35DDCEB532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4AFE56-4A2E-4257-B677-08E7410DF53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4EC75E-863A-4D78-B355-2A296825713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A2A8C0-7EF4-48B1-B503-21EC8D029D2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B9C7AA-341D-44F5-B1EE-CF3AC6F0592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25D88A-83C1-46C4-B2AB-193D5F54D7F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B537B1-2AC2-4CF9-AC90-58100E0CD9E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123892-D718-4BD3-A4EB-7D1AA842A3C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E262E1-5933-4E2D-9669-3A042125A9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0124C3-9486-4D29-B6B6-477031CB5C6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599ED5-BD2D-4D95-AA39-A1ABA85AE42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208E37-3F40-47CC-81FF-EC0075BB734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BBC25B-7E5E-48CC-AA8E-805D3B1458C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1A4DDA-E73A-439B-BAA5-F531DA361D7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FCBCB0-E099-4B9F-BC07-937045E1866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D4D21E-7D5C-4C21-8D12-1C2C2921804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CC83E8-3392-4CB6-8072-E02B1F99E66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C0734D-0666-4879-98CC-EEA8021EC3D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00D95-91AC-478F-BEB2-1734D93A28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F060B-D265-4255-8C3D-455997AB424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E48EC-76FF-40EA-A5F2-D4267AD01AA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B1BBC-8EEA-4CFE-B96A-272C2B0FBC9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A2980-3430-40CD-BE23-82DCD2DE728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D754E-F74C-4156-B8F0-41F38983123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1E481-6B24-463F-8432-2DCB40A9D14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FAF49-E8A2-4779-B918-142419DB9BF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828B0-9589-4CE5-9BF8-9A9B5DC8F4D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18C3F-4805-4BE3-9D92-82EC9B4CC3F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3507B-F436-45B1-A3EC-6287FA1CAE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0FD71-FAA3-499D-A232-5F434518307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D62C69-E5F4-4224-846D-841EF8DC478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42A4A2-9F31-47C2-86B8-C11DA2D0BC7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E7797A-BC40-42F1-B602-1C22B5004F1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C05A55-1DC0-4551-84AE-3E556E83229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979E2-0B26-4D53-8A9A-1852BB13ED7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C94E6-3D4D-49AB-A4A3-C9F7C85385C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88938A-A9FB-4BBF-8B2D-F5DC2016148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2BCCA-F5C7-40AE-B151-D11510110B7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9C9B23-5EE9-441A-BEA6-2B7D3820E9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8C485-772B-4DCE-A1B9-9F3606C8566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2527E-7C22-4782-95FF-DD13BD6AF23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A6BA30-7182-4513-85BE-67C19691E53D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83306E-3B95-475B-B878-832D71F7F981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B02173-F534-44A1-9E7B-6A145FD84926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DD43EF-7091-4ADE-9098-8DEB69DE933D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A8F7F1-A050-482A-8C14-651A410A083F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027991-9877-4C15-A30C-3FD801B1083D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36864F-5353-4313-B78D-ACE1902B646A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8E835B-3BE3-4101-8971-63BC3EB0CC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9FA26F-1E55-4C16-9BA1-1981118F548E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DDCF6F-932C-4F7C-8AD8-01ACE0E1FE73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F8292F-DF73-4602-9A3A-50890D3D9FD5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BBD708-1527-4808-A8B8-5B4E66BBE1CD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D3FCDE-06FF-46AA-AFFF-45A9F46FAE5B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1F210-7996-44AE-B176-EF301C9D78A4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17177-0310-4FBB-9D16-86710EA2AF98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30358-5BD8-49D4-93E0-CF1A713C7259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24ADE-52F0-4F92-90DA-06237E9AC225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E2513-D49D-4EF2-990B-C50D937616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2D6D1-6A9E-4C2F-BCAE-B158EA93C2AA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91ACF-3BEB-4651-9531-2B7D79660382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826BA-F471-4C83-8495-B21930F63309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D049D-1FE0-4CF2-BBDD-B8F6E7704B94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A09FB-65FE-4801-9A1D-675E30FF2226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F1F2F-3E7F-441E-ACE0-E6B74B5B53E4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7E05A-3ADD-4750-B225-5F7CCBC335C9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F068F-4BCB-4037-A8D8-E9A8A0990E30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99D92-DE28-41C7-891D-188480D1063C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610942-77C5-4EF6-AB13-A0ADD419D8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8ED04-5215-4C1C-9799-16ECE8789939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36C4A4-130C-4794-85A9-4B5415A82BAF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E46BE5-E390-4848-B6C6-3493194627F8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80124-22FE-418D-9442-DAB510F4882F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E18D71-08FC-4FB2-B3E4-EED3432E2386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EEC371-C568-4C5E-90D1-81814EA8B56D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E1E44-38BA-41E6-9632-CB23AC404395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DA8B61-FFD1-4185-91D5-4F6399024D9D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DFF87-6820-46B8-9D91-CB27AD543860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745A4D-75C4-43B8-9C93-34D955CD0F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A2C3BA-B8B8-4D14-8DA8-D4DD8A32EED7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0CCB31-8A57-40D9-BCF8-9FDAA8FAFE42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9E6CD2-7FDA-463E-AC90-2D5C1AFAC67B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CECB58-F6AA-4E3B-82AC-25A639AAB5E7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F64669-2A1D-46D7-AEF9-86BC59964FAA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0E25C4-2B08-4E1C-B749-A082A4FFF28C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7471C8-371C-4320-BBEF-6C3848D6E85D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D7CFBC-9A3D-406D-ADEE-722EDAB9F61C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10F6E5-DF5F-45E6-BD89-4B936D3B57F2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B5C720-6E68-461C-9CBB-9F9BF0F211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F10844-680F-44D6-9EB6-F086B33A73C8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84814-2A61-42DA-9C9F-EB557B171F43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47230-ACC0-404C-B8AE-D05049D1AA49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C0A2F-662E-4035-AAF9-F65B5C4D6670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31CFC-7C69-43C5-8EEA-15D08EC68D65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6EA74-8125-4970-A358-B078754D4339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11A72-3BA7-4693-9167-25AF831C1490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3AC9E-B527-43DF-9258-FEEEBB57C1D9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BC4B9-D6FD-43A1-A498-BA9E9E28D573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8A2F9-1175-4F21-A7F6-FB597A73125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5438F-DFDB-4897-9E27-597E1AEA02E8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C579D-ACA0-45AA-A37A-309E41628552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F5567-07AE-41E4-AF60-568F19F1BAF7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992F47-0EDC-4AAD-8A98-59A4C2D57408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77FE6C-E140-40C0-B874-FE03FFF111C2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5E0677-58BE-4BEE-AE0B-F86A01A50308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4F3803-4381-4913-A0CA-B617A3739601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FE9FEF-5597-4B1A-A319-49F7B69573D9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ADADDB-DE0A-40C6-8422-9C2B4305F541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FA2971-48EB-43C8-9846-9F5D6613AF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42CB8A-59F0-419C-BEE5-BA5D4E1803B9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08CC03-A04E-41E4-9A16-8289BB514D2C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63A753-1FF3-4203-AD15-2E770A1E712D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2A1F1D-6113-4464-9E7B-376FE0A60F53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D9084E-74CE-4A77-BC40-E0E2D872302E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C6F60C-B097-4E08-BE7A-A6E4A89C3FF7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726BFE-49A9-4C88-B8E0-644ABA42AD71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3EADCC-0676-4A38-B064-8114320F35B5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504D1C-7C37-4073-9F24-64572C311432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0BCF75-3CA1-4A09-9958-4DDD68243A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60A9BB-FAF8-4DC3-BDE4-B23DE572AD02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7151C7-CF82-4BD1-A5DB-171EFC78C6A5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D21C2C-AD2A-41E8-9EB2-A5553E070DEE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ED898E-F328-4F9C-A60F-798C7D27D68B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EC7844-EB8C-4A81-8509-49F0D2015480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214572-4726-4175-B3B8-770109BFC948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C15934-6443-4160-BFDE-F9BE27B4E91D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1F7AA-CCFA-4854-9B04-919DDB72C487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D1F42-1AC7-432C-908D-EE8A4264F363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3C331-AAE6-4306-8941-4360A348E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A50C6-7F55-4A33-8316-4B54DEFDD8BE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D13A0-72F8-4347-887C-A6618B9E2CFA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28B0E-5851-4350-A7F2-F2C9C359D068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52736-F72F-4693-9F67-E9621CB619A1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1A199-3EF4-42EF-95DE-2FB6A0DED4BF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468FC-BE14-4392-BCC7-517D6863C411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ED5CC-EFA7-434D-9E09-4B2045C32E29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E1584-AF6E-4F77-B258-36F89DA68C98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9C820-C781-4027-9335-F244388D0937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035FF0-BF41-470F-A022-D5657474B9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4A109B-C80F-4153-A23E-8AC9B00C940B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91EF36-9731-408D-B848-02343BB441D8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71F65A-F8A8-4C67-B7EF-DE9B30B78EC3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217F1-F89F-4E19-AA64-8EFB3D34853A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7F426E-CFCD-431D-9C62-284C6103AD73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35F596-F0CB-4385-AA9E-307D630916CD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670A3-ACB7-47B9-B20A-A54B68DAC6D4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B9D0EE-20F3-466E-B9C4-BB91EC67201F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3D452-4CB6-40BA-ADAA-12998C782571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B4AD9-70DF-4C5B-9022-17C64F3B7E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F68FB-2195-48C6-9EC6-B743D8344B99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0DBE84-0CE0-4ED4-9B5D-273AADE49346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34E91E-1C0A-4AAE-A474-DB5A8B20A48C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59C19A-9EE0-4A81-82D4-D6CA7720FA33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B80377-4410-41B1-9DF1-6338BFC7B754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AF60BD-6BA5-4DEF-BB5F-C48BD1E9E88C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FFB7D7-C915-4DEA-917C-B7F85E2E2CB5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09A0D4-D83B-41C1-A86D-243497B490E0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A9CF7C-25D0-4FE4-B6AB-42CB4577B197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D97186-15D5-4E8D-9B42-8DFA60B58CA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00996C-DC76-4A7C-AAB3-2C2A1BA59956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D8458B-20A2-4EF6-BFC4-C71787F09CA1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AD867E-08AC-47C0-AAB5-DB7777D13269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239DA-8A62-4F48-91A1-37CED35E8C30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6D388-C641-4680-B500-FD0B12F55FA7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9A0AC-CFCB-468B-8EBD-F825BE2DB5CB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E79B2-CC4E-4363-9082-C53551A71F9E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7CE83-51A5-4F4C-B3D2-0D2A211881C6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7309E-F24B-408A-94AD-301CEBC76E49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2E856-F418-48B4-9709-FEE611F1FD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8EFB2-4C0F-415A-8ADC-7C6BDCE13097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12951-3655-410A-A6EF-15E7C83D2901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D965A-6D58-462A-9EB1-5B22B0316FAB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9D2F3-F5C5-43C8-A4C4-8F9F91B2C764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5CDB0-0B22-452C-AC18-229C210B6B86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FA7B24-143F-4E4E-93D7-818919223293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1D6717-F418-41A3-B527-40DFF1C89D2B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7B857B-B410-4767-AF77-DF868E652F5F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C34AEC4-F6E1-47EA-A40D-3ECF029D3CC3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0D21A2-99AD-416E-8B88-31698F55C5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77CEA9-220D-437A-87FD-471D86CE06E3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C3EF97E-B139-4D39-AA57-16ED04CF7858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BF71E1-EFAB-4E5B-BA99-29BB6201F7AB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9200C6-EFBA-44FC-9CBE-3DCABDBD15BC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960393-DC0B-45EA-BE2B-1B75BD27F132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41C2AD-C8AB-403F-965B-357C77BB1758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8EF92B8-8354-461F-AEE1-9FCD0FDFC00D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C7CD71-FCCF-499C-9FD6-FC16DFBBB6AA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595F4D-5918-4843-9357-764780444655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FE9A1B-E513-4578-9F60-DD59A44123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C83972-3DDD-4FC7-A4BE-39F9575FBBF2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B6BC2B-AF86-4A86-BD7E-CAD8869761B3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9ABB0A-CC54-4227-BF50-DB87398E1429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E63821-2149-4816-A6A5-C37A22AD20DF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3926CA-60BF-401F-A133-482C0CB4600D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08626F-E737-4FFA-9DAE-E48EBF3F2636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C01545-9BD4-4658-A852-CD805511A52C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A4DD5F-6EB4-470F-B384-0DADA69209A4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548FF4-B8FD-4D78-9977-CC8910A356E5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4E727-9269-4312-9178-31F34820BE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25D143-9EAA-4399-B52A-3D7C00CF77E3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69F7B2-3019-4D3C-8853-7CA3CF751F18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554E83-1AA4-4077-8CBB-7462589FECC9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C222E-7016-403E-B218-B7341B1D4DD1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6DEAA-FF57-4D20-9D3E-BD7F5E720933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1DC9B-2E4D-4EB0-B60C-4CE5C5E327EF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92EAF-6802-4A7A-AE90-12E1A95F3CCA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CB3D5-E42D-48B1-ABC2-EC2F5C603FC1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17173-B915-47EA-BABF-15F94927A747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F1564-3F5F-4034-8E46-4B75FB1ABE5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71A3C-3BE7-4501-ACD3-01F0167603D6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BF7F3B-9AC1-4BE3-A73C-073F7702D97A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5BB0C6-48E7-44F7-8A94-CE42903A013C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F44ADD2-60C7-4E1A-997E-9F903089F888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BDB3881-1251-4C24-9623-C3C4C951DD94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EB45F7-FF34-48E0-A00E-0DD14590D65B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F34B480-FCB5-4923-B6D5-FF101AF46BF9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F701AE3-4066-4923-9D4A-498CE9527BC9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744132-05DF-4E98-A451-D64E45D2DFFC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CFC5BE1-7A06-42B5-BC3F-4B147E05AD5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4CA4B05-3409-496C-AA52-BFB12D77A75A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5418F04-1D4B-4A77-BDC6-642C21DA9587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1E517F4-3044-4FBE-888A-05AAB5138432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F58C1D-0971-48CF-9808-AA37054B0C5F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3F5F55-02A6-4F95-ACF8-D1D7C8D0A914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07D6BC-89B5-4D9C-9409-6DA334CCB88E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5CB712-5E49-4E30-B89B-F889968A5640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021D1E1-FC5C-42B4-90A9-0AAF07EB6F0E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AED701-10AA-425A-9FC8-F56C14B475DC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6B94217-5E4B-494E-94C3-C649707BC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B8B9F8-CE53-4AB7-B7C6-7E6408E3CDEF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52FF8B-91B3-46F5-9ED7-380A4A2E2E49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BAD442-2208-490C-98C9-BC162D299773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A11DFCF-EAC3-4254-9027-B0D4952A8F8C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F5BC16-2EEA-4E02-9E8A-41B221E4DCF0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2142A7-E15B-42D4-B848-04D0A88C3999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872839-5E69-49BC-8A48-4F0CE6DDEE6A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126012-096B-49CD-90D1-CE00D59C8477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314341-07F7-4FF4-8D3E-43EF12F86CF5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138AE0-BD23-4E2C-A67A-78E479F16BB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C97EA5-29E6-424D-B429-4529056F3516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82B57-1AB9-40C3-94C0-A0C9D10B5A75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CEC7D4-9AC4-4B59-95B0-9F6A7B899EBE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9EEF88-FBEC-4B61-AA5E-41AB4C77FB6E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C21FCF-4DB1-4893-BC76-F3D095870A3B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01D488-7214-4182-8F60-BFF635FE16B3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07719-3B95-4A83-B974-5522F122068C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DEAA488-49A3-4D36-81BE-F8C9B5C7D1F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D703C0F-A63B-42C4-BD6A-E7CC1428ED51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E0F6EEC-85AD-4A75-9ED1-D891F1277998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1388415-2024-4338-B986-78C0E2C458D0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C3AF24E-08D5-4E71-8BDB-967EBE328C42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1FC4CD8-EF38-4EA3-9EAB-236345610D9F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CE9381C-3ECE-4BAC-BA52-5DEEF21F0972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DEB9F1B-6EDC-4209-B999-C2E658EBCA8D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C469E18-D62D-4B78-9AB0-953B2AC8B2A6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1BD0CEF-00C3-47F5-9A30-D92C7C800BF5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737705-842F-4E42-9C01-4C3351A3F1C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4EDDB83-9B2A-477C-9259-CC3ED30742FA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753FB76-965E-4E21-A04E-6070139A1A97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DB661A-FA30-4DAF-BD7D-EAA624356803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89DB92-18DA-4442-A6AC-05EA6C80DB0D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041EDD9-DA58-4058-AB97-D3A875217371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E9858F-6585-4459-9FAD-0AF22C9A4B22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506926-72DD-4D0E-B6FE-02DA9FC7DD8E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1A31F4-DF45-4368-B5FA-2495A77BEA24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B49E0E-2D0A-468A-824A-77ED6CF5C067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B2BFCF-2948-4AE8-80F5-2E53B79A8C3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50E6A7A-09F6-4055-816B-B8E80EDBD7DD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9F1837-8770-48A4-9635-04B4EB92825B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F7BB9C-C158-4879-B826-981EB5716078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D60C74-38C9-46A1-AAF5-211189FE4F11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3F6280-DC02-4A47-AA03-561ECE459961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9ECCBA-3043-4484-A8C2-21F7FEAAE43E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C7ACDC-24F9-4737-A0D6-1C946EF29C75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AADA32-AB05-421C-AD27-B14994278B28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42A556-EBBA-47BB-8628-FF4B8EFE4D16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84EB91-6960-4CAE-AF70-8DF4A6BCA57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20AB5C-723D-4EF4-A02A-B54F8F46A814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B0E42-B8C5-4E56-A258-70B7A258F5EB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738429-C67A-4971-B030-236CF3369509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379177-474C-49CC-B0DB-B61AAD393ADA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1FFA9D-7DDD-4DFF-A76A-C3F2A51341E3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412D60-4F22-4877-86FE-633469CC9CAD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29441C8-40A6-4D85-A366-7B8B868E3EBC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229CF6A-AAD8-4BC2-B945-A118494C9533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2C34C40-2CAC-4024-86F6-82AFAF7E2FE9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A560866-FF32-4E6C-B4F0-12429718444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7946CFB-2C54-4A54-B3A3-1274ED0FE512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AA1F654-BCDD-4371-BA07-C6EEB99587A0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A94051B-AC91-4B31-9504-C85FD3F6AF50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BBC1605-AB87-4C71-9A13-CCA76A10EE33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111DC13-5BE1-4D29-8B3E-8CF8DEBC78EF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E03CCC5-0090-4E8D-9B89-667B2D037E8C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36682C0-770C-4DD6-B02A-142A0CF1ABBA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AF875E-F236-486B-865B-96E2DB77D252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E6A0588-C33A-40FF-BF98-324C07C6BF6C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6171928-6FAB-4A41-85E4-D52A8B5717E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16A74AD-B9B2-4E67-BA36-39B3BC39FF6F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FD3147-AFE4-48C4-AAC5-D8A6A3B6A1C5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4BAB4F4-89B0-4FD9-8076-375AFCC08EA0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556258A-4090-473D-A69F-A049F88FF867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CD48486-C4E4-4DDF-A58D-063A4A2CE259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979063-BC32-41B1-9AE8-34F502049164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75EC367-1C1B-448B-AB22-AFB1A0B08887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DEF0FE-4E48-43BA-9E64-B2B501E88F03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135725-D283-4FDF-AC1C-53E717AB02E2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4FD2302-957B-4543-B07C-C01A0E66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8AA4B7-70D2-4BA9-9429-02D2475F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D3BF991-D68B-419C-ADAA-BE8F7646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E739E0D-1DD8-4241-BF59-BE9A1B44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908860A-BC11-477D-BA66-F042315F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D5267DD-AE8C-40E8-B849-C277AEE1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E22BF0B-8C30-4652-B449-46162B21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C7020A-44B4-45E5-A4FB-7F1A87AD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E2ADBFD-DF53-4035-A8F5-1B941EE1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49FC0F-A1B3-4D30-882D-56239EB5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C752E95-059D-477F-9516-EA78DE75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241DCAC-7E82-4725-8F45-25839466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151D0F-D909-46F0-B57B-7E5ED2F00342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1243C7-A510-46E2-ADFE-462469131576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01FC4D-094D-4E7C-9B9F-2815289AE615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90C9C4-0EF0-4EF3-AFD3-41948F660AA7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C944AF-02D1-437C-B025-E6B8C375B392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35862C-29B0-47E7-A1D7-D765A4665042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2793E2-265C-4BAB-B3F7-78981E0D65A9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7B93C9-20B5-453B-A64C-5B0179F14F48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350C34-1405-4489-8D49-F279DA89DDE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000F14-2DF9-443C-BA67-332DF0DD350A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87EEC6-DE41-4598-9413-5DE12560618A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8AE1C3-BFB3-4AC5-8713-A5855012F83E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398905B-73E6-4D3D-A5AB-D02F638D3F52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1E26224-1A80-4F12-B5AB-55C117B2B716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F650C0E-AD94-42B8-9712-8BB6747DBED6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1C38191-81C4-45ED-A69A-3E7750FDBC5C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A661758-5C80-4B52-B177-467BE1A7CD2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957E65C-3558-461B-B588-4827D75D9F20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1CD430C-903E-4691-A530-EAF1CEBECB92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50AB0A1-28E8-4E46-8051-9C77FC393D07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7819549-ADD7-425F-86D5-C107D79AA6D3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C34A751-4341-4C25-BE47-52E08C67DF30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2E62E2B-48C0-4442-BC51-847CBED515D0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7532D5E-B2D4-4525-846B-E83F653C9D33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A211286-EE1E-4D7D-ADC3-B5DE435A495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45422F0-F987-4B84-B1AF-B3D46EE7CFFC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7C1EC13-F368-46D9-B0B4-0800209B7E7A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00F2226-194F-4796-8F0B-FE6973C81909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67AD472-0CBC-4ED4-AB71-0E93228920E6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3DFDC8B-E82A-4307-8F81-DB06D0806815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792E3B8-EECB-4E9C-A7C7-11D687AD16C3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D6653BD-41CD-42C2-BE51-7D528838D3F2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9B64384-51A0-4955-8C39-E428B230E3F8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3E65778-2154-42AE-AC49-5437D5E66B4E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EE84053-97FA-4C59-85F1-1E9DACEB22E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036C2E-1983-4146-B7FD-23927487E5EE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26CD7A-186D-488D-99C6-71CC12E46ECE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B83D53-FBBD-409F-B7F6-857665D4CDA6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5C9B0E-2ABA-4200-8FAD-5BC9413E62C0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D06922-5E35-4AAB-AB20-A5FD7459F1AF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185425-D6C7-4FAA-BCF5-FE29446F3835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9C1423-481F-470F-B554-41D31BB9461D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FEADBB-1050-45A6-B217-25A5E8BC85B0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5AAD52-9977-41F0-8530-E3231FE8D20B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9E7C1D-F79D-4BE1-8D02-24EE8C5C3D5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93B4ED-8D02-442D-B6A2-3299C08FD121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37C678-C6FD-4A4A-9195-3DD3B07E1CA9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39045A-DEEA-46FF-8E17-93A3ECB2CF7D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CB82AA1-B195-48DA-B032-7A8B1337EDE9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9197391-7E65-4647-97E8-ECD1977DC786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2BC265D-486E-473E-B66F-505D30715381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C26244D-137D-4167-8DF9-6EBFB8703574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2B2E417-057F-4C9E-95DE-3E1B241DD66E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91AFB51-879A-4C51-B3E1-92F7C5C783FA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3B85CEC-F783-42B0-A4E0-70EDDBFEAA7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BE82965-A3C7-4767-AAEA-AEFF082786A7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EC52F15-0E79-4EFB-9E17-FA13BD83D1E2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0621592-891C-41CC-8574-D5D5A7550883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449C937-7A7E-4FF3-BBB6-A6C6329DA181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D335EB6-D3E7-4DDD-9242-1B6897A9B0A0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E659B1-07E0-4D2E-9EA0-E8CDF62B7BE0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5DA43B8-6CFE-4594-976D-FA6952FDEC64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1CE5372-2042-4E3A-8649-5FED99ACA2BA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BD92995-E521-4332-9C07-FA7334F0A8F7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BF83F02-0CBA-4BA7-95A0-84EA2B87780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5A50D96-1959-46E8-9C67-8FC537041289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CF8C801-1C7D-458D-A8DB-C631C680CFF2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21C7B7E-AB4B-44BB-A34B-661872CC66CE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76E5804-788F-4CFC-8510-8733EE864976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9528499-A719-47E7-84BB-836CAED8872A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781CE3B-4BB1-4116-B54A-811D1208DA22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3EC3DE0-6A01-4D71-8823-40AA71CE11CF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7856CB-07E0-4F37-9498-0F02CE3058E6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389CB2-D960-46FD-9974-0BBAAC3C7C96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41F1F9-19DD-4D22-B2E2-BE21048C5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02126B-5E9D-45DF-B3BF-7498E9517DD2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1724BC-A6FF-46A3-B3C0-802EAB72CA58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3AF605-8851-457F-AFDF-398E54E2CFFE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4FEBE8-A45B-4C63-B9DB-72839FA89647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0EF392-14D4-47D1-AF8A-08DB7AE11FB2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BA85A9-1EA0-413E-9EB8-9D2000B22DA4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2BC998-87A9-4818-8E8B-4C93C0B0D17F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129C5E-D0C9-42E5-94A7-FCB456AF1693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5C8B7A-7BF1-4F44-8DB3-4E4110FAF1A2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D3C1863-0763-40B6-9117-7361A1CCEBA7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26EAEB8-DC39-4956-8C37-E266A82D79FA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62DA5FF-65A9-4740-BB43-856351090352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641B2FC-81F7-4560-9F4A-9B18D4D5C616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557DC53-7B56-4549-A5DD-76A8A2C452C6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2638F36-14BC-450D-8F05-7B4244F8660A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C6A1193-566B-435E-B96C-20BA320CA7B3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3A0A0A5-CD22-4286-923F-928F6AA1A4FC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F41913B-7D2D-4F8D-8637-A8964CB00DE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122-39CA-476F-BEDD-B2B918ED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FE469FB-7AA7-4C30-9AD8-DA7C5B673195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E09727F-A2D8-4D57-B2E8-262BBCDA877A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6016F70-108E-4084-81FF-87F54AC0A0B1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27E6B7C-EFF4-49CB-82CD-3A0A9DB6F55C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3EB5C39-C366-49F3-87C6-9D38442EBCCA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0377F39-97A5-4BA4-AEEC-18136A6F00BC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97CB473-6728-499C-9DC3-A779AF52E2F4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A55EC5F-C875-4E68-9B62-FF48856BFC0F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AF35B4F-2350-4011-8117-8B43E6322FA1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F930DE2-9F89-41F4-9726-E9AD6943C49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800-A19D-4CCD-A337-DEED6897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E652E8F-525B-4A35-9117-D280844BADE8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EAE29B2-63CB-48BF-9C84-3FA9BDB40587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F43B0A6-DAAA-476F-B045-EDBB97CB5FCF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64C030C-2369-4D87-8D88-75CB4CBD61D4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5C574D9-D4FA-4465-9FD6-17CADE3D619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840-A1FE-4EE7-9D9C-C9E3C2A1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354-EBA0-4C83-8BFA-3243717C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19A7-C90D-4241-936B-D2B73F70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DE2C-0CFF-4DDC-AA1C-283B7BA3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4FE-7189-4E58-A5F7-5AEF656B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B7FF-BC74-46B8-8E51-60C61E75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7F0-1ECF-4CCD-B271-22D0A2DA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F5B-22DD-4B8C-BB32-CC757310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5CA-441D-4A48-8B35-DD4D52AE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8A0A-1EBA-4BCC-A1E4-A9B98486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DAF36-F776-4AF3-8D92-A3528DCFAD4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5F5E2-17DA-4A1A-A2CE-C9B74D3BCAE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3DF1D-382D-4527-B53B-728143D715C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611E9-7449-4BCF-88A8-DAE41552A78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5B44C-ABBE-437D-B596-75DB4D32F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6155C-A47E-4E54-B388-03332EBC7F6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CC552-F202-4A1C-A8F1-BEF9050EDFB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51EB8-875E-4D75-8D0B-86C66E07231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B70AA-3BFA-4FFD-8145-265308E28A3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55D3B-2BE5-40B3-844B-8F9ADA9A4A6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36543-65A8-4980-949B-92D0D66DE79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8938B-F808-4C56-AFA5-AA1D9029348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F8F30-C675-4E85-BFAB-DB5F654CACB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74C49-8EAC-4FC9-8909-1CA19A19AC0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0A3AE-057C-497E-AEFF-CCD6A2634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9280C-B79D-49CE-B65F-839A242BC918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12F9E-F6CC-4846-B278-12855003398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C2222-6E95-4D75-B028-D8614ACF467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3DCAE-68F8-412E-B07F-F24B75318DB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53AE34-6E97-4E74-94C1-B999CFCED2C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CCFB9-9CA2-482B-A17A-EADBBA9C22E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2C480-5252-440F-A794-7772CC5E513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E102F-5B5E-48E2-B970-D81830ABC6D0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81637-AA2A-4147-83C6-FF48645B992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965A0-C48B-4DF9-B59C-95E6DE496FB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2B0E4-A5D9-4E62-B9C2-FB800D087B1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202F3-B65E-4511-8007-9E683B0F2A5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8917D9-02AC-4F85-ABF4-52148AF69FF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96BAB-59A7-4120-9FF6-01020ECD1D9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367FA-15ED-4C47-8E24-3932B962B7F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0F0F8-5E5E-4996-B2F2-5A77E1ADC7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0AEC9-8078-4653-9481-3F71D4AB74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196D0-B6F0-4F68-9392-D4FC0A15EAC0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48BA-Logo-640x320_11Sep13.png"/>
          <p:cNvPicPr/>
          <p:nvPr/>
        </p:nvPicPr>
        <p:blipFill>
          <a:blip r:embed="rId2"/>
          <a:stretch/>
        </p:blipFill>
        <p:spPr>
          <a:xfrm>
            <a:off x="6997680" y="5857920"/>
            <a:ext cx="195120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1DC99-5349-45BD-B413-5206E5683F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727DF-4107-4AF5-9766-AF2067B3578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0C904-8520-4CA8-A6DC-C5D5217006C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2F0D5-2689-4FC1-8E0D-581F6D82C3D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721666-50E7-47F6-9DBF-F4ED0CF2D5B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9A5BBB-0170-4C8B-9417-3BED9A9E26F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EDD6B-FFB9-43D0-AAA0-96877395417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59A35-E54F-4070-8D92-B464522DDCE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6D335-D9D5-41FC-9925-BEFE2DD1674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E58B5-4E3B-4537-AD14-1B1405AAABA0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48BA-Logo-640x320_11Sep13.png"/>
          <p:cNvPicPr/>
          <p:nvPr/>
        </p:nvPicPr>
        <p:blipFill>
          <a:blip r:embed="rId2"/>
          <a:stretch/>
        </p:blipFill>
        <p:spPr>
          <a:xfrm>
            <a:off x="6997680" y="5857920"/>
            <a:ext cx="195120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FEB92-4476-4D7F-A95E-38D82788166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F9258-CA2D-4216-84CF-46E7BE66640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C75B8-A4DD-46D8-BD05-67B3C7BFFA5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3E34D9-489E-4904-B2BF-5EACA7508473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48BA-Logo-640x320_11Sep13.png"/>
          <p:cNvPicPr/>
          <p:nvPr/>
        </p:nvPicPr>
        <p:blipFill>
          <a:blip r:embed="rId2"/>
          <a:stretch/>
        </p:blipFill>
        <p:spPr>
          <a:xfrm>
            <a:off x="6997680" y="5857920"/>
            <a:ext cx="1951200" cy="8319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1F77E-1E2F-4EB8-98D0-3E0B925C1C0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97ED1-567A-4E45-BC16-64A62E5FF48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2B7C7-411D-4F3A-9901-ADC6ACE2977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DF915-577B-4F44-93E3-27CDF1D3011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5CB13-C896-4F8D-8413-76550E8BE3D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EAB71-13B0-43DF-B4B7-2A810A86CB4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1ED37-490B-4E8C-8B73-68DA8591249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AF9FF-9007-40FA-8469-B746C7171B7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6F8B5-C3AC-4624-B4F9-1BD419B943A3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48BA-Logo-640x320_11Sep13.png"/>
          <p:cNvPicPr/>
          <p:nvPr/>
        </p:nvPicPr>
        <p:blipFill>
          <a:blip r:embed="rId2"/>
          <a:stretch/>
        </p:blipFill>
        <p:spPr>
          <a:xfrm>
            <a:off x="6997680" y="5857920"/>
            <a:ext cx="195120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4FC34-03FE-4BE1-8F65-033D42F87E5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ED901-BC20-4A49-A780-3BBE965FAD9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F201B-87A0-4470-9E93-DE2F30558B2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7F22F-9328-4FFD-81A7-1F9C08F8D1A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cann.org/sites/default/files/packages/reserved-names/ReservedNames.xml" TargetMode="External"/><Relationship Id="rId2" Type="http://schemas.openxmlformats.org/officeDocument/2006/relationships/hyperlink" Target="http://gnso.icann.org/en/issues/igo-ingo-final-rcrc-scope-names-10nov13-en.pdf" TargetMode="External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cann.org/en/news/correspondence/dryden-to-crocker-chalaby-annex2-22mar13-en.pdf" TargetMode="External"/><Relationship Id="rId2" Type="http://schemas.openxmlformats.org/officeDocument/2006/relationships/hyperlink" Target="http://csonet.org/content/documents/E2011INF4.pdf" TargetMode="External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178920" y="469800"/>
            <a:ext cx="59770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Identifier De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178920" y="1103400"/>
            <a:ext cx="76885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ier - The full name or acronym used by the organization seeking protection; its eligibility is established by an approved li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– the limited list of eligible identifiers distinguished by type (name or acronym) or by additional designations as agreed upon and indicated in the text below; may also include lists approved by the GAC (where this is the case it is expressly indicated as such in the text below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– The scope of languages for which a Latin-script identifier is to be protec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A3C1F-5AF3-47BC-BA68-CCC8F94E3EC5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178920" y="469800"/>
            <a:ext cx="59770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Identifier Scope – RCRC / I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"/>
          <p:cNvSpPr txBox="1"/>
          <p:nvPr/>
        </p:nvSpPr>
        <p:spPr>
          <a:xfrm>
            <a:off x="178920" y="1103400"/>
            <a:ext cx="76885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d Cross Red Crescent Socie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1 Identifiers : "Red Cross", "Red Crescent", "Red Lion and Sun" and "Red Crystal" (Language: UN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cann.org/sites/default/files/packages/reserved-names/ReservedNames.x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2 Identifiers : 189 recognized National Red Cross and Red Crescent Societies; International Committee of the Red Cross; International Federation of Red Cross and Red Crescent Societies; ICRC, CICR, CICV, MKKK, IFRC, FICR (Language: in English, as well as in their respective national languages; ICRC &amp; IFRC protected in UN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gnso.icann.org/en/issues/igo-ingo-final-rcrc-scope-names-10nov13-en.pdf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national Olympic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1 Identifiers: olympic, olympiad (Language: UN6, + German, Greek, and Korea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87855-9746-45DB-91B3-E0482D5434F6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178920" y="469800"/>
            <a:ext cx="84963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Identifier Scope – IGO / INGO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(other than RCRC &amp; IO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178920" y="1103400"/>
            <a:ext cx="86569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national Governmental Organiz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1 Identifiers: GAC List  (22 March 2013) - Full Name (Language: Up to two language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2 Identifiers: GAC List (22 March 2013) - Acronym (Language: Up to two languag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cann.org/en/news/correspondence/dryden-to-crocker-chalaby-annex2-22mar13-en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national Non-Governmental Organizations (other than RCRC &amp; IO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1 Identifiers: ECOSOC List  (General Consultative Status) (Language: English on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2 Identifiers: ECOSOC List (Special Consultative Status) (Language: English on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te, this list of Identifiers are INGOs other than the RCRC and IO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sonet.org/content/documents/E2011INF4.pdf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B7D1F-8D5A-45B8-9771-7B8276BE48C8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Mary Wong</cp:lastModifiedBy>
  <dcterms:modified xsi:type="dcterms:W3CDTF">2013-11-19T10:57:23Z</dcterms:modified>
  <cp:revision>155</cp:revision>
  <dc:subject/>
  <dc:title>GNSO Policy Issues</dc:title>
</cp:coreProperties>
</file>