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wmf" ContentType="image/x-wmf"/>
  <Override PartName="/ppt/media/image7.wmf" ContentType="image/x-wmf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 type="dt" idx="1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 type="ftr" idx="1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6"/>
          <p:cNvSpPr>
            <a:spLocks noGrp="1"/>
          </p:cNvSpPr>
          <p:nvPr>
            <p:ph type="sldNum" idx="1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269A8-C253-4AA0-8795-AF8BE69E5E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continue to submit requests but may not have time to finish estima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55071-B98B-4F98-9654-90DCBBC449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AA69D88-DBF4-46E8-AACB-40F618476F77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B486650-C889-4F9D-9711-74F4BE7E0087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06692AE-1017-4B6A-812A-D3D1C28E639F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E424E4F-8A66-47D0-9876-A1FC4DD0BC98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588EC41-B09E-4C78-A3A4-C666A4027C89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A124A7B-A7B3-480C-998F-A080046BDFD7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4EA6DC7-BAB7-491F-AC34-94E92135D04F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1ECA631-9B27-4A20-B323-8CFF8F2475E9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829D137-6375-4C03-BD72-1FAA85CB0CA0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5053CC-B2CC-45EF-865F-66B225B822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ACA738-C571-43AF-92CB-548621C5E9BF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2F21DF-6152-42E2-BD2A-0EED7DF8C11F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8CB803-F213-40F4-9949-DD3EAC533E60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1EA59D-64C5-404F-AF7F-B40467B8DB5E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253834-FCF8-438F-8267-76FC8D0AE93B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194D2E-DF1E-4738-86A9-3894C131537F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0F9B10-FCB1-4909-89F7-D581126D6C6F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9F6B02-08FC-4859-8D6D-8BD3C608BD9C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155152-28DB-4F5B-8E80-A142DE3F4B5A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CDC8BD-B6A3-4AB7-8A23-B6C44D6E3A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2E2127-2AEC-4310-8B59-B109D69444F7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BED235-317F-4420-A2B7-6AFDB33DB125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2E690D-A40B-4BE4-9723-7B6CF8573F03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354A41-3D4B-4B3C-B819-F5F3F95E6347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97A905-D399-4C76-B949-BCACB1AE9825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409AAC-78E1-4E0C-8B3A-28576979C74F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915B6A-CC35-46B0-9F09-56703804B41E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3C7042-3A94-40F5-9AC5-3E95A9C47B04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79ED9F-00A5-4C95-B7E6-FAD3143AD243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7E0C0E-4C6F-43B9-9D8B-D5F0226355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635F40-EFF6-4332-9C20-1093181D0B03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32D4B1-301F-488C-BDDB-0865B2FCE35D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9C388A-183F-4A5A-B7DE-A9ECEAA000A2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1A02C77-2421-4120-B6C8-3A1B557E9411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99E5A49-4DBA-41F1-994B-68FAA2CA0CAE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5ECBA17-6480-41AD-BC16-5DE011B89DA8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9922DAB-1D39-449C-BA2B-A0DB04C81D24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78B2B04-C264-4001-8314-0893CADE42E0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7F0BD07-9FD9-4B1A-B38E-FEA2825085AC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B747817-2D07-4998-AE82-C56A0B55124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DB084A4-AF30-4B69-BBF0-E39F8E5856CF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3E57270-2F82-44E2-BFDC-88474F07B552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37C4137-E6E5-495C-8A97-B02A8909ADC0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8E82232-774C-472D-A0F1-74B8C08D28F3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B47AEF5-FAB8-4942-A982-00F930F9CDF3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DBCFA26-03FE-4687-A958-8064AE963E9C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9802CF5-5969-414D-ACFA-7664B4366A52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D493DAD-A95F-434C-969C-66EBEA3BC3D2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7499688-2CB8-40C8-A5C9-45922E640AC9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DFBCED-19F3-4420-9A90-F2F3D52D53B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5190B1F-D253-4755-822C-7AC6560EE2F4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EC6AFF1-A93C-431B-A0BF-20963B97A06E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DA68F73-CE1F-4199-B670-4D23412D8856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4AA7C61-7A0D-4006-9780-6B7EBD513248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471ED60-6E5E-4E07-975D-C22707D96BB8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EE6C4FA-3F69-4F63-B1C1-3A34D8E4ADBE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D1CB6E8-D1AE-4204-8864-3B5DBCB129A6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EC3138-24AC-430B-85B0-BEC00936CD45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88C492-DE77-4F25-98A4-FDF8150AD440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8C9190-D391-4634-BF8B-29CE7573AAC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F8C42A-6205-4436-8ECA-77FAF39A7BF5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C5D08B-074C-4C76-B54B-03C3008C6D3A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0884E3-D02C-49B2-8713-649D081EE566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D8693F-536A-4711-8410-978BF217EA42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24EF5C-B90E-48DD-B587-71274AE9B438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7FC75A-460C-46B1-9334-877E86E85CE2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7C07CA-E58B-49BB-9979-DB926170ED1F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CCF719-4FA5-4D90-BD2A-FE9A95B0AEBD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269EE0-12D3-400F-ABF9-519A51BCD513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443A576-73A6-4F4B-A0B3-FC49BD0A6ED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623A6E5-715E-4C12-896D-576DC2654D85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4EBC1BA-1D6F-4A27-87D7-C64BD3220C8E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C621BF5-8424-4A9B-8305-3B679FEDE6C6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F93B27C-D0AA-45B6-A8FE-27F9CA7EF95A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40E1B2A-D2AB-403E-BE68-6FC96E03B4DE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61DD503-8960-4E61-8CCC-4809DF6F50C7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1F4E6D9-C4CE-485B-AC52-6ECB2F2CBB67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0FA4B37-81CC-4D81-8036-632A2C1A6610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67D22B0-955C-454F-8251-3A6B81929995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FCC726B-B2EE-4503-B26B-7A871B2304D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2D7C1A4-ABFF-43CD-874D-540D057D36B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36A8-8139-4DF1-A2EA-0E6CDF030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ECAC-47A9-4CB6-A872-AC40B87AF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6113-2208-424F-9A98-F9865127D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B02F-89E4-409B-9901-25CBB47E6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DC09-00B3-48B9-9B4C-34F96C132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CB16-75C2-4452-80AD-5DCD9F1C4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E756-15F7-4448-A7A1-588ACAF36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6C35-4BAA-4B73-8740-1DC86BF0B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3532-49CF-4A7F-AB5D-A8E4E06E0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23CD-E059-4C5A-AE8F-905FB6448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4C8B-76ED-4ECF-B81E-90A35D03C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5586-D5AE-49D2-B18D-EAFD8F615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9E3BCD-C627-4D28-9466-4C01669BC14E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3CD860-3B67-46FE-952A-D1EFC52B7580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E54817-86E9-41AF-93F4-5913E1DA7D6A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F9C461-2169-4379-8E5B-E63575B6BD73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13CF77-7F71-456A-99F2-9BE080148A77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558B1C-D689-4F38-9A19-E5C0B1D8003C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142653-DCE3-443F-BFA6-8FB44AA462B6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6FE185-C123-4DFB-8888-47A2241338BA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BC72D6-76B8-4680-AC61-062C7A2D6B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8B85FE-F385-427C-936B-91940E0E3AC8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2BF3AB-B115-4C78-8992-28C8351CA472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9EDDE2-8F07-4B4A-B773-2EBA918A6441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82B8F0-2413-412C-8206-D3CDFBEC134F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7830CF-307E-42F5-9632-D9D1664D0195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85E460-9FA2-4230-B798-2656D75E14FA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3D3E0C-0EA5-4550-99B7-CFACB20484E1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378245-9361-4DD6-A33F-0330B5846FE2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6CDDFE-9FE7-4412-8463-C96B0A69A325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B30733-EBDB-4D55-A268-EE155CDD5F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4AC550-4172-4CE1-9543-E79273963C60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4CE894-26F5-451E-9A7B-DE51EDE22D85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F8E7DD-6272-42A6-B551-477F065011D9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FC6195-2757-49A8-BB10-9EB02D29EB2C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3F55F7-02E3-4355-9036-B79D71603244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8EA8F-68CB-4986-B868-118F868CF5D5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7DF1D-F6BB-43E9-A669-0174E4D4B467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4B7DA-2677-4118-9106-2F4260D2EC27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4656F-87A3-47C8-A9FA-F6149B4357F7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B2965-5D07-44F8-9DFB-AE52E4BDBE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E3BC6-4F78-4A54-A4CE-6CDCC839FC85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53FCA-F6F2-4CC1-8BC9-4729D2FEBE48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5E15E-43C4-4897-9D86-45D30E360806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13A7D-91D0-4760-B8D3-61AEEC27C2F4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72B3D-2A19-4D58-B148-9B3E697EF578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B7901-21B8-4075-870F-C41133A67724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C0007-5DD6-4E88-B0F3-87BE754EBE89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4E6068D-B9FC-42AD-8438-3E6CCA40E56F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FDCB8D2-1FE1-4ABF-9444-59D0323129FF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1FC4E62-C0ED-4EC3-9CF5-5947673708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title_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sp>
        <p:nvSpPr>
          <p:cNvPr id="353" name="PlaceHolder 1"/>
          <p:cNvSpPr>
            <a:spLocks noGrp="1"/>
          </p:cNvSpPr>
          <p:nvPr>
            <p:ph type="sldNum" idx="8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2D709-C655-47F6-A15A-A9EA5773ADE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sp>
        <p:nvSpPr>
          <p:cNvPr id="392" name="TextBox 3"/>
          <p:cNvSpPr/>
          <p:nvPr/>
        </p:nvSpPr>
        <p:spPr>
          <a:xfrm>
            <a:off x="3048120" y="4495680"/>
            <a:ext cx="5532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eep body copy short. Avoid reading the text to your audi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Num" idx="9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6DD7E-8201-4398-AA50-C023491EB52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sp>
        <p:nvSpPr>
          <p:cNvPr id="433" name="TextBox 3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Num" idx="10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01DEA-BB00-4325-A61A-59DC0F58018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sp>
        <p:nvSpPr>
          <p:cNvPr id="473" name="PlaceHolder 1"/>
          <p:cNvSpPr>
            <a:spLocks noGrp="1"/>
          </p:cNvSpPr>
          <p:nvPr>
            <p:ph type="sldNum" idx="11"/>
          </p:nvPr>
        </p:nvSpPr>
        <p:spPr>
          <a:xfrm>
            <a:off x="69004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B3ACA-A62B-4993-985B-16ACFD4B522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6" descr="SVSF-logo-final-Feb2011-330x194.png"/>
          <p:cNvPicPr/>
          <p:nvPr/>
        </p:nvPicPr>
        <p:blipFill>
          <a:blip r:embed="rId3"/>
          <a:stretch/>
        </p:blipFill>
        <p:spPr>
          <a:xfrm>
            <a:off x="0" y="5678640"/>
            <a:ext cx="1639800" cy="965160"/>
          </a:xfrm>
          <a:prstGeom prst="rect">
            <a:avLst/>
          </a:prstGeom>
          <a:ln w="0">
            <a:noFill/>
          </a:ln>
        </p:spPr>
      </p:pic>
      <p:sp>
        <p:nvSpPr>
          <p:cNvPr id="512" name="PlaceHolder 1"/>
          <p:cNvSpPr>
            <a:spLocks noGrp="1"/>
          </p:cNvSpPr>
          <p:nvPr>
            <p:ph type="sldNum" idx="1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00F43-1FA2-4C74-AC19-0C85D1869A5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552" name="PlaceHolder 1"/>
          <p:cNvSpPr>
            <a:spLocks noGrp="1"/>
          </p:cNvSpPr>
          <p:nvPr>
            <p:ph type="sldNum" idx="13"/>
          </p:nvPr>
        </p:nvSpPr>
        <p:spPr>
          <a:xfrm>
            <a:off x="69004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92B4C-5FC0-40D4-83D6-54257E5D775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38" name="Picture 13" descr="tagline.jpg"/>
          <p:cNvPicPr/>
          <p:nvPr/>
        </p:nvPicPr>
        <p:blipFill>
          <a:blip r:embed="rId3"/>
          <a:stretch/>
        </p:blipFill>
        <p:spPr>
          <a:xfrm>
            <a:off x="757080" y="1295280"/>
            <a:ext cx="1233720" cy="396252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14" descr="shadow_rule.jpg"/>
          <p:cNvPicPr/>
          <p:nvPr/>
        </p:nvPicPr>
        <p:blipFill>
          <a:blip r:embed="rId4"/>
          <a:stretch/>
        </p:blipFill>
        <p:spPr>
          <a:xfrm>
            <a:off x="2394000" y="611280"/>
            <a:ext cx="349200" cy="5408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9696F-0348-4632-9F7A-FEC9F3084210}" type="slidenum">
              <a:rPr b="0" lang="en-US" sz="1200" spc="-1" strike="noStrike">
                <a:solidFill>
                  <a:srgbClr val="898989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3" descr="tagline.jpg"/>
          <p:cNvPicPr/>
          <p:nvPr/>
        </p:nvPicPr>
        <p:blipFill>
          <a:blip r:embed="rId3"/>
          <a:stretch/>
        </p:blipFill>
        <p:spPr>
          <a:xfrm>
            <a:off x="757080" y="1295280"/>
            <a:ext cx="1233720" cy="39625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4" descr="shadow_rule.jpg"/>
          <p:cNvPicPr/>
          <p:nvPr/>
        </p:nvPicPr>
        <p:blipFill>
          <a:blip r:embed="rId4"/>
          <a:stretch/>
        </p:blipFill>
        <p:spPr>
          <a:xfrm>
            <a:off x="2394000" y="611280"/>
            <a:ext cx="349200" cy="540864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1"/>
          <p:cNvSpPr>
            <a:spLocks noGrp="1"/>
          </p:cNvSpPr>
          <p:nvPr>
            <p:ph type="sldNum" idx="4"/>
          </p:nvPr>
        </p:nvSpPr>
        <p:spPr>
          <a:xfrm>
            <a:off x="69004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866EB-1685-4C52-90A5-A46E9D4257F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1"/>
          <p:cNvSpPr>
            <a:spLocks noGrp="1"/>
          </p:cNvSpPr>
          <p:nvPr>
            <p:ph type="sldNum" idx="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970D2-7E9D-464C-BA63-636FB00EFFD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sp>
        <p:nvSpPr>
          <p:cNvPr id="273" name="TextBox 3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Num" idx="6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76920-4BAB-46C0-B8BE-9F43CEFA576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sp>
        <p:nvSpPr>
          <p:cNvPr id="313" name="TextBox 3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Num" idx="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4CCA4-7566-44CF-9DD1-BEB79C0C321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991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7f7f7f"/>
                </a:solidFill>
                <a:latin typeface="Calibri"/>
              </a:rPr>
              <a:t>AC/SO/SG Request: Summary and Analysi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Slide Number Placeholder 3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4D66F-8752-41AF-AE67-FC4ECF4D7CE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304920" y="1294920"/>
            <a:ext cx="86104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llect and compile the l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st estimates based on descrip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quests divided into two catego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isting activities already included in proposed Budg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incremental activiti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qualitative requests remain with no cos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8991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7f7f7f"/>
                </a:solidFill>
                <a:latin typeface="Calibri"/>
              </a:rPr>
              <a:t>AC/SO/SG Request – Existing Core &amp; Projec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Slide Number Placeholder 3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8DB74-0444-49B7-9285-5514ED129187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1" name="Picture 6" descr=""/>
          <p:cNvPicPr/>
          <p:nvPr/>
        </p:nvPicPr>
        <p:blipFill>
          <a:blip r:embed="rId1"/>
          <a:stretch/>
        </p:blipFill>
        <p:spPr>
          <a:xfrm>
            <a:off x="282600" y="1143000"/>
            <a:ext cx="8629560" cy="41371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7f7f7f"/>
                </a:solidFill>
                <a:latin typeface="Calibri"/>
              </a:rPr>
              <a:t>AC/SO/SG Request – New activiti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Slide Number Placeholder 3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6C57F-4656-40E2-A192-589522A818D6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4" name="Picture 7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610E0-1688-4041-98DF-1C329D80A623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88520" y="2282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Content Placeholder 2"/>
          <p:cNvSpPr/>
          <p:nvPr/>
        </p:nvSpPr>
        <p:spPr>
          <a:xfrm>
            <a:off x="609480" y="1295280"/>
            <a:ext cx="7772400" cy="502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munity consult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inued detailed ICANN budget forecasting by staff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ublic Comment on the Framework closes 4 April; summary provided with follow up activ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re detailed analysis of new gTLD expenses and revenu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ast date to receive addt’l requests: 22 Apri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st updated Operating Plan and Proposed budget in Ma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nal consultations and consideration of budget at June mee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0T00:55:09Z</dcterms:created>
  <dc:creator>User</dc:creator>
  <dc:description/>
  <dc:language>en-US</dc:language>
  <cp:lastModifiedBy>User</cp:lastModifiedBy>
  <dcterms:modified xsi:type="dcterms:W3CDTF">2011-03-12T01:42:11Z</dcterms:modified>
  <cp:revision>11</cp:revision>
  <dc:subject/>
  <dc:title>AC/SO Request – Existing Core &amp; Project</dc:title>
</cp:coreProperties>
</file>