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FF9-C77C-4907-80A4-C0584393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ontinue to submit requests but may not have time to finish estim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6F1-CF05-4056-8BB9-93DC82E7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67CFF-6CD2-48A2-B6E7-6736B0FA2A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73322-F6FB-4E88-91E5-8D037DC428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03005-E45D-45A9-95F0-71AD682D13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25D91-D0A4-4689-AE2F-D2844E9864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5B88B-2EBA-4E8E-9299-282BF67A29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5C518-9DD9-4F1B-9FB5-DCB7A21F02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3E473-88EE-48BE-B7E9-3F15C86854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99526-5706-41FE-BA15-7BD508B1AF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03399-C914-4359-BB19-787046A81D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139C1-D3E7-4409-8FE5-61B149284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E3277-B88B-4505-9D59-8112829D1F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4842C-7FF1-43C9-AD48-E7380E3ECF4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D578D-DEB7-4086-9FAE-AADE8D8B11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8AB0C-23EA-4F2C-B33A-8A43C73276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5D02C-7EF2-4CF4-AB57-B2B1A32B1B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9B0B8-5816-4280-9654-415CD5BEE2A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2DE33-185B-4547-8131-948CDF523F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77BEC-77B4-4C82-80F6-E39AD43490F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1AA27-AB9A-4CBC-8439-3222D231E9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E117F-0E4F-4821-A609-65EE49F70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F3509-7117-4495-9A6C-099F03AF41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8640-CFC9-4C97-972F-EA1DBDD6DA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8F46-E8C4-4816-A372-80441EE762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80B2-E175-475E-87BA-FB40BBA00A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87C4-BA3B-4A28-8890-B8B9AE3925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E8A5-8456-4363-86F4-AFC860F8CF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556F-1560-449F-A9FD-7A1EE983DA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9AC5-0A69-4060-BC3F-7B48BCF9FD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F6D5-D691-4221-B28F-8E992967BF9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DFD2-7119-427E-A2E3-01D014E69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80DE-4542-4EBA-A48C-63F9C3E220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C1DA2-E9C4-40EA-BDF0-F4AB8F66BBF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60228-AA7F-4C11-A4B8-270CB5075CE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A816A-ECA0-45F3-A80B-A692F910BEB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A6B8E-752A-4548-B11D-69963E3C94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B39222-9209-48BF-A2E7-CD357C05E8A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5E001-CB3C-4A19-888B-C33639AAFC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CDD0E-8325-4B26-B322-09608627B30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FE0BC-52DD-45B7-BC13-9441A61AF6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07C77-BA5F-40B5-9836-0F4ED2C8F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880B8-3D9B-455B-AEC2-35300A5258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F3AB8-36EA-4E48-B7FB-2E8DF9DDA49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EA429-262B-4E27-B6E2-CB11721A12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6BB04-5D24-4FFD-BC69-3EC0E3728C1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C4F66-9D2D-46DE-8D4C-A1683EAC1C5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ECE0C-E0B3-4149-A2A7-8DF141C1DE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3DFEB-5168-4657-B677-58CA523603A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640D0-A26E-4740-BEEF-271FA47DB76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88388-CEDA-4ED0-A501-A5BB09E2CD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17151-2170-4ECA-9689-7946DB93F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BCB03-DB94-4C18-A159-E838A9252B3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BE642-0BCB-46BE-B8CA-68DCC28F29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43B79-7FAB-4C28-B070-45240EEAE1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DC26F-C1A6-4AB2-8CD8-A066EDD7D6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9D478-82B7-4DBB-800E-DBFE9547E4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8601D-C822-4309-9025-FA6B509276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6405A-5828-437A-99A2-9205F166A56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4EE6-4F20-4BCC-8FA9-FD0F8569A4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1E30-FC19-4EEC-87DD-16C7A6B7856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F206-EA11-4314-8EF2-4D548A53F7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D514A-480B-4BA3-8B24-8BD9256D41A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2D886-19D4-43A6-8AB7-D80C771CE3E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5132-EC03-47AF-BCDE-5F9DF646358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2528-09BA-43AB-B161-F55CB96EA8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38EBF-75BA-48EB-9880-F2E4A2B243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F8FB-2B5D-4595-8959-D18E3316D6D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8D88-BE28-4BC7-8864-8F2A2A0275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18B5-952A-4DCB-B05D-1918E2BF6A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86A7-1FD1-46B3-82F6-0AD2E5BA1CB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0A54A-0FEF-41D3-BD13-CAB627F14D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9FF15-9695-43B8-946C-86F0ECCC28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9FB5D-7C9F-4775-B52A-CB2B09A14F7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B58C7-41C3-487A-942D-4CBCC067C56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5569D-42A3-4925-8951-F692A5BCE5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17D4FE-3C6D-4B10-BCC0-01AB2A63943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70965-EFFC-4E3A-9B8B-00BE9326FE1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7624A-578A-4216-BF13-EE062DCDBCA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3E1BE0-7266-4595-BD40-6C481BDFC7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CF06A-FA99-428B-86D2-64C311588B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DF66A-7854-4D6E-9BF3-4F6B563D64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E044FA-849D-4778-9EE5-0AA2AB54E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41B-5054-4CE5-BC8C-8877FDF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394-B8B0-4041-947A-97E2360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330-FA2C-4E54-9925-D7D11D2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45F-CEBC-47CE-9361-17733932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A5B-6475-44C2-93B7-E7DBB88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AD0-BE12-42CD-B68F-08BB2DA2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B48-7C5A-4C98-A18A-7D3FCB7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B20-6DE1-4D10-8C15-4537FD0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353-088F-4766-96C9-AC22564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D1A-235F-46DF-9762-983CB7E7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E60-E314-4E8D-AB6C-36CB3235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C07-D381-4357-B2BF-D07BE16A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B4B81-2860-4D24-92F9-61F2B8B4110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4F7DB-FFBE-4427-8FB6-4B50A8270F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C318C-B08E-4807-8398-1AEBA80D7E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2B11-49BC-4D67-B71A-F18EDCAE40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47BF6-0051-4747-8CCE-C353B1F8FC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4B3A-2532-4F40-ACE3-A78DF757FE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EBFA6-8E27-4A2E-928D-A42CB3F10E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81B05-294A-4C3B-B368-FAD841F4DD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390AF-13B2-4C01-83CF-3ABC9F035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7D959-9108-405B-864E-28A0A5B8D8A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F0689-2224-4BE5-AE4C-38BD488E3D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8460E-A657-4AC5-816B-737535540D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953FE-943A-4A14-B9C6-668A02E714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05720-CC7C-4B27-AEDC-48ABA0B509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2CB81-C541-40E7-891C-BE00F4314B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37BDD-1D00-4C6D-8354-5D97FA2BE3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DBB26-9A75-42ED-9496-5B963F72A2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FF1A-1D12-4421-B2D5-D7BED66A42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ABE02-F351-4B1B-A967-D5D1A8216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834B-A304-4C96-B82A-22B6EB0255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993A-4E2B-46FE-81FB-1C7A849B02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45B03-F2C3-4923-ABE9-F0BBC23A9B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D9128-C18C-401F-97A8-7586EEB162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D6689-A3F6-4E8E-AD4A-781A8B4507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01F5-53BA-4A0B-A399-9FDB600C49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2297-9038-4C2D-9510-BE74148411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532B-336C-4822-B36A-7609C75731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C4DE-D86E-4A5E-A2EE-0EE1ECCCCDD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E945-9469-48B0-927F-9F8228611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24E9-E4BB-4D19-9664-70B64B8C99F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04E-FB30-427C-913D-3A26A7B2ED6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DED1-0967-408E-971F-292DAC9F53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F76-B4D1-4BAB-98A4-74593E1BED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B9A3-4FD1-42C8-A50B-D67AFDFA0A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8F99-C824-436C-8A7E-6D352B77586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5F0A-CE27-4E24-B9FA-95B9280A28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D469E-895F-4447-8923-617B40B65D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C664C-0391-45D5-8ADD-C25AFA2BE7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7F478-9BA1-40EC-83F2-54D8C8067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0ACF-4EE9-4F15-9ABA-0D4D2B5660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"/>
          <p:cNvSpPr/>
          <p:nvPr/>
        </p:nvSpPr>
        <p:spPr>
          <a:xfrm>
            <a:off x="3048120" y="4495680"/>
            <a:ext cx="55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body copy short. Avoid reading the text to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7519-AA8E-4AEE-8829-1C169D437D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A025-E44B-4828-A828-E6D754181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8557-11F2-4D97-A502-5A077217A7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SVSF-logo-final-Feb2011-330x194.png"/>
          <p:cNvPicPr/>
          <p:nvPr/>
        </p:nvPicPr>
        <p:blipFill>
          <a:blip r:embed="rId3"/>
          <a:stretch/>
        </p:blipFill>
        <p:spPr>
          <a:xfrm>
            <a:off x="0" y="5678640"/>
            <a:ext cx="1639800" cy="9651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CDF-168E-4C86-B7AB-519FA3926E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ldNum" idx="13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B6E8-A329-4C12-B01C-BD1DFCE8D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tretch/>
        </p:blipFill>
        <p:spPr>
          <a:xfrm>
            <a:off x="757080" y="1295280"/>
            <a:ext cx="1233720" cy="39625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E94D-0B75-4535-ACE9-E227785129A9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tretch/>
        </p:blipFill>
        <p:spPr>
          <a:xfrm>
            <a:off x="757080" y="1295280"/>
            <a:ext cx="1233720" cy="396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6B3B-2201-48E0-8786-1B334E514B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CD6-9911-4398-AE70-4A48CC1A26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561-AC6D-450C-9BF4-B7E24A0542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DD3-F01D-4A1B-B572-FF92D3C7F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AC/SO/SG Request: Summary and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FD3-D141-4BEE-B0F9-99FD3BDAC0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2949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 and compile the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estimates based on descrip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s divided into two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isting activities already included in proposed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cremental 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qualitative requests remain with no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AC/SO/SG Request – Existing Core &amp;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878-60FB-4C20-9F1C-8E6A07E931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6" descr=""/>
          <p:cNvPicPr/>
          <p:nvPr/>
        </p:nvPicPr>
        <p:blipFill>
          <a:blip r:embed="rId1"/>
          <a:stretch/>
        </p:blipFill>
        <p:spPr>
          <a:xfrm>
            <a:off x="282600" y="1143000"/>
            <a:ext cx="862956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Calibri"/>
              </a:rPr>
              <a:t>AC/SO/SG Request – New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1B73-BBB6-4403-A280-4F0B6F31CF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7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AE3-4719-41FA-B081-D090679422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885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Content Placeholder 2"/>
          <p:cNvSpPr/>
          <p:nvPr/>
        </p:nvSpPr>
        <p:spPr>
          <a:xfrm>
            <a:off x="609480" y="1295280"/>
            <a:ext cx="77724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nsul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 detailed ICANN budget forecasting by staf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Comment on the Framework closes 4 April; summary provided with follow u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detailed analysis of new gTLD expenses and reven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date to receive addt’l requests: 22 Ap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updated Operating Plan and Proposed budget in M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consultations and consideration of budget at June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0:55:09Z</dcterms:created>
  <dc:creator>User</dc:creator>
  <dc:description/>
  <dc:language>en-US</dc:language>
  <cp:lastModifiedBy>User</cp:lastModifiedBy>
  <dcterms:modified xsi:type="dcterms:W3CDTF">2011-03-12T01:42:11Z</dcterms:modified>
  <cp:revision>11</cp:revision>
  <dc:subject/>
  <dc:title>AC/SO Request – Existing Core &amp; Project</dc:title>
</cp:coreProperties>
</file>