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86A6E-7835-4BFD-9B20-9C807F01DB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1386D-4053-4E96-B6D9-C9AB8B4772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A0AE9-AC63-454D-BE75-5E741073F5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77298-7183-47D1-AF24-76399C331D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9C6CC-3C45-4CF8-9404-D40596C8FA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3077E-2ACC-48EF-987E-CEE4E91561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5CC73-873A-4B77-84C2-0B4F912BA7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438D5-7A45-47A3-B573-C4C63B6B47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78FD1-F02F-4932-8383-D9683A5198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3DA43-05B9-4796-AF90-ECF4AE0EB2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3AC18-9E31-4C94-8F62-96A71F66CF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B2E16-9EF4-4423-B08C-6B6BB8C160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7B4AD-F490-4800-B644-0A7A6712AB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26AAA-E19A-4C0D-B324-D7BF02EC02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17E83-5570-4297-95DA-2D92F4F7A2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CD067-F8D3-459A-B348-1882B939BD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C1093-3CA5-4323-A056-8606869D76B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8D12C-1CB6-4B16-A311-3CC54081ED9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D2CB-5024-45F5-A632-BFD6CD1A640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4F7A-4217-4AB2-A0D8-46E847B765A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965B-F106-45BD-A0C2-96EC1C1F6C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0233B-9045-486F-828C-14F455BDB66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246C-4730-4495-99EE-B896C38E068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69B5-0844-42E3-865B-AF6E3B30FD5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ADAD-FFC4-49FE-9F35-84B230408BD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D5D9-B9BE-42B2-8586-EDEE8FBAF86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3050-D76F-440F-B623-6495890C6C6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87EB-1C2D-42FE-870B-9A246499333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0554-FC87-42F0-B8D4-A6BB8C1FED7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951C-B724-42CC-B5AB-84213B87F0B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3980-1AE0-4D25-8122-796972C2796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E5B04-2190-4E9F-90D7-A7212CEA40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D458D-9702-4CF4-A0C9-F9E627987A1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47DDF-6809-43B3-BFB2-0CA5BC6B06F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206AA-BA99-484E-8FAD-7AF26E474CA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2B16C-03F7-4441-8391-76D1FE6D09B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D580D-A374-4461-8A91-5658DA7635E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2FD25-298E-4DA4-8261-B957B5A0AF2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8B2D6-1C4A-443A-B31E-0CE510E1AA5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ED27A-3579-4BF5-B6CA-1FB83FA50FA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39021-C022-4A4E-8830-79C178A94DB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2299E-9C9E-414F-A1F8-AA5D43CBB5B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AB416-F7E6-4B11-84AD-F9838AE5FA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A7E41-9897-4127-B49F-66913D3DF50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BFAA2-F4EE-40FC-B3C7-5CEF78D3749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C54C9-BBE2-4665-86EC-96B2AB10A21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67404-D604-48C0-8CE7-366C5C2213C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35EF1-F739-4FF0-8E6E-1E7D7DF1849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D7834-AEEE-484A-B4F4-7ACA4EC21D0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CBAB2-FAA5-4B82-805E-3480AB50121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58E52-4095-470F-A396-79D5667C10E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525AF8-4A35-4FCB-894C-7503E1F5444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5562E-AA80-4A09-B406-5B707115F86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418F3-16A4-406E-A3F7-2AABD8B41C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C9F93-3E1E-4BC4-BF69-B59A22F5C36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1866A-240E-429E-8744-BE2A9DFA8DD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D146F-150F-46BB-A409-CB26C4E2241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1AA64-F131-41E7-BE86-F9E18E997DC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860DCB-6ABF-48FE-94AB-D6D5614BD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5C829D-1E28-4163-9F81-C3ACFB33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0814FC-A77C-4CAE-9698-28DEF433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774DCA-E487-4B5B-A315-2A7CCF4D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6387C4-5C8A-4B97-9867-179E6533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4B2383-6268-4CD2-97B3-4960A368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1CC91E-1033-4CBB-AB28-BA02CEBE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9EAF6-D215-47A4-9F5A-5956E5FA3D5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15F3CD-B449-4882-AD8E-F1CF6E0C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9F4B10-FE4E-4E2C-9206-32E11ADA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BBEED9-C1DB-4FA7-ADBE-43FBFB07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8275EC-307F-4478-92CE-460DB1FD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75295E-35CA-4CA5-A56A-10A148071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1381D-5D0B-468E-B877-DC16B3601A3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E73E8-1B9D-44EB-986A-2B6C7FC36EB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92C9E-5771-498E-A7FF-D5AFAFE5681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27C15-1FB4-434B-9352-05E097C483F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425D4-8815-4845-AE16-4060BCE858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4B39E-AFE3-49F6-BD09-58ACC0898F5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432E6-A8D2-408A-879F-E2452BEDB29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0AD93-B4A7-4131-BFCA-FD5B667EE74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1CB7D-7E91-40A2-AA8D-31F9AD71798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0C463-789A-43A1-80E0-7DB6B9908D9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88343-ECD1-4436-8B69-A296FCBC9DB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F43D5-9B11-4FFF-BECB-BD0CCF9528A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02CCD-19DF-467C-8854-BCA4A0C0E6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928C21-61C2-4795-BA2F-1CDB160F98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9" descr="durban-titl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038320" y="160020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942240" y="64245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0DC852-36C8-4DD1-B6BD-71409A6A79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durban-slide.jpg"/>
          <p:cNvPicPr/>
          <p:nvPr/>
        </p:nvPicPr>
        <p:blipFill>
          <a:blip r:embed="rId2"/>
          <a:stretch/>
        </p:blipFill>
        <p:spPr>
          <a:xfrm>
            <a:off x="0" y="0"/>
            <a:ext cx="16606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durban-titl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11A996-AD92-4626-BC81-72AFF6DCE4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sldNum" idx="4"/>
          </p:nvPr>
        </p:nvSpPr>
        <p:spPr>
          <a:xfrm>
            <a:off x="2556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65DD77-A4FB-4333-9660-54B43ECDA6E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sldNum" idx="5"/>
          </p:nvPr>
        </p:nvSpPr>
        <p:spPr>
          <a:xfrm>
            <a:off x="2556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972C65-44A8-442D-9196-C35C1C15DED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3B6E40-4302-4942-90F6-A05A0B9422A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sldNum" idx="9"/>
          </p:nvPr>
        </p:nvSpPr>
        <p:spPr>
          <a:xfrm>
            <a:off x="2556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A9CE27-26D9-4DD1-A83F-4480CACCE88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387520"/>
            <a:ext cx="7772400" cy="24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Joint GNSO – ccNSO Council meet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ared issues and intere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282680"/>
            <a:ext cx="471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 joint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o improve interaction at working group leve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est in ICANN strategic and operational planning and budge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6" descr=""/>
          <p:cNvPicPr/>
          <p:nvPr/>
        </p:nvPicPr>
        <p:blipFill>
          <a:blip r:embed="rId1"/>
          <a:stretch/>
        </p:blipFill>
        <p:spPr>
          <a:xfrm>
            <a:off x="5295960" y="1523880"/>
            <a:ext cx="38480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move forward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joint Council meetings still the most effective tool to achieve desired objectiv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uld other models be explor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4" name="Content Placeholder 4" descr=""/>
          <p:cNvPicPr/>
          <p:nvPr/>
        </p:nvPicPr>
        <p:blipFill>
          <a:blip r:embed="rId1"/>
          <a:srcRect l="0" t="-28537" r="0" b="-28537"/>
          <a:stretch/>
        </p:blipFill>
        <p:spPr>
          <a:xfrm>
            <a:off x="4495680" y="1295280"/>
            <a:ext cx="4038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387520"/>
            <a:ext cx="7772400" cy="24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Discuss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men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ope of activities of S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ope of poli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ucture of S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le of Counci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ion with TLD operators/manag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ion with registr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ion with governments and other stakehol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1"/>
          <a:stretch/>
        </p:blipFill>
        <p:spPr>
          <a:xfrm>
            <a:off x="4753080" y="2014560"/>
            <a:ext cx="38574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80720" y="249120"/>
            <a:ext cx="853596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ope of activities of S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Content Placeholder 3" descr=""/>
          <p:cNvPicPr/>
          <p:nvPr/>
        </p:nvPicPr>
        <p:blipFill>
          <a:blip r:embed="rId1"/>
          <a:stretch/>
        </p:blipFill>
        <p:spPr>
          <a:xfrm>
            <a:off x="438120" y="1212840"/>
            <a:ext cx="832788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80720" y="249120"/>
            <a:ext cx="853596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 of Poli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Content Placeholder 3" descr=""/>
          <p:cNvPicPr/>
          <p:nvPr/>
        </p:nvPicPr>
        <p:blipFill>
          <a:blip r:embed="rId1"/>
          <a:stretch/>
        </p:blipFill>
        <p:spPr>
          <a:xfrm>
            <a:off x="407880" y="1590840"/>
            <a:ext cx="83282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80720" y="249120"/>
            <a:ext cx="853596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ucture of 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Content Placeholder 3" descr=""/>
          <p:cNvPicPr/>
          <p:nvPr/>
        </p:nvPicPr>
        <p:blipFill>
          <a:blip r:embed="rId1"/>
          <a:stretch/>
        </p:blipFill>
        <p:spPr>
          <a:xfrm>
            <a:off x="407880" y="1596960"/>
            <a:ext cx="832824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80720" y="249120"/>
            <a:ext cx="853596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le of Counci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1" name="Content Placeholder 3" descr=""/>
          <p:cNvPicPr/>
          <p:nvPr/>
        </p:nvPicPr>
        <p:blipFill>
          <a:blip r:embed="rId1"/>
          <a:stretch/>
        </p:blipFill>
        <p:spPr>
          <a:xfrm>
            <a:off x="414360" y="1596960"/>
            <a:ext cx="827892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80720" y="249120"/>
            <a:ext cx="853596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lation with TLD operators / manag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Content Placeholder 3" descr=""/>
          <p:cNvPicPr/>
          <p:nvPr/>
        </p:nvPicPr>
        <p:blipFill>
          <a:blip r:embed="rId1"/>
          <a:stretch/>
        </p:blipFill>
        <p:spPr>
          <a:xfrm>
            <a:off x="407880" y="1590840"/>
            <a:ext cx="83282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0720" y="249120"/>
            <a:ext cx="853596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on with Registra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Content Placeholder 3" descr=""/>
          <p:cNvPicPr/>
          <p:nvPr/>
        </p:nvPicPr>
        <p:blipFill>
          <a:blip r:embed="rId1"/>
          <a:stretch/>
        </p:blipFill>
        <p:spPr>
          <a:xfrm>
            <a:off x="407880" y="1590840"/>
            <a:ext cx="83282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ent areas of shared work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WG principles – nex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IG – current status / nex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ographic Regions Report – any common views / posi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of country and territory names as TLD’s - nex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S Security and Stability (DSSA, Risk Framework) - nex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Content Placeholder 6" descr=""/>
          <p:cNvPicPr/>
          <p:nvPr/>
        </p:nvPicPr>
        <p:blipFill>
          <a:blip r:embed="rId1"/>
          <a:stretch/>
        </p:blipFill>
        <p:spPr>
          <a:xfrm>
            <a:off x="5778360" y="1986120"/>
            <a:ext cx="313704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15:15:36Z</dcterms:created>
  <dc:creator>Lynn Lipinski</dc:creator>
  <dc:description/>
  <cp:keywords>Template ICANN 47</cp:keywords>
  <dc:language>en-US</dc:language>
  <cp:lastModifiedBy>Marika Konings</cp:lastModifiedBy>
  <dcterms:modified xsi:type="dcterms:W3CDTF">2013-07-09T18:35:52Z</dcterms:modified>
  <cp:revision>29</cp:revision>
  <dc:subject/>
  <dc:title>ICANN 47 Durban Template</dc:title>
</cp:coreProperties>
</file>