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67AA-B81B-42F2-BAED-23CB90EA6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A458-1432-49B9-8432-538542BED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52B5-84DD-45B2-B108-183F259E6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1FC8-50D7-4788-8A1F-E1CF259DC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BBEF-99C4-43E2-B15D-81C5E0380C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B628-8A68-46DE-825D-5A8D04A687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8017-46F4-4BB2-BC74-2945B93292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A7355-4E46-4CFE-9D06-C23684542F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8AAF-5206-431F-8480-57D0B35427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48ED-4969-4B5D-B2B6-444F21D0AF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5CFB-F1E6-4930-B703-E106ACD508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53C9-C788-43A8-9A84-C6EC9363D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337DA-DC33-4CE6-ABA0-DB1E5DEC06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55EF-0F82-4289-97E6-63A198C9F0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A45E-64C7-4418-BACC-586A0ED02C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A0831-09C3-49D7-BAAC-EBD18312C0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4DF72-AD15-465F-A565-0E28678CC7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D3AC-D1D2-49A4-8F59-55968384CE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871-EF1F-40EF-8D29-E344E88F43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BF2-E8B9-45E3-B253-5818415F90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31B-3E33-4F40-9FD0-44D14117F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38CB-2F2E-4C27-9D50-8010305909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A56-D976-46E1-A3E3-08417CA0C1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9E2-226F-4A02-B083-C5D41B02B8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196-215D-423F-BF2B-964DD897DD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0BD-3E51-4FD3-A08B-A3DB94FFAA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FA6-CE74-4BE9-9DF8-D70C2B9DF6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24F-EF05-4187-B1FE-A8A50149B7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AFD-750F-4FC7-9194-E4EB6A38D3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011-616F-42EF-85D0-A05305ED24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7DA-1589-4A81-8DB5-9846D3DA05D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09B0B-5C35-4D66-9CA6-00F43E5E5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A2A0-54FA-43CC-8EC6-B74418E2EE6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79442-AF92-4649-9B6B-D8A7049609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D84D5-AC48-44B3-B19B-10AA6DAF1F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B96DF-61D8-49BF-AF88-FB97707DD95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3DB92-7DE2-402B-9187-F00033303A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A32C4-1690-48A5-9CD7-78EA6E94316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DC901-3D02-4F4A-9816-B41D44E543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4905C-1BA9-4DC5-BB42-B09C311A92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BB010-B31D-4D7E-B4DB-6C33ADD107A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2F9E4-7174-489C-ADD8-32270D903B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DB42D-D0D4-4AE5-BEFF-AC115D54D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648D-D6B8-4FCD-BB90-FBE4C6FD8E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0C909-9629-4DF8-9963-9CE7AAD9A6D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D10F9-B096-4F08-8FBE-7097E5D9DD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852E9-54AD-403C-8E5A-8B013C8B21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58E7A-7AD7-431C-B113-9030CFE4161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1BDD1-B658-4FE4-B41C-BC1EBE76A4F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322CC-F479-4190-9009-74F3DF3CD5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6D980-1E46-4A62-8665-0CF9B37143C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AC4A2-23C5-4C6D-824B-EC70A137131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44C03-964C-4804-B31B-DC56B48FEC0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331A1-082D-4204-8AEF-961CAFE04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609A-4CCA-41AF-B303-A9D6169D56C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9F6DF-C400-401E-B8AC-C2FB5FC166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591FD-0646-4F9D-BFFD-44F06C167F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419BD-A29E-4362-B436-82AE557170C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538C5-2F92-4675-8F36-D13B36CE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FD68D-44BF-4EE8-BD91-07CE676D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15A44-88E6-469F-80B8-63BD8632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F4DB7-9784-4226-8C93-59B6FCC2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34C6B-90F4-4DC0-BA05-510CF354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5F6B4-967B-476A-B709-58C38342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2FF2D-52FF-4B97-AC21-16B84428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02C5-6008-4BDF-A8E9-C8D837BA59A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310C6-90FB-4F91-AA5C-FD0F4E9F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9746C-F88E-47CE-AD90-131D2740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266F9-6AA9-4A25-8354-82094E05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9CFD9-849A-4BAC-85DD-C9A72193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24621-A429-4245-8DA4-6F880230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C4100-DFE5-4A3F-8B86-54A37532DAA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91DC8-7C9C-4F94-9C77-C6DE392BDD4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F1A2-65EA-459D-9D23-6DF71441FE5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A2DA-AFBD-452F-BD22-99ABB5729C1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44CBE-BD16-4B1E-A870-D0FE3518A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E47A-222D-4DC7-AADF-176E15B8C4A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98D4-94D2-4ECF-BD9F-C28CA91E1EB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C954-3846-4209-9A6F-DF8F1D7EEB7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9B7C-5DA7-431B-8CC1-DB90C23202D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E08C-2DE3-4038-A27E-0AABAC109F2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3CBEC-1985-4A36-972C-3B018F76E8E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6C7F0-C619-442D-B896-0E9609328B3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5449-5EB4-424A-B776-4932B7C90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C7917-FE47-4F58-BA54-0255DF920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DFBBB-9381-467A-8F6A-8FB96215F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86CE7-CCC3-4996-97A0-E9A0903736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5FB59-5168-4D38-9430-B70B9844046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E8D66-1283-4530-BD83-9414C30A388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FBE89-3056-454E-87ED-B242583BAD1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84913-4C96-42E8-8AE0-F0FF39AB505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Joint GNSO – ccNSO Council mee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d issues and inter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282680"/>
            <a:ext cx="471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 joint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improve interaction at working group lev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est in ICANN strategic and operational planning and budg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5295960" y="1523880"/>
            <a:ext cx="38480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move forwar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joint Council meetings still the most effective tool to achieve desired objectiv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other models be explo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Content Placeholder 4" descr=""/>
          <p:cNvPicPr/>
          <p:nvPr/>
        </p:nvPicPr>
        <p:blipFill>
          <a:blip r:embed="rId1"/>
          <a:srcRect l="0" t="-28537" r="0" b="-28537"/>
          <a:stretch/>
        </p:blipFill>
        <p:spPr>
          <a:xfrm>
            <a:off x="4495680" y="129528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m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ope of activities of 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ope of poli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 of 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e of Counc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 with TLD operators/mana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 with registr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on with governments and other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1"/>
          <a:stretch/>
        </p:blipFill>
        <p:spPr>
          <a:xfrm>
            <a:off x="4753080" y="2014560"/>
            <a:ext cx="38574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0720" y="249120"/>
            <a:ext cx="853596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ope of activities of S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1"/>
          <a:stretch/>
        </p:blipFill>
        <p:spPr>
          <a:xfrm>
            <a:off x="438120" y="1212840"/>
            <a:ext cx="8327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0720" y="249120"/>
            <a:ext cx="853596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 of Poli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1"/>
          <a:stretch/>
        </p:blipFill>
        <p:spPr>
          <a:xfrm>
            <a:off x="407880" y="1590840"/>
            <a:ext cx="8328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0720" y="249120"/>
            <a:ext cx="853596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Content Placeholder 3" descr=""/>
          <p:cNvPicPr/>
          <p:nvPr/>
        </p:nvPicPr>
        <p:blipFill>
          <a:blip r:embed="rId1"/>
          <a:stretch/>
        </p:blipFill>
        <p:spPr>
          <a:xfrm>
            <a:off x="407880" y="1596960"/>
            <a:ext cx="8328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0720" y="249120"/>
            <a:ext cx="853596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 of Counc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Content Placeholder 3" descr=""/>
          <p:cNvPicPr/>
          <p:nvPr/>
        </p:nvPicPr>
        <p:blipFill>
          <a:blip r:embed="rId1"/>
          <a:stretch/>
        </p:blipFill>
        <p:spPr>
          <a:xfrm>
            <a:off x="414360" y="1596960"/>
            <a:ext cx="82789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80720" y="249120"/>
            <a:ext cx="853596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 with TLD operators / manag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Content Placeholder 3" descr=""/>
          <p:cNvPicPr/>
          <p:nvPr/>
        </p:nvPicPr>
        <p:blipFill>
          <a:blip r:embed="rId1"/>
          <a:stretch/>
        </p:blipFill>
        <p:spPr>
          <a:xfrm>
            <a:off x="407880" y="1590840"/>
            <a:ext cx="8328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0720" y="249120"/>
            <a:ext cx="853596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 with Registr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ontent Placeholder 3" descr=""/>
          <p:cNvPicPr/>
          <p:nvPr/>
        </p:nvPicPr>
        <p:blipFill>
          <a:blip r:embed="rId1"/>
          <a:stretch/>
        </p:blipFill>
        <p:spPr>
          <a:xfrm>
            <a:off x="407880" y="1590840"/>
            <a:ext cx="8328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areas of shared wor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WG principles – 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G – current status / 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graphic Regions Report – any common views / posi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ountry and territory names as TLD’s - 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Security and Stability (DSSA, Risk Framework) - 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Content Placeholder 6" descr=""/>
          <p:cNvPicPr/>
          <p:nvPr/>
        </p:nvPicPr>
        <p:blipFill>
          <a:blip r:embed="rId1"/>
          <a:stretch/>
        </p:blipFill>
        <p:spPr>
          <a:xfrm>
            <a:off x="5778360" y="1986120"/>
            <a:ext cx="31370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Marika Konings</cp:lastModifiedBy>
  <dcterms:modified xsi:type="dcterms:W3CDTF">2013-07-09T18:35:52Z</dcterms:modified>
  <cp:revision>29</cp:revision>
  <dc:subject/>
  <dc:title>ICANN 47 Durban Template</dc:title>
</cp:coreProperties>
</file>