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021-FCB4-4102-8B1B-99542FB9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378-30B2-47EA-8186-B42EC6D5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0BE-3D40-4569-B1C4-6041F106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44C-4EE1-49E2-8427-ED8F39D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A4B-E366-478A-A8A0-EF24E22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1D6-7119-4CE3-9C52-1047B69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D3A-4681-452B-B056-4A5F49E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EC5-F661-4B98-B324-36537A13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FD7-C8E8-4386-A70A-199B1E3A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13F-44CC-4E64-BE72-A567180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9B2-2F1C-42DE-B0AD-E84F0FE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E6D-FF90-4A8E-83B0-2AD5477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424-8ABB-4CF7-A0EE-8249A22D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r Add Grace Period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ll Range of Us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Experience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Experience could be im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Activation As Baseline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ervices (most start day 1, but could not activate until day 5?  Customer loses 4 day’s use of bundle bene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Costs Passed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 process, management portal, customer service back office (requires re-engineering for AGP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P: Should not be dis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registrars’ firm belief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asting is to be addressed, it must not be through discontinuation of A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P is the mechanism that allows registrars to address multiple problematic circumsta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idst of community zeal to address the so-called tasting problem, various changes to the status quo have been presented, inclu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t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ntin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G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gistrars Constituency strongly believes discontinuing the AGP would be detrimental to users, registrars and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GP is the only reasonable path toward addressing tasting behavior, it must not be through discontin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Full Range of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range of AGP 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fraud (bigger reason than most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errors made by the regist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art “hold” system to provide nam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 monitoring of security/stability of registrar provision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a registrant a reasonable way to handle “buyer’s remor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nd testing real-time produc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t gateway testing/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P allows registrars to combat fraud? 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ime of registration, registrars don’t know if user intend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the name for a purpose that violates acceptable use policy (e.g., sp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is likely legitimate, so we register in re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registrars don’t wait around 6 months to see what happens (e.g., is credit card stolen?  Is name used for spamming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r using internal metrics to discern intent of user, anticipate fru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days of time is very useful for this process.  Most checks can be accommodated in tha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chance to delete name in cases of ill i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ntent of AGP may have been to correct misspellings, but today, the better and more practical use i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at fra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chargeback rate on registrars (which for some registrars resulted in millions of dollars in fi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ntended consequence of charging per-name fee on the day the name is registered instead of the day it exits AGP: Registrars will pay for names that we delete in anticipation of fraudulent activity.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ses are only a few identified by registra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ore, unreported uses – many registrars hold their business practices as proprietary or confidential in our ever competing market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to Registrars and Regis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ation in Use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ntinuation of AGP would cause technical impact or impairment of registrars or registr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at provisioning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of c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of registrant domai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in customer service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in accounting / reporting /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Logic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and Finance departments would have issues to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rice per unit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Registry Balances for fe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cost of remedy for registrant issues (ICANN fee, elimination of A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general cost per unit [agai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1:11:06Z</dcterms:created>
  <dc:creator>Mason C</dc:creator>
  <dc:description/>
  <dc:language>en-US</dc:language>
  <cp:lastModifiedBy>Mason C</cp:lastModifiedBy>
  <dcterms:modified xsi:type="dcterms:W3CDTF">2008-02-04T22:58:02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898873</vt:r8>
  </property>
  <property fmtid="{D5CDD505-2E9C-101B-9397-08002B2CF9AE}" pid="3" name="_AuthorEmail">
    <vt:lpwstr>masonc@snapnames.com</vt:lpwstr>
  </property>
  <property fmtid="{D5CDD505-2E9C-101B-9397-08002B2CF9AE}" pid="4" name="_AuthorEmailDisplayName">
    <vt:lpwstr>Mason Cole</vt:lpwstr>
  </property>
  <property fmtid="{D5CDD505-2E9C-101B-9397-08002B2CF9AE}" pid="5" name="_EmailSubject">
    <vt:lpwstr>Presentations on AGP and domain tasting proposals</vt:lpwstr>
  </property>
</Properties>
</file>