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168-F13E-4977-98D2-CD272ABA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FC6-34E0-4284-AD71-B0A3509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136-CAC8-4F9D-B926-123FA9D8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5A5-6830-4BCD-BFD4-7576B173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01F-D139-4B0C-B312-0F2113D8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E17-EC09-4484-8221-D93477CD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374-7FAD-42FF-92AE-4514603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BDE-8CFE-48FF-83DF-AFD75B50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89E-39E0-439F-BB5B-B8A4774C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939-D438-4757-AF1C-29CAB76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8A0-4FF7-4929-83E0-C8E8A27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6B4-FD00-4DAB-854D-2642AC72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5C0F-7119-4AF8-8012-C9CF8E75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rar Add Grace Period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ll Range of Us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Experience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Experience could be im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Activation As Baseline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ervices (most start day 1, but could not activate until day 5?  Customer loses 4 day’s use of bundle benef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Costs Passed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 process, management portal, customer service back office (requires re-engineering for AGP elim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P: Should not be dis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registrars’ firm belief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asting is to be addressed, it must not be through discontinuation of AG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P is the mechanism that allows registrars to address multiple problematic circumsta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P: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idst of community zeal to address the so-called tasting problem, various changes to the status quo have been presented, inclu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t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contin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AG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P: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gistrars Constituency strongly believes discontinuing the AGP would be detrimental to users, registrars and ot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GP is the only reasonable path toward addressing tasting behavior, it must not be through discontin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P: Full Range of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range of AGP 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at fraud (bigger reason than most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errors made by the regist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cart “hold” system to provide nam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 monitoring of security/stability of registrar provision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ing a registrant a reasonable way to handle “buyer’s remor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nd testing real-time produc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hant gateway testing/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P allows registrars to combat fraud?  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ime of registration, registrars don’t know if user intend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the name for a purpose that violates acceptable use policy (e.g., sp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is likely legitimate, so we register in re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registrars don’t wait around 6 months to see what happens (e.g., is credit card stolen?  Is name used for spamming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r using internal metrics to discern intent of user, anticipate fru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 days of time is very useful for this process.  Most checks can be accommodated in tha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chance to delete name in cases of ill i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ntent of AGP may have been to correct misspellings, but today, the better and more practical use i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at fra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 chargeback rate on registrars (which for some registrars resulted in millions of dollars in fi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ntended consequence of charging per-name fee on the day the name is registered instead of the day it exits AGP: Registrars will pay for names that we delete in anticipation of fraudulent activity.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uses are only a few identified by registra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ore, unreported uses – many registrars hold their business practices as proprietary or confidential in our ever competing market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to Registrars and Regis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adation in User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ntinuation of AGP would cause technical impact or impairment of registrars or registr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at provisioning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of c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of registrant domai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in customer service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ngineering work in accounting / reporting /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Logic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and Finance departments would have issues to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Price per unit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Registry Balances for fe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cost of remedy for registrant issues (ICANN fee, elimination of A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general cost per unit [agai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6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ICANN Registrars Constituency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New Delhi Meetings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                    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1:11:06Z</dcterms:created>
  <dc:creator>Mason C</dc:creator>
  <dc:description/>
  <dc:language>en-US</dc:language>
  <cp:lastModifiedBy>Mason C</cp:lastModifiedBy>
  <dcterms:modified xsi:type="dcterms:W3CDTF">2008-02-04T22:58:02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9898873</vt:r8>
  </property>
  <property fmtid="{D5CDD505-2E9C-101B-9397-08002B2CF9AE}" pid="3" name="_AuthorEmail">
    <vt:lpwstr>masonc@snapnames.com</vt:lpwstr>
  </property>
  <property fmtid="{D5CDD505-2E9C-101B-9397-08002B2CF9AE}" pid="4" name="_AuthorEmailDisplayName">
    <vt:lpwstr>Mason Cole</vt:lpwstr>
  </property>
  <property fmtid="{D5CDD505-2E9C-101B-9397-08002B2CF9AE}" pid="5" name="_EmailSubject">
    <vt:lpwstr>Presentations on AGP and domain tasting proposals</vt:lpwstr>
  </property>
</Properties>
</file>