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991B2B-D152-449E-A6BC-4687D55ACDB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74458A-0EAC-47F6-8EC7-21DF867390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9A5DB4-86CB-4461-8FA4-D71DD17902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1D2A07-5319-4F63-BF49-349FD5BE079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AD0D28-10C6-44FF-A114-5CACF6FD864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D1F1BE-FDE0-4B53-99BC-123CEBB9EAC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0E5455-F0F4-44B1-AADD-DEC3F58428A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E9EEDB-D864-4C9D-96A0-6288C8066D2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D8DBE7-45D9-479C-B266-5F913FC1D0B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2A5CFA-AA78-4C16-8526-76573867A53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AC256A-0137-47DB-B48A-B126357672E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E7DEE1-54A2-47D1-B374-DB69FDD4C70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134FCE-3F5B-48DE-8BBC-C2AB0EFD2F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81E538-D5A7-4E72-AF76-27F218B062D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7F8E2B-761B-42E3-A066-D62BD24DBA7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4AFAFF-D2A1-4125-9886-20874F3495D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06B56F-149E-44DE-89E9-DC48E601F7B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A0B992-7892-40FB-9295-2514789ECD9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370A36-E41C-43D6-ADD7-C5BF2F0EB35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367496-CA1E-430E-94B0-C03890DB616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6F1A63-22D7-49C5-86AC-410EFFAAF3D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3C1733-A328-4FCF-B5F6-06C037DFE64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92BFB7-464F-428E-AF5E-A868BEBF75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9C29AD-DC23-4788-8CA3-FD53A2A389E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9BFF0-366C-45EA-91B5-95C8E8B2015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2E17E-DE28-42FA-ACF5-6BDD83A48E2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264ED-A727-4ECC-8E4C-365CA65ABC8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64040-5D95-4D0B-BFC4-FD7BD6186D9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8786B-A6D4-4028-96AD-D1F760A1761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14A62-5EAD-421B-B041-CFE2FE3C8EF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2B23A-5F13-4790-9E91-E674EFDB5C7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D3D57-FBFB-4C0B-AFAC-C9B8D4C8A27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4A284-1FC5-4441-AA0C-4F561B6536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D49DD-5B6A-4A72-B60E-EACEE8A292D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E211B-81F0-495F-8F9D-AF5CB115448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EDE6E-8E21-4C9C-BF51-A00C361A9511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F470DC-3455-469E-ACE0-FDF4F3F3791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22275B-CF09-4D5C-A3E0-F7F678C1CB2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75ECE6-FF8B-4C96-8DDD-F59280AE22E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65BAC1-76FA-47CF-8BCD-74B0838B0733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326D7C-00A0-4564-986C-33BB7AE6CF2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414759-C41C-4292-98A6-9AEB3AE1D6E0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84EC8E-F671-4CA5-B26C-5DE7FF330B5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78A949-80B7-434B-A952-02C9AFD616B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852208-99C4-47AA-AA96-EDD156AD6DF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CBCA9C-C7AF-4E0E-90A2-240B680719C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677726-B88C-4B82-920C-19C4FB63BDE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20940D-CDA9-4D85-9CE4-B22DB97B03CE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4117F8-3B15-4DD9-91F9-3C70EA846178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5DE936-8735-483F-B9AE-9DDCFF996C1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DBC242-B0F5-4520-B07B-B2DE1110BFA5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7DEB31-1D91-43F3-B3ED-157AC7C644C5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03A59A-9711-4B3F-B880-FD4868A0843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067F71-AC46-418B-92D3-642414BD5C49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60BEFC-7F3B-4C0B-8B2D-7D3CCDA2AB61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F7DEBB-1AB9-47E4-97C6-B5915BED32D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320115-F85E-4F04-B757-D699C6E32170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9E1C96-D11E-4016-8B38-2D495DBD7B5D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16797A-0DA5-4683-BBB4-D1AF5A210A9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F1C6CE-4607-4651-ABFB-8A2CC8E4FB41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06A4D-6732-4D5D-87BA-8B7D390EE350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D8F45-795B-4C05-BF6F-68C6E5A1F4D3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8F0EA-A067-4F2C-8F7B-D5F6394A84B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07965-A48D-40CC-957F-93FB2DB48CA4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DB8FC-4678-4B99-B415-613A5434A218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60404-37A7-46AF-BA70-15F09A725603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9C33F-B8EA-4EB6-8CFA-CF82D95B59E2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4F848-A1BE-4830-8449-EA56854A28E4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9005F-D980-4674-AD61-C1C4E5170599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276A5-020F-4ECB-8169-57D602F7E34C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90D46-3FAD-4158-BE6D-B23BC2579BCF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196CC-D3D6-4311-841F-53E8D557AC8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6676-A53D-421D-B5D6-5847B68A8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5188-501F-4CFB-A889-F19BCBD7D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859A-40F4-4043-A72C-59F17E6F2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7EFC-9D9D-472B-ABC6-FD982D72B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ED71-6348-48DE-A6B2-F1F5FFA57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1DF6-7B55-4F8F-A259-0AD9AB8E5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FFFA-B13C-41A0-B971-EF058485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626C-00E8-45C0-A0E9-10EFC8C9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5E4A-F8D9-4478-B105-E6AFB497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5ED9-4FC6-481A-A3A3-2FB250DEE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67DD-4445-488A-82C8-D6E25EC86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A526-5ADC-4B84-B4DF-42796C51A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2C826F-3177-4040-89F2-65145757B36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B9428F-E5D0-433E-89BD-FB40A9E1BE4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8E9C73-EBD0-4FE3-ACF5-53A9D8B0FC2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7FF8A3-2507-4CFD-947B-BFCF2A8D58E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4BE275-3F90-4FBF-93C4-6FF830EBE49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567935-3574-4AFA-A529-B2A788D6E32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E4079A-5049-4FF1-B6FD-D603D353330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6031E9-4863-40A5-99DC-A071986F53D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FDBAF8-22B5-45EC-8FD5-4ADC30D2A1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A9EB13-BF56-441F-BF31-D18BB9E295D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66E48A-55AE-41C4-97B2-4A0F1124A18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B31B63-34F3-480C-B32D-9A4710939CF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8139AE-0781-4D2A-AFE6-61A14609DE8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4B61DC-2569-4CCB-9130-11BAC33DF24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B6EED1-42B2-4D36-9C6D-BDECE0EC2C7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5A9B37-F48A-46D7-B741-FAB48EAA4F2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2F9FC7-A3E1-4733-A5B9-42E886A23F2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80427D-8217-4134-BCF5-A859258BB76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E0B905-1FC6-45C8-842A-5E668CD275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FA00F8-6093-419A-A1F3-B7B7E93F912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05A72E-1966-4E0C-B650-BBFF097CB57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A4CF53-07E2-4C3E-896A-5730B52259F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62EBA2-6B13-4FB1-B491-C63F1A5B52D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396027-A755-46E2-8E30-18B2FCDB04D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63914-9614-47B8-B15B-B95CD605735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0266F-C18E-4F92-B482-252E547DD56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55C18-34D0-4142-9331-C84274371B2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8DB5F-7BDF-4990-BB38-67E3C86818B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61F9D-1DC9-49EA-A748-5A10142A7D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E927C-1E19-49D7-A1A3-5BAD860016A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2880F-73ED-4FBB-8171-45CE0D77B54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C9180-A3A2-4E66-BDAE-B09C5A37F22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3F075-CB31-4B3B-9BEF-2C1815E09CB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D827E-F896-48AE-B356-9F59399F394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C550D-C4D9-497F-AE73-46791372CC6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EB8A6-86A4-40DF-AB5F-9ED80844FF3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0FAE4A-1009-45A6-916C-E3603A145B7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E3A0E4-408A-471E-864A-8F7E32DB4AA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27FA78-4DC6-4B25-BA8A-DB5996D2C9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66600" y="-52560"/>
            <a:ext cx="9207360" cy="69217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5" descr="ICANN45-TORONTO-RibbonLogo-PPT4.jp2"/>
          <p:cNvPicPr/>
          <p:nvPr/>
        </p:nvPicPr>
        <p:blipFill>
          <a:blip r:embed="rId3"/>
          <a:stretch/>
        </p:blipFill>
        <p:spPr>
          <a:xfrm>
            <a:off x="109440" y="5257800"/>
            <a:ext cx="1548000" cy="963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5" descr="ICANN45-TORONTO-RibbonLogo-PPT2.jp2"/>
          <p:cNvPicPr/>
          <p:nvPr/>
        </p:nvPicPr>
        <p:blipFill>
          <a:blip r:embed="rId4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871CC1-B4A2-4FBD-84F1-D1AADCDD0E4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" descr="ICANN45-TORONTO-RibbonLogo-PPT2.jp2"/>
          <p:cNvPicPr/>
          <p:nvPr/>
        </p:nvPicPr>
        <p:blipFill>
          <a:blip r:embed="rId4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  <p:sp>
        <p:nvSpPr>
          <p:cNvPr id="402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1230D9-E71A-4F92-ACF1-2019C92E56A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5" descr="ICANN45-TORONTO-RibbonLogo-PPT2.jp2"/>
          <p:cNvPicPr/>
          <p:nvPr/>
        </p:nvPicPr>
        <p:blipFill>
          <a:blip r:embed="rId4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  <p:sp>
        <p:nvSpPr>
          <p:cNvPr id="444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741FC9-5D0B-4003-903E-F87012E9AD0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5" descr="ICANN45-TORONTO-RibbonLogo-PPT2.jp2"/>
          <p:cNvPicPr/>
          <p:nvPr/>
        </p:nvPicPr>
        <p:blipFill>
          <a:blip r:embed="rId4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7C1DC2-4BEB-4282-AE04-E9260FB5A052}" type="slidenum">
              <a:rPr b="0" lang="en-US" sz="24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3" descr="ICANN45-TORONTO-RibbonLogo-PPT2.jp2"/>
          <p:cNvPicPr/>
          <p:nvPr/>
        </p:nvPicPr>
        <p:blipFill>
          <a:blip r:embed="rId3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  <p:sp>
        <p:nvSpPr>
          <p:cNvPr id="524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BBBA38-F5EC-4A36-A9F5-CCB941960CD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1" descr="ICANN45-TORONTO-RibbonLogo-PPT4.jp2"/>
          <p:cNvPicPr/>
          <p:nvPr/>
        </p:nvPicPr>
        <p:blipFill>
          <a:blip r:embed="rId5"/>
          <a:stretch/>
        </p:blipFill>
        <p:spPr>
          <a:xfrm>
            <a:off x="457200" y="5641920"/>
            <a:ext cx="1216080" cy="75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ICANN45-TORONTO-RibbonLogo-PPT2.jp2"/>
          <p:cNvPicPr/>
          <p:nvPr/>
        </p:nvPicPr>
        <p:blipFill>
          <a:blip r:embed="rId4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ICANN45-TORONTO-RibbonLogo-PPT2.jp2"/>
          <p:cNvPicPr/>
          <p:nvPr/>
        </p:nvPicPr>
        <p:blipFill>
          <a:blip r:embed="rId3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EA576E-1005-45AC-AF08-BD61F7CB79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65F398-0D3E-4712-9AE0-83C96CF2F2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" descr="ICANN45-TORONTO-RibbonLogo-PPT4.jp2"/>
          <p:cNvPicPr/>
          <p:nvPr/>
        </p:nvPicPr>
        <p:blipFill>
          <a:blip r:embed="rId5"/>
          <a:stretch/>
        </p:blipFill>
        <p:spPr>
          <a:xfrm>
            <a:off x="457200" y="5641920"/>
            <a:ext cx="1216080" cy="75564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F3EE01-ED6C-4A0A-864C-E5D6C1A6555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ICANN45-TORONTO-RibbonLogo-PPT2.jp2"/>
          <p:cNvPicPr/>
          <p:nvPr/>
        </p:nvPicPr>
        <p:blipFill>
          <a:blip r:embed="rId4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7BB04E-F2FE-4178-80C6-01EA18A422E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ICANN45-TORONTO-RibbonLogo-PPT2.jp2"/>
          <p:cNvPicPr/>
          <p:nvPr/>
        </p:nvPicPr>
        <p:blipFill>
          <a:blip r:embed="rId4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  <p:sp>
        <p:nvSpPr>
          <p:cNvPr id="280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Num" idx="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3FA8D6-023D-4932-B28D-BC25E0F96DE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5" descr="ICANN45-TORONTO-RibbonLogo-PPT2.jp2"/>
          <p:cNvPicPr/>
          <p:nvPr/>
        </p:nvPicPr>
        <p:blipFill>
          <a:blip r:embed="rId4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  <p:sp>
        <p:nvSpPr>
          <p:cNvPr id="32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1E352E-2749-4DCD-BB99-7F3C3920586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icann.org/en/about/aoc-review/whois/final-report-11may12-en.pdf" TargetMode="External"/><Relationship Id="rId2" Type="http://schemas.openxmlformats.org/officeDocument/2006/relationships/hyperlink" Target="http://www.icann.org/en/about/aoc-review/whois/final-report-11may12-en.pdf" TargetMode="External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OIS RT Updat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NSO Council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Brian Winterfeld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13 October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Trebuchet MS"/>
              </a:rPr>
              <a:t>WHOIS Review Team Final Repo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6400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rebuchet MS"/>
              </a:rPr>
              <a:t>Current Statu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Board requested GNSO Council Input by July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WHOIS RT on Board Agenda for 18 Oct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GNSO Council unable to reach consensus  on a response to the Board reque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mpilation of SG/C Statements  on WHOIS Review Team on WHOIS RT Final Re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rebuchet MS"/>
              </a:rPr>
              <a:t>Next Step: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GNSO Council to approve and forward to the Boar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Link to Report: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://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rebuchet MS"/>
                <a:hlinkClick r:id="rId2"/>
              </a:rPr>
              <a:t>www.icann.org/en/about/aoc-review/whois/final-report-11may12-en.pd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2953F2-9112-4731-AA77-5562374A379E}" type="slidenum">
              <a:rPr b="0" lang="en-US" sz="24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676600" y="2057400"/>
            <a:ext cx="61624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</a:rPr>
              <a:t>Question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4111BE-641F-4D48-AE0E-C4FD390EEB6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280044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21:45:59Z</dcterms:created>
  <dc:creator>Lynn Lipinski</dc:creator>
  <dc:description/>
  <dc:language>en-US</dc:language>
  <cp:lastModifiedBy>User</cp:lastModifiedBy>
  <dcterms:modified xsi:type="dcterms:W3CDTF">2012-10-12T16:13:15Z</dcterms:modified>
  <cp:revision>43</cp:revision>
  <dc:subject/>
  <dc:title>ICANN 45 Toronto</dc:title>
</cp:coreProperties>
</file>