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1C416-7A02-4E89-9CF2-2D35D2D4DE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63980-0AC0-4DE6-9776-8631C17D5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048AC-B69D-4897-BE73-34321F58F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B98BF-8793-41D4-8D6D-77084FB035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CD4009-FEB2-4C3F-9DC4-7E10E85B54C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173EE1-0A51-459B-8614-778FD908BE7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4FADD-B15B-4D8D-A671-77E3E929CC3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041B2E-A6DB-4FA8-B2DF-CBC79C35B90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9A023-29F1-4C15-BA9B-C4B00C049A5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DCA15-02F3-48F7-B310-37C45FA3C86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420948-E717-4F4A-B602-E1E4CD953B9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F4D05-8A53-4AAA-AF79-2FFE306634B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6E0B1-50B8-4464-9D26-18724F9B6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00A61-A110-4A96-A5A6-7C16522A4D3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D6E3D-E3C9-4AEC-BC4A-480BD12826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CA9E8-778E-4BCD-AD00-6FDC901D9CF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7E635-67BF-4563-86B8-229D91C3CA3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6ECB9-76F0-48B0-8019-9E090B224FB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81A9F-57B7-41E4-BBED-208D47F0DB6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D6536-AE00-4492-9F31-70162FA0703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A6022-0061-45FC-BB34-21C92E018DD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A272C-5524-415A-9E73-863F5B7E7C4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ECA8C-7813-47C6-AFC2-558780B56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595BF-D382-4170-BEF5-0FDEA362559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2BBC2-B738-4676-A2AF-8A04FF921FA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C10D-9A3E-4998-8308-87739691C7B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E023-B83C-44E4-BCE3-49438EE79D3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65C3-824B-4DE8-9B85-F4267F2E313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21E1-5B39-4861-80AE-9188E149269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C4B5-074E-41DD-9383-14C4BEAF763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8821-46D4-4305-BD38-447BCCBB286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4B72-0083-4341-88D0-45033B2A64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B4AD-501C-4C5F-A72D-F3632D9C2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58304-31C7-4F92-BDFB-951E006FC6D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05E4-A874-4B40-AB23-6FABDCF6EB1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6F8E-40BC-450A-927B-D140FC510F7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6F6208-703A-44EB-85BC-351E52641BE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BAE354-771D-4FD5-B2B0-A50B68ACE02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C3CFF4-758D-4B16-9CDE-587250F08D0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0DEA37-28DC-4695-BCB4-8F66922749D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F16F3F-5B49-4E9C-8DE9-F494DC07B93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E6FBAC-51F3-4A0A-9119-E7DB413941D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3C30BD-1008-4B14-B6DD-C3334D69A4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68049-696C-42AA-8AA6-610E3DE1495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39C664-F907-48AB-9317-10051075B1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99FAE-6E75-4951-B0E6-D8473453C30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03342-393A-49C7-9B35-753365FEDAC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48A10-1803-4923-B70D-C2077826A97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758DB-D290-4E45-8825-201BD561641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09B94-5E6E-49F9-AC6F-35A9AA34C2C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4967A-DD47-49DE-8A21-E219BC77C24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6857B-D744-40F1-9CAB-2FECE1475DD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2E60B-25A0-4FDE-B2BF-6153D68EF8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464FD-2264-4C7F-987E-0E5C56C5D4E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E2E53-2385-4280-A171-E9DDDBC3C88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5F577-777B-4D4F-A551-95CEE222CC5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AB2DA-39EC-4960-82EF-7524325B4D4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B83C0-D438-4414-A084-883347E22CB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843169-1A6A-41AD-84D5-9ADDA7276B4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0B8B6-1DC6-44A8-9522-2ABA0D61219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D9EDC-3220-43C1-86AA-463BFDB7C89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D5EB-A85B-41C3-A48C-F855CFCC6BE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EC373-43C7-4267-999A-756174FDA9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D5A4F-DC8F-416D-B26F-B203B342405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05634-9C51-4145-92D8-04D0C47B810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4EE82-226C-4AAB-81FD-75B602A8A88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534B-AA9E-4CE9-8A63-511613E626E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FF9BF-5250-41F6-8CB7-46883F349D5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CC43A-1BFE-4488-B6E7-70E9F470091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534EE-5889-4FC1-9F80-20BB2B61B5D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B9581-BE64-4CA4-A2B8-17E4F39580C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2BE4-BBE2-406A-AC0A-01D60D3E9A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280-BBC3-4D3A-8A89-FCAD60A3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9BC-2EFC-46A1-B4EC-9CF45297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D2FB-9083-433C-912F-16CBE554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58F-9DB8-459A-9E12-E1B11288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791-D965-4E7B-ABBB-93942E23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771-4D0B-48CB-BA6C-D757164F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38D-382D-4316-9E77-081DA956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D4F-9404-4E76-B572-C38FB9EC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40D-9982-4790-9615-7CF05531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EA4-7066-4E77-9AAE-87A3981C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434-0491-4FB3-A2F1-5A126EE9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7B0-8F21-49EA-B5F8-C88F1D63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5FCDB-0590-4CCA-BD02-1BEF45356F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3F065-9270-477C-AA04-48EE4C6D92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79B92-8A17-4AFB-85BE-3D3529D8D2B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22B48-FC75-4E8D-B1A2-3714F8E8F91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349E1-5923-4B78-B0A6-3227C804EC0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15DAE-22EF-4479-A4BE-A8A888083A3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88E66-6F2F-4760-8B58-A2919BE2D25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1A706-97A6-4B9B-93CC-4153BC83491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E81DD-B25B-4122-A06A-9DA146B09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4C568-9FF2-4FBA-BDB2-4F2545318C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3D4B4-01F6-41F4-8BFB-A9CECF07E61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A1B16-254F-483D-90B9-63444CBB337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23350-F353-40A9-99DE-C6934715B3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58810-396E-4D16-99D5-BEE8D3087D8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90D2D-B33C-4DE8-8397-338325C859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B1B01-57B2-4DE1-BA3D-FFAA582324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680B7-4F86-4BCE-B6F5-A65795856FC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3FC5E-1B82-42B2-A062-B770A248F6C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64F4A-D431-41B9-B2FE-8ECE31FAF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13412-2697-40AE-BEC0-F3836F58406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6E6A0-19A4-4B67-8A7B-7BCF1E7D939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25976-209E-4A03-BFB8-D611CDC131D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21FD0-17BB-44EE-BD33-4747565662D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2A465-38C5-49D7-AF03-1D9D74F2382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FAC6-D185-4426-9418-FE5463C171C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5FB2-D981-4E13-923A-62F660D3E0F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436C-A3DB-4EA2-ACB4-EEA50CBE29D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86E3-8F1C-4955-AEFE-1E9585CF4B6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7212-CA41-400A-BA0B-BD592D612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4FF6-BF57-42B9-99BB-846CDFC0988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B638-6C77-4358-B9E3-C5880F597D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FC49-F3FA-418A-B0E9-EA832FAFB64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B77F-9C1E-4726-86BD-86CAD57AD1B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B292-A93C-41FF-A819-0E278BBBE67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5630-4F81-4878-B762-0A3DDC6964D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22E4-9AAC-418B-BFE9-50883BA06C6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8504E6-B439-4C47-A987-1FD108C10F6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8D7BE-F60F-4A5F-9D7B-F230BABFE54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992C10-112E-4BCE-B74C-2F712BA66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6600" y="-52560"/>
            <a:ext cx="9207360" cy="6921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1EBEC-F6CA-4D34-9283-C9D95EBA265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11CBD-FD63-46A5-BD82-ACC45B0C40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BFCF7-D980-4D18-971C-C99D6B2FD28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A86F9-B24A-4C71-98BE-B6D1BAD01A9D}" type="slidenum">
              <a:rPr b="0" lang="en-US" sz="2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57CE8-00E5-4A9B-A724-BCFA1F35E1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A1793-3D7B-4DB0-9285-CAE280B8A9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E0220-3006-416C-8498-B4C074890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C5CA0-5DAE-4574-8E56-B458CEF88E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72CE5-EF39-4924-B24B-F5D9EF7F0E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07F05-B8EA-4D35-A63A-7918391E80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BB3CF-5B30-4426-A922-F25D92899A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cann.org/en/about/aoc-review/whois/final-report-11may12-en.pdf" TargetMode="External"/><Relationship Id="rId2" Type="http://schemas.openxmlformats.org/officeDocument/2006/relationships/hyperlink" Target="http://www.icann.org/en/about/aoc-review/whois/final-report-11may12-en.pdf" TargetMode="External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OIS RT Updat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NSO Council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rian Winterfeld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13 October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</a:rPr>
              <a:t>WHOIS Review Team Final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urrent Stat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ard requested GNSO Council Input by July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OIS RT on Board Agenda for 18 Oct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NSO Council unable to reach consensus  on a response to the Board requ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ilation of SG/C Statements  on WHOIS Review Team on WHOIS RT Final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rebuchet MS"/>
              </a:rPr>
              <a:t>Next Step: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NSO Council to approve and forward to the Bo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nk to Report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www.icann.org/en/about/aoc-review/whois/final-report-11may12-e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0D2B6-EECA-49C8-AC51-F2BEE6338AF0}" type="slidenum">
              <a:rPr b="0" lang="en-US" sz="2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F17F9-B686-4F86-80E1-31AEECBAFE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dc:language>en-US</dc:language>
  <cp:lastModifiedBy>User</cp:lastModifiedBy>
  <dcterms:modified xsi:type="dcterms:W3CDTF">2012-10-12T16:13:15Z</dcterms:modified>
  <cp:revision>43</cp:revision>
  <dc:subject/>
  <dc:title>ICANN 45 Toronto</dc:title>
</cp:coreProperties>
</file>