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6E0-E718-4C4F-A4E2-49B858CC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12B-00DE-4FBF-B3C6-309BA2D7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956-C14C-481A-8E7C-33A886E0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14A-4F62-4CE8-8A4A-BDD6AA08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878-D81F-4453-A871-59C35C1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4C9-E9A0-42CC-A7F4-9EF32AB3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B1F-CED7-4371-B9FF-19C80FF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A53-5E18-49FD-AC87-5D3CE7B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4E0-B6BC-467B-9FCE-4B0BB9D2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3EA-5A60-452B-8EC2-44BE81D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366-3ECA-4009-B7FA-8945155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5D3-F4D6-4900-BB62-ACAF98D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78A3-4DEA-4477-9289-847C8393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NSO Improvemen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 Level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 Ma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distributed 22 May by Av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A17-DDF7-47B1-90C8-8AD4C4F9496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Membership of Process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NSO council chair and/or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epresentative from each constituency (need not be a Council 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NomCom appoi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or an appointed representative from ALAC and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NSO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CANN policy staff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7D2-9D3B-4426-B2E4-E7CCC25B4C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SC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will be the task of the committee once it is established and possibly the teams it creates to establish team char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facilitate this task, the planning document references some ideas for consideration by the S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E55-5EE9-4225-BC82-D90423E4B8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s Standing Committee (S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coordinating, recommending and reviewing changes to certain operational activities of the GNSO and its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goal: develop recommendations to implement the “non‑contentious” operational changes recommended in th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implementing whatever structuring plan (if any) is ultimately approved by the Bo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iewing and assessing the effectiveness of changes made and for recommending further operational enhancements as warrante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45D-7FEF-4730-A914-A34355F49E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Operations SC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SO council chair and/or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presentative from each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NomCom appoi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presentative from any constituencies formally involved in the process of formation (once the process for forming a new constituency has been establi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ison or an appointed representative from ALAC and GAC (as appropri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SO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CANN policy staff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1B2-C8E1-41CD-8FE1-4EC485973D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Operations SC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 may create separate teams to take on the work of distinct operational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Operations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oposal for Council consideration on GNSO operations‑related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oposal to implement recommendations focused on enhancing constituenc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ordination with other ICANN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oposal to improve communication and coordin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578-64BB-49E3-96CC-430100F24A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SC Special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commendations may lend themselves to being addressed through the establishment of special focus te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web-site redesign; project management tools; document management tools;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ams would likely consist of special experts depending on the subject ma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CDC-A4F8-47E0-BAAD-731EA93FB2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SC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will be the task of the committee once it is established and possibly the teams it creates to establish work team char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facilitate this task, the planning document references some ideas for consideration by the S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469-D05F-464E-BF5A-5E9A143526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rg chart image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686720" cy="556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4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4CD-3D94-43DD-848D-B75886B71F7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discussion in coming week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ng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ossible SC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communit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discussion and revisions on Saturday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approval of plan in Open Council Meeting on 25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SCs on 27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950-2105-4424-A35A-28663AAE3F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13E-1C4E-4F70-A8DD-3D1045F533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NSO Planning 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ri Do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mCom Appointee, GNSO Council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ck Go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yC, GNSO Council vice‑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ga Cava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mCom Appoint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Shepp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siness Constit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ross/Milton Muell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CU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e Deck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‑Ulrich Kno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SC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urrent appoint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gistrar Constituenc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C44-5ACE-4B75-8A53-96B5662B80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ANN Planning 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an Crawf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GC Liai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Mich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P, Policy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z Gas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. Policy Counse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Hogga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r. Policy Dir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ope Wren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licy Communications Dir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n De Saint Gé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NSO Secretaria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063-96C3-49BC-BD64-C98BD148EF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Team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 work structure for implemen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tentious operational changes recommended by the BGC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commendations as appropriate once the full plan has been adopted by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implementation progress &amp; report to Council an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implementation committees, teams &amp;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315-928D-4C31-A777-EF9FC879A9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Committee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two standing committees (SC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Process Standing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Stand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processes and practices, not on gTL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 set by SC &amp; approved by Coun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s approved initially by Council and reviewed by Council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terminated by Council at an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start date: 27 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614-0559-4FF5-9FF5-F9F85812F7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ing Committee Memb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stly Councilors but not restricted to Counci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eventually include representatives from emerging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BD1-31A3-43B6-80B6-3689806150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Standing Committ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implementation work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efforts of work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ee development of implement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commendations concerning processes and methods involved in the transition of the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as ongoing GNSO process review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E55-ED96-4DEC-9829-D4AFCC708D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Standing Committee (S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recommending and reviewing any processes used within the GNSO and its council for developing policy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goal: initiate the process for developing recommendations for all process changes needed to meet the requirements of the BGC WG report and final Board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irst set of changes has been implemented, responsible for reviewing the functioning of the new processes and for recommending any further chang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950-2F2B-41EC-B2CC-5BEEEB7A16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SC Initial Work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new rules for the Policy Development Process (PD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procedures and guidelines for the functioning of the policy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could establish 2 work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would coordinate &amp; assist 2 te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A12-A820-49E3-87D6-E97A020F47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8:02:21Z</dcterms:created>
  <dc:creator>chuckg</dc:creator>
  <dc:description/>
  <dc:language>en-US</dc:language>
  <cp:lastModifiedBy>chuckg</cp:lastModifiedBy>
  <dcterms:modified xsi:type="dcterms:W3CDTF">2008-05-29T02:51:47Z</dcterms:modified>
  <cp:revision>16</cp:revision>
  <dc:subject/>
  <dc:title>GNSO Improvements Top Level Pla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6893356</vt:r8>
  </property>
  <property fmtid="{D5CDD505-2E9C-101B-9397-08002B2CF9AE}" pid="3" name="_AuthorEmail">
    <vt:lpwstr>cgomes@verisign.com</vt:lpwstr>
  </property>
  <property fmtid="{D5CDD505-2E9C-101B-9397-08002B2CF9AE}" pid="4" name="_AuthorEmailDisplayName">
    <vt:lpwstr>Gomes, Chuck</vt:lpwstr>
  </property>
  <property fmtid="{D5CDD505-2E9C-101B-9397-08002B2CF9AE}" pid="5" name="_EmailSubject">
    <vt:lpwstr>GNSO Improvements Implementation Plan Presentation</vt:lpwstr>
  </property>
  <property fmtid="{D5CDD505-2E9C-101B-9397-08002B2CF9AE}" pid="6" name="_NewReviewCycle">
    <vt:lpwstr/>
  </property>
</Properties>
</file>