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7AA-D207-4D97-9A4B-3D196172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91B-BF03-4F08-9BA6-2D2C9F7E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212-26A9-4651-B23C-5B0FA6A2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7CA-427D-4232-A717-79A66294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703-971A-42EC-9C63-BE4E831A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8CE-3132-4076-BF2E-67919D2D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62C-E179-45A9-BE5D-B012EFC3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3D1-A8F3-4915-BFC4-983C752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C4B-789E-4D0A-A4D0-2F3BB7A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D43-A164-42FF-958E-CB1CF68A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9ED-58D4-4CE8-B9C0-3F9502B7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65C-6A90-403D-9889-B3AF84AC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6A6-ACDB-4ADB-8861-3FD6B3C6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NSO Improvemen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 Level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 Ma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distributed 22 May by Av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F11-78FB-49B3-931F-82648C6CEEC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Membership of Process 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NSO council chair and/or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epresentative from each constituency (need not be a Council me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NomCom appoi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 or an appointed representative from ALAC and 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NSO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CANN policy staff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D25-41B6-48F7-8CA3-2E12F8224C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SC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will be the task of the committee once it is established and possibly the teams it creates to establish team char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facilitate this task, the planning document references some ideas for consideration by the S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EDD-C090-4265-B1C2-A282A3CB304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s Standing Committee (S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coordinating, recommending and reviewing changes to certain operational activities of the GNSO and its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goal: develop recommendations to implement the “non‑contentious” operational changes recommended in th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implementing whatever structuring plan (if any) is ultimately approved by the Bo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iewing and assessing the effectiveness of changes made and for recommending further operational enhancements as warrante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B79-CF51-43DC-95A1-037AD252EC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sed Operations SC Memb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SO council chair and/or vice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presentative from each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NomCom appoi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presentative from any constituencies formally involved in the process of formation (once the process for forming a new constituency has been establi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ison or an appointed representative from ALAC and GAC (as appropri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NSO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CANN policy staff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03E-9928-449B-A7ED-01BEBF5903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Operations SC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 may create separate teams to take on the work of distinct operational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Operations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oposal for Council consideration on GNSO operations‑related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Constit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oposal to implement recommendations focused on enhancing constituency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oordination with other ICANN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oposal to improve communication and coordin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028-A96C-4858-994A-3D0D12E820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SC Special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commendations may lend themselves to being addressed through the establishment of special focus te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web-site redesign; project management tools; document management tools;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ams would likely consist of special experts depending on the subject ma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611-9216-4512-A874-5DE260C2590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SC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will be the task of the committee once it is established and possibly the teams it creates to establish work team char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facilitate this task, the planning document references some ideas for consideration by the S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684-F950-4022-A7FD-E3A6A85607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rg chart image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686720" cy="556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4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042-C222-45BA-9B27-97F45D8EDD36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discussion in coming week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ng e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possible SC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communit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discussion and revisions on Saturday i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approval of plan in Open Council Meeting on 25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SCs on 27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219-C6E7-4A71-ABDA-386FA0DC96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F4D-57D1-4C0A-907F-8D20C98584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NSO Planning 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ri Do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mCom Appointee, GNSO Council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ck Go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yC, GNSO Council vice‑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ga Cava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mCom Appoint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ip Sheppar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siness Constit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ross/Milton Muell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CU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e Deck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‑Ulrich Knob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SC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urrent appoint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gistrar Constituenc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8EB-BC8B-4D9B-8526-41629BDC73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ANN Planning 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an Crawf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GC Liai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ise Mich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P, Policy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z Gas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. Policy Counse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Hogga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r. Policy Dir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elope Wren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licy Communications Dir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n De Saint Gé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NSO Secretaria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7B1-4745-49E8-8B9A-BBBB3B2053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Team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 work structure for implemen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ntentious operational changes recommended by the BGC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commendations as appropriate once the full plan has been adopted by the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implementation progress &amp; report to Council an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implementation committees, teams &amp;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E2D-D39C-4EF5-9D81-4FF4AA4FC1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Committee 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two standing committees (SC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SO Process Standing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Stand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processes and practices, not on gTLD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 set by SC &amp; approved by Counc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ers approved initially by Council and reviewed by Council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terminated by Council at an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start date: 27 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BFE-A7F9-4B98-8F31-4758AB13C9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ing Committee Memb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b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stly Councilors but not restricted to Counci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eventually include representatives from emerging constit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85F-7EDB-474C-B917-6A855C272F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Standing Committ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implementation work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efforts of work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see development of implement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commendations concerning processes and methods involved in the transition of the GN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as ongoing GNSO process review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98A-30F7-4A45-B5F7-AF50704371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Standing Committee (S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recommending and reviewing any processes used within the GNSO and its council for developing policy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goal: initiate the process for developing recommendations for all process changes needed to meet the requirements of the BGC WG report and final Board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irst set of changes has been implemented, responsible for reviewing the functioning of the new processes and for recommending any further chang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495-67CB-49B0-B882-D54CCB7E34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SC Initial Work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new rules for the Policy Development Process (PD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procedures and guidelines for the functioning of the policy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 could establish 2 work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 would coordinate &amp; assist 2 te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572-F3D8-4AD6-B6E3-F49FC32BFB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May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8:02:21Z</dcterms:created>
  <dc:creator>chuckg</dc:creator>
  <dc:description/>
  <dc:language>en-US</dc:language>
  <cp:lastModifiedBy>chuckg</cp:lastModifiedBy>
  <dcterms:modified xsi:type="dcterms:W3CDTF">2008-05-29T02:51:47Z</dcterms:modified>
  <cp:revision>16</cp:revision>
  <dc:subject/>
  <dc:title>GNSO Improvements Top Level Pla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6893356</vt:r8>
  </property>
  <property fmtid="{D5CDD505-2E9C-101B-9397-08002B2CF9AE}" pid="3" name="_AuthorEmail">
    <vt:lpwstr>cgomes@verisign.com</vt:lpwstr>
  </property>
  <property fmtid="{D5CDD505-2E9C-101B-9397-08002B2CF9AE}" pid="4" name="_AuthorEmailDisplayName">
    <vt:lpwstr>Gomes, Chuck</vt:lpwstr>
  </property>
  <property fmtid="{D5CDD505-2E9C-101B-9397-08002B2CF9AE}" pid="5" name="_EmailSubject">
    <vt:lpwstr>GNSO Improvements Implementation Plan Presentation</vt:lpwstr>
  </property>
  <property fmtid="{D5CDD505-2E9C-101B-9397-08002B2CF9AE}" pid="6" name="_NewReviewCycle">
    <vt:lpwstr/>
  </property>
</Properties>
</file>