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DBB8-575F-40B0-824F-B98DF0B9A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CEEF-74A7-4786-B776-B6439CB76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8242-1112-402C-BFDE-19BD5D4DF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639D-60D4-4E18-A343-E7FC30CA5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7BF1-8F7C-4256-BB82-1D6C94291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BEC4-7928-4D9E-96F7-ACA196838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8570-FAE9-49AD-B18E-1C15A0411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8B06-B991-4381-B3D4-EABA0281D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A44C-1ED9-4CFC-AA1B-1A9CFDB65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68FD-AFC8-4FB3-8DC0-5FB725D57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FABD-3ADB-4F12-B1BF-F0B3ECF6E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FE51-3A1F-4F80-9213-F3E27A4C8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616F4-3DCA-4830-B823-BA6B12726655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NSO Council re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ursday 1 Dec 2005, Vancou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cy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WHOIS consensus policy recommen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garding resolving possible conflicts between privacy laws and the ICANN contr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Definition of WHOIS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wo proposed defin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New T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ompleted terms of reference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D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ormal request for an issues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nteraction with President’s committee and ccN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te of 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Philip Colebr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Alick Wil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Niklas Lagerg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Now two new appointees from the African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01:50:01Z</dcterms:created>
  <dc:creator>Patrick Sharry</dc:creator>
  <dc:description/>
  <dc:language>en-US</dc:language>
  <cp:lastModifiedBy>bruce tonkin</cp:lastModifiedBy>
  <dcterms:modified xsi:type="dcterms:W3CDTF">2005-12-03T01:51:40Z</dcterms:modified>
  <cp:revision>71</cp:revision>
  <dc:subject/>
  <dc:title>Slide 1</dc:title>
</cp:coreProperties>
</file>