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732-F89D-42BA-A89B-F22DFB43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2CB-1DE4-442E-82A7-1265496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4DF-F5E6-4F1F-A88C-A05D05BE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70A-8420-4AD2-BB62-DA5184A0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244-788E-489F-A74D-32C5EEC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E86-7A6A-464B-B1F9-FF450FFF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FB6-B289-4392-B89A-A0E0DD8C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5E3-8730-45B8-B901-AD63FD82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752-252C-4F1C-96B0-F9117DCD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F77-9F87-42D3-84C3-815309F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B69-3723-4A90-B436-6CD97E79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72D-9743-416E-B435-B8ABE55A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19B9-30A8-4E6C-988D-84F92F6D7C2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Council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1 Dec 2005, Vancou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OIS consensus policy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arding resolving possible conflicts between privacy laws and the ICANN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inition of WHOIS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wo propos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leted terms of referen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mal request for an issue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on with President’s committee and cc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e of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ilip Coleb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lick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iklas Lagerg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w two new appointees from the Africa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1:50:01Z</dcterms:created>
  <dc:creator>Patrick Sharry</dc:creator>
  <dc:description/>
  <dc:language>en-US</dc:language>
  <cp:lastModifiedBy>bruce tonkin</cp:lastModifiedBy>
  <dcterms:modified xsi:type="dcterms:W3CDTF">2005-12-03T01:51:40Z</dcterms:modified>
  <cp:revision>71</cp:revision>
  <dc:subject/>
  <dc:title>Slide 1</dc:title>
</cp:coreProperties>
</file>