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png" ContentType="image/png"/>
  <Override PartName="/ppt/media/image6.jpeg" ContentType="image/jpe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235BE-6892-44B5-9D8F-A3450EE019F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15EFF-95D3-4AE8-B5E5-FBD7C4B567A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49B93-EAC5-4AFB-986F-40D71E33CF9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90AFC-0470-42B8-9D4C-D903E4735CC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0A751-DCB1-4CE3-A98D-4EC84783913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652BF-9EA6-47DE-B1DF-714AB24CD5B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82714-D686-4B2D-8D35-EB7422E9F00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149EA-13BA-45FE-8030-36E07D32ADC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6EBA6-D4C0-4B94-9A6E-26D8F529B2F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19AB5A-9640-4378-A3EA-69ADEF89A2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65F7A6-08D2-416E-9E31-1C3513D31CC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514A47-B758-4954-B92F-35677A42F54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31D481-26A0-49C9-938A-09A7899E6E3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05A730-3796-4ED3-99FC-00A78D327B2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0FA303-A64E-4C29-A673-33C04B697B1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6C04F5-0ECE-4C02-88FF-E22F0815794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234F44-A5ED-4E26-853E-7CEB6186AB1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905AA1-5A9B-4949-860D-707E3E0A2A6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F1100E-C5D1-4F0B-8E46-A3BC1F661D4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AA578C-9CD5-49EA-A6BD-B7971958F4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906438-AE1B-4959-9BB6-9A42AEE94F4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32A850-7CB7-479E-938C-A7E8834C9D9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AED424-FDE2-4AFB-AB17-C0EB35E2D7A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B311DD-35F6-427C-A3F4-E37A352F719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CD71B2-F085-40DE-A6AC-25830B4247B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04F8F4-2828-4A93-9F86-C899066C462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7EEBA8-B95A-4708-AE4D-8C8175BCDA5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532419-C0AE-4CEC-8014-535FECBA978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F279BA-BCBA-4AB4-9098-BE5161C3B34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5B68E0-2C5C-4949-8B43-5090B857B4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D66581-2966-4491-AA96-BB2EA02429A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668F3F-9B9B-439B-BD5A-B0E02CFC231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ED63F2-922D-4BE7-962C-C4972ABAD64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1812B-CB06-4E29-B957-2CC87089760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59EF2-483C-4625-9260-A1C193DA64A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F96BD-4F3F-46CD-8FF0-F8AADAA434A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31710-E178-43CD-AEC3-29B791CCBF3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D7A9E-79B8-46F7-9D8C-2B736C04B94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07CE2-0C6F-4A94-A333-E0494FAE8A2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B055E-420D-4E35-92FB-E8C31A3D98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98FE2-C7BD-4A2F-9EFD-AF09CD8EE3D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4CC83-0CC6-4A38-9E40-FEE05903ADE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B48A2-1E1E-4026-BDB1-4A66B8D282E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7E165-DC22-4071-8D88-1938FB2B181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94502-31DF-47A7-A0D3-5DA1BCF51D9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68063F-4128-4BC0-9D09-2C14BFD7936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400842-4DAE-4BB4-B1C3-F3A04994017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7211C1-3399-4FBF-BA2F-DF997312CC8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6658CB-10EF-412D-B032-3AF2D248C93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1694E9-459E-4B3C-A075-7804BF4B2D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11EA5C-4D1D-4A96-9AD1-7BB3995C3CC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E04A51-E786-469A-906A-D312778661A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970A12-748E-405D-96F5-5976C825680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BD77C1-0430-4DB6-A700-E0B6416178F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FEE252-C90D-4A26-A211-BCCF46863C3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995579-3E5E-4BEA-90B4-1BBC5E751AE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6B74B6-13E2-42C2-A947-1035A6F35DD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EFC2F6-90C5-48E6-B2E5-9F617F0131B7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93E6AE-7BAE-4770-85FB-F171A8EF27F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563857-E118-4E43-9645-EF88D65420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DC0CCD-63BA-43C0-85E9-DE2B3D35C5A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CCED16-8BC9-4593-A89A-3BA0648B65B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8F88DB-DAF7-43BA-BB22-5E5A1154EAD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636CEB-7F6B-4DC9-84CC-807A42D1F99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B11271-1DAC-4F68-B3A2-B0819F262E3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B8F5F0-459E-4940-BF3B-65AAAB5DEC2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D8A27A-4801-4567-904D-DEB1A61F9FC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5A986A-4851-4CD8-8588-3DDD5A46652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AABF9F-116B-4E94-90D8-C6DFFD346392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71C3F3-63A0-4CEF-BB55-3A61F57DC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D2242D-970F-48FF-8594-FCAFB844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E02A03-7A59-4942-875B-003DCD6C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6EE228-E6FA-4F9E-A200-39D06F2B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D253AD-A706-47C0-BB6B-A136BE74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CCAA95-E657-4A56-A96D-22B07926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00A3FC-B0C8-4DE5-8B1E-03778777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A888C6-02A4-4228-A91B-AF44D498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703C99-84D9-474D-9309-ECFF758E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EBE555-1D59-466D-BC96-29A32E08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CEA6E7-50AA-4A89-9D94-0C80348FA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450299-ED24-4F27-B736-09E030BB0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839E7D-35B1-4298-831E-8DD1CA910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C332D4-B065-4CFF-B774-07EAA662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85693A-23D4-4052-B1A6-36182056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196FDB-55A7-4B1D-9864-AEAF68AA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094E9B-8DB1-46F5-B428-843AE591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B98238-01A0-4382-B576-CA86DF2C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B3D0F9-A017-4728-9C00-42831E0B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A2F494-E18F-4405-A43A-9AD21EDA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E5A7E3-8A94-4DE0-8DE8-B1BF7AF4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118D4A-121A-41B1-B250-CC4A1C3B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F31F09-4613-4825-BB78-D33526FD5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2BA5C8-A23B-42A6-8329-5E911DF46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DBBB81-E0D6-4B87-8C1C-0B9ED5D66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6697C2-1252-4C8F-8D5C-DFFC0D6D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63675B-88C9-4B18-B2D7-1A69082E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04D706-3979-48CC-B5D0-25724F5E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4245C9-0B54-4B65-862A-EF1441F1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6C7CF1-6594-4476-8C92-8D66EBA9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19EECA-4D20-44FD-AD14-F85CCE99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D475D7-D109-413E-A72C-50459A49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CDF695-ECCA-4E28-A5D4-D2D18C90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C57062-BECF-4923-8A81-2C9BE8D4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2ADC3B-C255-4982-AA4E-426734F60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EAA42B-0C9A-46B8-8431-CF99FDE5C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E59BE0-8BF1-4D24-8B3F-28EE53202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0692FA-7E09-44FC-8E18-FA46D3A6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288F53-FF88-466D-B950-4CE53FBF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103E84-0EB2-49A8-9D3E-27658C58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1485A7-8292-4600-9437-A3ADBB9B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3CA6B6-01A7-4381-88E6-842494E2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E162D7-C58D-41AC-861C-C2C962B3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1371B6-323F-4B1A-8D6B-ED62F53F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28B59A-BCFD-46B7-8158-8B4AE259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BBCADF-473D-47C1-9EFF-7AAAC7E7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64E678-15A9-4AD9-AB13-A122D6603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59B8C2-1F45-4C82-9AE4-59EDFD1C5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689718-67B2-45E5-AC41-C2D1AC02C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BAA625-432B-45FC-A750-DD36CBD4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43E931-BBBB-4807-B5DC-62B1AB86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93D692-4953-4714-A673-D110C344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F3156F-F214-4C4F-BF8B-F3216D93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91D1EC6-B841-4F22-9677-711179B1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FB08D5-9D94-4697-B495-138CC9F8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A06A71-AEDB-410C-B32D-73490A9D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765D76-B5FC-4B3D-A116-107E2BA5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A0D31D-804A-420B-8D45-29854177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10C4E1-53ED-41FB-825F-4CBC9912D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FA30FD-325C-49D7-AA1B-44A9228D0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A794964-254F-48B6-B4D3-5AA601EE7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11C5751-8F30-4B70-9DF5-50FBB142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480F695-A4E6-4738-BD38-CDEAFA67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D9D5707-5EBF-4CD7-9121-9739624A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C2F61D2-A123-489B-A43F-FAE35821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99500A5-598C-4C73-B838-36008D4B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60C9DB6-1C27-4661-B3EF-F5567B17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F928B56-3774-41C7-AE78-4860770B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666995C-9C74-40C7-9547-B5F1F4C0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17D33C0-5D1D-4157-81E9-B3FFDD5A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02FD2D4-D83B-4E1D-AB6E-3FC130F11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7FEF491-35EA-454F-81AE-857CA7B89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F73BBFD-905B-4B37-BEB7-87433C855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781F2A2-C04D-47F1-8AE8-79EA79C4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1801E21-A7E1-4733-9158-7795715C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E019E63-5380-401B-9413-0B6D4C03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8FA27B7-ED8A-4327-B051-4AE9A067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D7B4E6F-82A1-401E-B56D-90C1232F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83B7A6E-B148-47CD-93B7-91C21816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2D96E28-B6EA-4B1D-AB2D-C936B078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EC56597-0152-4682-AD0A-66E6B53F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E1DC156-D4B2-412C-B0DB-B29AC80E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42EBE85-53EE-482B-9CBA-E56020392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2024DEA-5233-4FA6-B67A-2B41C3618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1ADA78-1394-43A6-B63A-34F316B2B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0B1C3B4-FEA5-4F55-968B-6E025E6B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E25E64-9489-425D-9011-18E0FBFA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57631C-BE51-4445-BBE1-ED1F0091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FF9CD94-C482-4039-9B34-B458EFCA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D5AD11-770D-4C9A-9720-37CC1753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9542802-10AF-4DBC-AAA1-1B775B6E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B63EFA-81E4-46EF-86B8-5D39F878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748AB7-18DB-4622-BBA1-F6BCA705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1F5ADB5-0C8B-481B-996A-C89BB471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6D1DCA5-46B5-4ADA-A236-5F258FEC3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1BD32A8-B75B-498D-A1EC-17895E075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4430971-1D63-48CF-ADDC-05F7F0881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D703B15-F6FE-488B-949F-BF0D23F9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5A746A5-72AE-43A2-BCCF-70178CE6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BF95705-1DCA-4D48-A1CE-C6E7EF09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DC28EB2-11F2-4F67-9E5B-FF58F287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134F006-8A5E-40AA-A4C2-CC287517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32ED97C-42A1-4094-95E9-24C9D5F8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2B643CB-6F63-4AB4-A617-8B24E936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364A940-7539-4F9D-9AA5-3E05D2FD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74676E6-7879-4CB4-A593-26E23D26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30873B9-4DF2-46E5-9209-7CCF81313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5DDEDC0-8580-41C2-999D-7586FA2DD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C071412-C23D-49FD-98B0-F589748B9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A4598F8-A572-4779-87A7-C498ECF7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73EB756-3531-4F9C-A35D-F53C2F75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C91B1D1-9106-4B40-B29F-2CD02226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8356AC8-58B8-45FD-B09A-DFBA643E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11DF235-1DE9-4A74-9A5F-B279E6BF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857CB27-0483-4EFA-875C-2D74CA3D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3511148-8E59-4D46-8BF2-6C4BBCD7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1B693B2-2AFC-45E7-8E7A-4E4F7287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AEB99C6-7537-452A-AFAD-2D6D00A2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79EF817-D5AD-4F90-91DC-0D1178FBE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36912F9-C41E-407B-A23A-0FD7E19CC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4B03303-F42A-449A-B10B-35D77694D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B755BBB-6451-44AE-B28E-9A195350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728FEEC-71D4-44AF-AE27-8E7ED846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09D8AE6-F6F8-4DCB-863E-D193E5E1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BA683AB-7813-4232-A1A3-AE551C87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37B21FD-94A1-4B46-80C3-5CB43913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8F2B0ED-CC93-4536-A7C4-A7DAE512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9EB821E-A562-4786-A632-6F0D1B12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BCA91CB-2511-43CE-B6D9-F2A1203D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5F14D9C-3A1A-4E6C-A0CD-1614FDC8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200C9FB-AFE7-4F00-9378-70C7541EF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CC9134C-1C1F-4FC9-A303-83F8AAF49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DEA5-088C-464C-BA94-57DCC154A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69B3-2477-4C84-AEA1-B4ACECD4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691F-1126-4347-B6D1-84D28A93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276E-4061-42FE-97F9-E7F79662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D7D5-7EF5-4F3C-A79E-17DCB941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22E0-565A-4D1B-8656-0AF5B70D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B746-D2A5-426A-9AA5-C1D2AE17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D1C4-6ED9-45DC-AD1E-2FE2FAC9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53DC-F60E-4131-A717-799045AB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0DE3-B0FE-4A2C-9BD4-DADAE517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5025-5E10-43EF-A8D7-C4C41F72E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B498-F959-447D-BF86-F772659AD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60E8-28D1-4B1C-949D-EFD779B6D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130DD-5E3D-46C5-8F58-3BA63F12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8BF62-7504-4593-B158-06CBE64B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2FB2-E694-4B45-B422-DA27DA39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280C-0413-4980-8DA3-67840DA0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D6ADF-A3F4-4333-8B81-1FE00D434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80E7B-EA8A-4344-A6DC-D4399530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152E-21E8-4EEC-929D-C730379B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1548-A228-4CAD-AC41-8CB76AEC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C190-B03F-497F-956F-564F86F3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3F53-6F7B-439D-B4AF-A86D7CDAA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75B61-D94C-4584-82EC-FEDC72DE1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5FF378-F0D4-423E-A9D9-E086E22E70F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5AD523-8354-4AEE-8D73-870FF94F906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5737C9-7B6F-4F8D-BEAE-3EDA18D58B3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E027E9-638A-4AB5-8132-40E9678709B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65D95E-3594-4D96-883F-85049C0AC08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3BA92E-E183-4E29-B3F9-7EA5F792786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B2668C-5414-4F50-9206-4CD7CDE42F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08E2E9-B048-49DD-88CB-330E8D78C32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1F8D9E-2661-423F-AECB-66830D9A48A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67FA1A-A305-4051-A413-ADA5CAE00AE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F8349C-FA18-4385-BF30-3F490EF8B39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075B66-2645-415D-8988-E42B2D08EAD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7F94E7-A7E2-40BF-90AD-578EB63F999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49254B-83B2-4224-BD0C-389CFD15902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EF237B-9F07-440D-95BB-5FEAB2F09FD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68EA36-C06A-40E7-A476-029313B6F1F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44A102-17E0-485A-A52B-F6E6D38CC0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D95E75-EA31-49F6-91C5-3B29E3EA2B0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D01A76-D805-4F3A-8EDB-A858B59471A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5840E7-DF5F-4874-A773-C352D1AC7A6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46AB6E-92A7-4977-9366-B82346BE983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827117-4407-42C6-9AB0-D535599E44E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20CF4E-C175-48A0-9509-05E00679C32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11DAE9-2AFC-4DFF-B1B3-4A9E2E950D2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40377-7F18-4C8C-8721-FDABDDB5033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77B9D-0416-4004-9C21-5B82A47FBB8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67D17-4151-45EC-AB4A-E34FF74A62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07360" cy="6921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43-CR-Logo-rev_small.png"/>
          <p:cNvPicPr/>
          <p:nvPr/>
        </p:nvPicPr>
        <p:blipFill>
          <a:blip r:embed="rId3"/>
          <a:stretch/>
        </p:blipFill>
        <p:spPr>
          <a:xfrm>
            <a:off x="0" y="4170240"/>
            <a:ext cx="4114800" cy="268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43-CR-Logo-Final-11Jan12_small.png"/>
          <p:cNvPicPr/>
          <p:nvPr/>
        </p:nvPicPr>
        <p:blipFill>
          <a:blip r:embed="rId4"/>
          <a:stretch/>
        </p:blipFill>
        <p:spPr>
          <a:xfrm>
            <a:off x="0" y="4724280"/>
            <a:ext cx="3267000" cy="2133720"/>
          </a:xfrm>
          <a:prstGeom prst="rect">
            <a:avLst/>
          </a:prstGeom>
          <a:ln w="0">
            <a:noFill/>
          </a:ln>
        </p:spPr>
      </p:pic>
      <p:sp>
        <p:nvSpPr>
          <p:cNvPr id="360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C76BE4-FC9E-448F-AC7B-199094FDC39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5" descr="43-CR-Logo-Final-11Jan12_small.png"/>
          <p:cNvPicPr/>
          <p:nvPr/>
        </p:nvPicPr>
        <p:blipFill>
          <a:blip r:embed="rId4"/>
          <a:stretch/>
        </p:blipFill>
        <p:spPr>
          <a:xfrm>
            <a:off x="0" y="4724280"/>
            <a:ext cx="3267000" cy="213372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15AA64-4D5C-4A1A-AEFB-8BE9BE1B599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5" descr="43-CR-Logo-Final-11Jan12_small.png"/>
          <p:cNvPicPr/>
          <p:nvPr/>
        </p:nvPicPr>
        <p:blipFill>
          <a:blip r:embed="rId4"/>
          <a:stretch/>
        </p:blipFill>
        <p:spPr>
          <a:xfrm>
            <a:off x="0" y="4724280"/>
            <a:ext cx="3267000" cy="2133720"/>
          </a:xfrm>
          <a:prstGeom prst="rect">
            <a:avLst/>
          </a:prstGeom>
          <a:ln w="0">
            <a:noFill/>
          </a:ln>
        </p:spPr>
      </p:pic>
      <p:sp>
        <p:nvSpPr>
          <p:cNvPr id="44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18B484-F405-4834-97C9-7135BDE073C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5" descr="43-CR-Logo-Final-11Jan12_small.png"/>
          <p:cNvPicPr/>
          <p:nvPr/>
        </p:nvPicPr>
        <p:blipFill>
          <a:blip r:embed="rId4"/>
          <a:stretch/>
        </p:blipFill>
        <p:spPr>
          <a:xfrm>
            <a:off x="0" y="4724280"/>
            <a:ext cx="3267000" cy="2133720"/>
          </a:xfrm>
          <a:prstGeom prst="rect">
            <a:avLst/>
          </a:prstGeom>
          <a:ln w="0">
            <a:noFill/>
          </a:ln>
        </p:spPr>
      </p:pic>
      <p:sp>
        <p:nvSpPr>
          <p:cNvPr id="48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26034C-52CD-4BA7-97A2-241F134460D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5" descr="43-CR-Logo-Final-11Jan12_small.png"/>
          <p:cNvPicPr/>
          <p:nvPr/>
        </p:nvPicPr>
        <p:blipFill>
          <a:blip r:embed="rId3"/>
          <a:stretch/>
        </p:blipFill>
        <p:spPr>
          <a:xfrm>
            <a:off x="0" y="5164200"/>
            <a:ext cx="2590920" cy="169236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sldNum" idx="1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FB74C8-C4EB-4242-9802-593FD78AD24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4DB48A-CE1A-4E05-90B8-A8BF2BB99DCE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B55B0C-8648-4B8D-9AC9-99DFF3B632E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C934F4-4FA8-40E4-8620-8D9E91B51A1E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E63016-44F2-45A0-854E-27E55F3D666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A42087-E463-4375-9259-DDC32FFB9C95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F213C0-F583-42D8-A400-5395E36AB56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90ADED-EC84-4C4F-86F9-B6E1271858D2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A7E7A9-737A-472C-8112-4ABC4EEC3D3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A0655D-6376-4C95-BE40-E0402E9DC530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F02D67-4052-4B34-9CCD-4098812A2D3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838080" y="2743200"/>
            <a:ext cx="1009800" cy="20574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6" descr="43-CR-Logo-Final-11Jan12_small.png"/>
          <p:cNvPicPr/>
          <p:nvPr/>
        </p:nvPicPr>
        <p:blipFill>
          <a:blip r:embed="rId4"/>
          <a:stretch/>
        </p:blipFill>
        <p:spPr>
          <a:xfrm>
            <a:off x="-41400" y="4740120"/>
            <a:ext cx="3241800" cy="211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AA7DC6-6531-44F4-BB78-FB4E1A646CDE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B7D795-4174-4BC7-84D3-ECA022CB6A8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CA6B52-D1D7-4F6D-A491-03A16B79EF71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DC04AB-D4B8-41B5-8B6D-9173BA2E48C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5F8A95-8E85-4526-AB38-C1690DE73742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8222ED-5FC0-4A09-BDED-E7C3A8F580B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AF0A79-AA57-4A77-9BEA-CCC5DCD2BCCD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BBED97-AFEE-4125-A6F4-B5F60CEC159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B7EA9A-CB7E-4B13-B88C-43B08FFF7227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BAE282-E0D8-4B1D-AFB6-7CAD282CD48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 type="dt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5FF8FE-44D7-4B25-8CFC-CC632B1E719E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 type="ftr" idx="4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 type="sldNum" idx="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ABD30F-8710-4BB4-9594-48068B20FE9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43-CR-Logo-Final-11Jan12_small.png"/>
          <p:cNvPicPr/>
          <p:nvPr/>
        </p:nvPicPr>
        <p:blipFill>
          <a:blip r:embed="rId4"/>
          <a:stretch/>
        </p:blipFill>
        <p:spPr>
          <a:xfrm>
            <a:off x="0" y="4724280"/>
            <a:ext cx="3267000" cy="213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43-CR-Logo-Final-11Jan12_small.png"/>
          <p:cNvPicPr/>
          <p:nvPr/>
        </p:nvPicPr>
        <p:blipFill>
          <a:blip r:embed="rId3"/>
          <a:stretch/>
        </p:blipFill>
        <p:spPr>
          <a:xfrm>
            <a:off x="0" y="5164200"/>
            <a:ext cx="2590920" cy="16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6AC9B0-2121-42B4-9567-AAE7E22ABF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69F367-A297-4711-9F42-66F7FA981A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8BB9-4F55-4C8C-A3F2-6401466CD2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6927-CED2-4458-AF7F-E664850189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838080" y="2743200"/>
            <a:ext cx="1009800" cy="20574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43-CR-Logo-Final-11Jan12_small.png"/>
          <p:cNvPicPr/>
          <p:nvPr/>
        </p:nvPicPr>
        <p:blipFill>
          <a:blip r:embed="rId4"/>
          <a:stretch/>
        </p:blipFill>
        <p:spPr>
          <a:xfrm>
            <a:off x="-41400" y="4740120"/>
            <a:ext cx="3241800" cy="211788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sldNum" idx="7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DC9263-FDBE-4495-8A7D-8D40E541929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43-CR-Logo-Final-11Jan12_small.png"/>
          <p:cNvPicPr/>
          <p:nvPr/>
        </p:nvPicPr>
        <p:blipFill>
          <a:blip r:embed="rId4"/>
          <a:stretch/>
        </p:blipFill>
        <p:spPr>
          <a:xfrm>
            <a:off x="0" y="4724280"/>
            <a:ext cx="3267000" cy="213372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7B7A1A-D322-4EDC-949D-E233D44653D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43-CR-Logo-Final-11Jan12_small.png"/>
          <p:cNvPicPr/>
          <p:nvPr/>
        </p:nvPicPr>
        <p:blipFill>
          <a:blip r:embed="rId4"/>
          <a:stretch/>
        </p:blipFill>
        <p:spPr>
          <a:xfrm>
            <a:off x="0" y="4724280"/>
            <a:ext cx="3267000" cy="2133720"/>
          </a:xfrm>
          <a:prstGeom prst="rect">
            <a:avLst/>
          </a:prstGeom>
          <a:ln w="0">
            <a:noFill/>
          </a:ln>
        </p:spPr>
      </p:pic>
      <p:sp>
        <p:nvSpPr>
          <p:cNvPr id="319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B829DB-61C9-4E2D-B35E-09AB008D79D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Country and Territory Names Study Gro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AU" sz="3200" spc="-1" strike="noStrike">
                <a:solidFill>
                  <a:srgbClr val="ffffff"/>
                </a:solidFill>
                <a:latin typeface="Calibri"/>
              </a:rPr>
              <a:t>12 March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AU" sz="3200" spc="-1" strike="noStrike">
                <a:solidFill>
                  <a:srgbClr val="ffffff"/>
                </a:solidFill>
                <a:latin typeface="Calibri"/>
              </a:rPr>
              <a:t>San Jose, Costa 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DF2BB7-C075-417D-86C1-BA5527B7BA0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Survey (a.k.a.“the typology”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2743200" y="1447920"/>
            <a:ext cx="5989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2. ISO-3166-1 Alpha 3 cod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What is your country’s / territory’s three-letter representation in the International Organization for Standardization’s (ISO) 3166-1 list? </a:t>
            </a:r>
            <a:r>
              <a:rPr b="1" i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Explanat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Used in App Guidebook to define “country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3-letter codes (such as AUS, NZL or DEU) are commonly used within a range of activities –international sporting events and postal and transport industr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EA94E3-E181-4942-9886-0F42D144BB6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Survey (a.k.a.“the typology”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2743200" y="1447920"/>
            <a:ext cx="5989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3. Other common abbrevi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Are there any other commonly-used abbreviations for your country or territory? Please provide examples and cite referenc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Explanat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Range of other 3-letter code lists: not all align with ISO3166-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Trying to assess if there are “other” abbrevia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60C97B-7792-478A-89EA-B1A401AD663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Survey (a.k.a.“the typology”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2909880" y="1447920"/>
            <a:ext cx="5989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4. Official / formal Long-form N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What is your country or territory’s “official” long-form name? This may also be referred to as a “formal” name, “principal” name or “name used for administrative purposes”.</a:t>
            </a:r>
            <a:r>
              <a:rPr b="0" i="1" lang="en-AU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If this is in multiple “designated” languages or scripts, please include all examples and cite references.</a:t>
            </a:r>
            <a:br>
              <a:rPr sz="2000"/>
            </a:br>
            <a:r>
              <a:rPr b="0" i="1" lang="en-GB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Explanat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Acknowledge not all C&amp;Ts have “official” name</a:t>
            </a:r>
            <a:r>
              <a:rPr b="0" lang="en-AU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, but this term has meaning to mos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Used “designated” not “official” languages for consistency with the IDN ccPDP WG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A14D27-CDEA-40B6-BAE5-78022C2F50E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Survey (a.k.a.“the typology”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"/>
          <p:cNvSpPr txBox="1"/>
          <p:nvPr/>
        </p:nvSpPr>
        <p:spPr>
          <a:xfrm>
            <a:off x="2743200" y="1447920"/>
            <a:ext cx="5989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5. Official / formal short-form N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What is your country’s / territory’s “official” short-form name? This may also be referred to as a “formal” name, “principal” name or “name used for administrative purposes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If this is in multiple “designated” languages or scripts, please include all examples and cite references.</a:t>
            </a:r>
            <a:br>
              <a:rPr sz="2000"/>
            </a:br>
            <a:r>
              <a:rPr b="0" i="1" lang="en-GB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Explanat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Same as Q4: An example is: “Australia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Not using term “conventional” name…this tends to mean name in English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266FC3-383E-4EF0-96C6-8D01DA7222A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Survey (a.k.a.“the typology”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2743200" y="1447920"/>
            <a:ext cx="5989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6. Country and territory name in the six official languages of the U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Please provide both the long and short form name of your country / territory in the six official languages of the United Nations - Arabic, Chinese (Mandarin), English, French, Russian, Spanis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Explanat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Introducing concept of country name in non local / official / common languag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Link to UNGEGN materials provides guidance for those unfamiliar with Chinese / Arabic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661932-2554-4D1F-B656-A46A16105C1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Survey (a.k.a.“the typology”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2743200" y="1447920"/>
            <a:ext cx="5989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7. Names of other respondents in official / administrative language/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Please provide the long and short form names of the other participants in this survey (listed below &lt;to be inserted&gt;) in your designated language/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Explanat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Expansion of name in “unofficial” languages concep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Your name in unofficial / all other languages” is to vague and broa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E74814-B807-48A8-A6EB-46C271A746A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Survey (a.k.a.“the typology”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2743200" y="1447920"/>
            <a:ext cx="5989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8. Examples of other commonly used or local na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Please provide examples of any other commonly-used or local representations of your country / territory name. For example: “Holland”. If possible, please provide references or citations for these representations. </a:t>
            </a:r>
            <a:br>
              <a:rPr sz="2000"/>
            </a:br>
            <a:r>
              <a:rPr b="0" i="1" lang="en-GB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Explanat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Question that captures other represen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Again, “proof” or explanation required to substantiate clai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94A78C-2058-4F32-AB58-0D2111803D8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Survey (a.k.a.“the typology”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"/>
          <p:cNvSpPr txBox="1"/>
          <p:nvPr/>
        </p:nvSpPr>
        <p:spPr>
          <a:xfrm>
            <a:off x="2743200" y="1447920"/>
            <a:ext cx="5989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9. Examples of country / territory name in minority or indigenous langu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Please provide examples of indigenous or minority representations of your country / territory name. If possible, please provide references or citations for these representation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Explanat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Important to capture indigenous / regional nam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Names used by migrant populations are also importan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B1B2A6-FC66-4D98-8E40-1177C39413F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Survey (a.k.a.“the typology”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"/>
          <p:cNvSpPr txBox="1"/>
          <p:nvPr/>
        </p:nvSpPr>
        <p:spPr>
          <a:xfrm>
            <a:off x="2743200" y="1447920"/>
            <a:ext cx="5989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10. Examples of name in non-official langu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Please provide examples of any other representations of your country / territory name that may not have been captured by the above categories. If possible, please provide explanation and references or citations for these representation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Explanat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This is the horribly broad “catch all” question, though phrased as “any others?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By placing it at the end, most significant representations should already be cover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ABD766-3740-41DF-B78F-5EF48831D63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"/>
          <p:cNvSpPr txBox="1"/>
          <p:nvPr/>
        </p:nvSpPr>
        <p:spPr>
          <a:xfrm>
            <a:off x="3046320" y="1447920"/>
            <a:ext cx="5989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Distribution of surv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ntinued briefing of constitu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Development of “issues paper” to outline process and progress to da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Public consultation well before Prag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Analysis of new gTLD appl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Analysis of survey respon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Possible secondary survey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Draft Report for consul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Final Re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3048120" y="152388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oll-call &amp; ap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rief Recap </a:t>
            </a:r>
            <a:br>
              <a:rPr sz="3200"/>
            </a:b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- purpose and scope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- workplan  / schedu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 u="sng">
                <a:solidFill>
                  <a:srgbClr val="000000"/>
                </a:solidFill>
                <a:uFillTx/>
                <a:latin typeface="Calibri"/>
              </a:rPr>
              <a:t>Finalisation of survey</a:t>
            </a:r>
            <a:br>
              <a:rPr sz="3200"/>
            </a:br>
            <a:r>
              <a:rPr b="0" lang="en-AU" sz="2800" spc="-1" strike="noStrike" u="sng">
                <a:solidFill>
                  <a:srgbClr val="000000"/>
                </a:solidFill>
                <a:uFillTx/>
                <a:latin typeface="Calibri"/>
              </a:rPr>
              <a:t>- Background and question-by-ques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next? (time allow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B1FF9F-97C5-491B-AFB1-AE4BA590BED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Rectangle 1"/>
          <p:cNvSpPr/>
          <p:nvPr/>
        </p:nvSpPr>
        <p:spPr>
          <a:xfrm>
            <a:off x="427680" y="2057400"/>
            <a:ext cx="1648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7f7f7f"/>
                </a:solidFill>
                <a:latin typeface="Trebuchet MS"/>
              </a:rPr>
              <a:t>Goal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7f7f7f"/>
                </a:solidFill>
                <a:latin typeface="Trebuchet MS"/>
              </a:rPr>
              <a:t>f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7f7f7f"/>
                </a:solidFill>
                <a:latin typeface="Trebuchet MS"/>
              </a:rPr>
              <a:t>to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B1ADF5-CA00-40CA-9A99-A6152039E8B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Purpose and sco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057120" y="1412640"/>
            <a:ext cx="568476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71640" indent="-51444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Trebuchet MS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Look at current (and proposed) landscape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Trebuchet MS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400" spc="-1" strike="noStrike" u="sng">
                <a:solidFill>
                  <a:srgbClr val="000000"/>
                </a:solidFill>
                <a:uFillTx/>
                <a:latin typeface="Trebuchet MS"/>
                <a:ea typeface="Trebuchet MS"/>
              </a:rPr>
              <a:t>Look at the different representations of Countries and Territories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Trebuchet MS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Provide overview of what happens when we apply policies to these names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Liaise with relevant stakeho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Report to ccNSO Counc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Right Arrow 1"/>
          <p:cNvSpPr/>
          <p:nvPr/>
        </p:nvSpPr>
        <p:spPr>
          <a:xfrm>
            <a:off x="2133720" y="2666880"/>
            <a:ext cx="1143000" cy="304920"/>
          </a:xfrm>
          <a:prstGeom prst="rightArrow">
            <a:avLst>
              <a:gd name="adj1" fmla="val 50000"/>
              <a:gd name="adj2" fmla="val 49980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6"/>
          <p:cNvSpPr/>
          <p:nvPr/>
        </p:nvSpPr>
        <p:spPr>
          <a:xfrm>
            <a:off x="152280" y="2128680"/>
            <a:ext cx="190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7f7f7f"/>
                </a:solidFill>
                <a:latin typeface="Trebuchet MS"/>
              </a:rPr>
              <a:t>Current pri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ight Arrow 2"/>
          <p:cNvSpPr/>
          <p:nvPr/>
        </p:nvSpPr>
        <p:spPr>
          <a:xfrm rot="2548800">
            <a:off x="1239840" y="4043160"/>
            <a:ext cx="2130480" cy="212400"/>
          </a:xfrm>
          <a:prstGeom prst="rightArrow">
            <a:avLst>
              <a:gd name="adj1" fmla="val 50000"/>
              <a:gd name="adj2" fmla="val 50199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365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954DBD-AEB9-47FA-B5BF-48E03DD8780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Outside of purpose &amp; sco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2895120" y="1599840"/>
            <a:ext cx="5837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8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Defining what is and isn’t a ccT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8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ntervening in first round of new gTLDs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8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Judging previous policy approach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8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Making recommendations for additional protections for C&amp;T na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8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Developing a definitive recommendation for how C&amp;T names should be tre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Rectangle 1"/>
          <p:cNvSpPr/>
          <p:nvPr/>
        </p:nvSpPr>
        <p:spPr>
          <a:xfrm>
            <a:off x="228600" y="1600200"/>
            <a:ext cx="21286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7f7f7f"/>
                </a:solidFill>
                <a:latin typeface="Trebuchet MS"/>
              </a:rPr>
              <a:t>The elements that are outside of the Study Group’s mandate are being made clear to all stakehold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7f7f7f"/>
                </a:solidFill>
                <a:latin typeface="Trebuchet MS"/>
              </a:rPr>
              <a:t>This includes survey particip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F2FE81-CF52-4D4D-A16A-9E257D14127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Workplan &amp; 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2895480" y="1599840"/>
            <a:ext cx="5989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1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Develop policy overview  </a:t>
            </a:r>
            <a:r>
              <a:rPr b="1" lang="en-AU" sz="2400" spc="-1" strike="noStrike">
                <a:solidFill>
                  <a:srgbClr val="c0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11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 u="sng">
                <a:solidFill>
                  <a:srgbClr val="000000"/>
                </a:solidFill>
                <a:uFillTx/>
                <a:latin typeface="Trebuchet MS"/>
                <a:ea typeface="Trebuchet MS"/>
              </a:rPr>
              <a:t>Develop scope of typology – Near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11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UNESCO survey – March to Ju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11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SG discussion of issues – March to Ju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11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ssues Paper – Consultation – Prag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11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Further survey work </a:t>
            </a:r>
            <a:r>
              <a:rPr b="0" lang="en-AU" sz="2400" spc="-1" strike="noStrike">
                <a:solidFill>
                  <a:srgbClr val="c00000"/>
                </a:solidFill>
                <a:latin typeface="Trebuchet MS"/>
                <a:ea typeface="Trebuchet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11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Final round community consultation &amp; briefing – Toronto, Oct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11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Final Report – End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184962-43FE-4CF2-BC4F-246570E5215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304560" y="-15264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Survey</a:t>
            </a:r>
            <a:r>
              <a:rPr b="0" lang="en-US" sz="3600" spc="-1" strike="noStrike">
                <a:solidFill>
                  <a:srgbClr val="7f7f7f"/>
                </a:solidFill>
                <a:latin typeface="Trebuchet MS"/>
                <a:ea typeface="Trebuchet MS"/>
              </a:rPr>
              <a:t> (a.k.a.“the typology”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2971440" y="1294920"/>
            <a:ext cx="5334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Agreement by UNESCO to assist in September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 u="sng">
                <a:solidFill>
                  <a:srgbClr val="000000"/>
                </a:solidFill>
                <a:uFillTx/>
                <a:latin typeface="Trebuchet MS"/>
                <a:ea typeface="Trebuchet MS"/>
              </a:rPr>
              <a:t>At least</a:t>
            </a:r>
            <a:r>
              <a:rPr b="0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 a sampling of 20-25 Member Stat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Formulation by this S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States selected with geographic diversity in mi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8 – 12 week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B7E36B-908C-4A22-971C-ACC7857EC57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Survey (a.k.a.“the typology”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2921040" y="1282320"/>
            <a:ext cx="5989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Gathering info but also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Trebuchet MS"/>
                <a:ea typeface="Trebuchet MS"/>
              </a:rPr>
              <a:t>testing the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Survey repeatedly asks for examples / references / citations of clai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Possibility, time allowing, of refinement and broader secondary surv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Also circulated to wider ICANN community (e.g. NGOs thru ALA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Rectangle 13"/>
          <p:cNvSpPr/>
          <p:nvPr/>
        </p:nvSpPr>
        <p:spPr>
          <a:xfrm>
            <a:off x="2476440" y="5095800"/>
            <a:ext cx="1828800" cy="571680"/>
          </a:xfrm>
          <a:prstGeom prst="rect">
            <a:avLst/>
          </a:prstGeom>
          <a:solidFill>
            <a:srgbClr val="dce6f2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interested bodies, including other cou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8"/>
          <p:cNvSpPr/>
          <p:nvPr/>
        </p:nvSpPr>
        <p:spPr>
          <a:xfrm>
            <a:off x="2432160" y="2581200"/>
            <a:ext cx="1828800" cy="2133720"/>
          </a:xfrm>
          <a:prstGeom prst="rect">
            <a:avLst/>
          </a:prstGeom>
          <a:solidFill>
            <a:srgbClr val="dce6f2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ESCO responsibili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fficial letter -inv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I Newslett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other countri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all interested instit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0" name="Straight Arrow Connector 24"/>
          <p:cNvCxnSpPr/>
          <p:nvPr/>
        </p:nvCxnSpPr>
        <p:spPr>
          <a:xfrm flipH="1">
            <a:off x="4260600" y="2955600"/>
            <a:ext cx="1566000" cy="1080"/>
          </a:xfrm>
          <a:prstGeom prst="straightConnector1">
            <a:avLst/>
          </a:prstGeom>
          <a:ln w="158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41" name="Straight Arrow Connector 25"/>
          <p:cNvCxnSpPr/>
          <p:nvPr/>
        </p:nvCxnSpPr>
        <p:spPr>
          <a:xfrm flipV="1">
            <a:off x="4210200" y="3577680"/>
            <a:ext cx="3116880" cy="1080"/>
          </a:xfrm>
          <a:prstGeom prst="straightConnector1">
            <a:avLst/>
          </a:prstGeom>
          <a:ln w="158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2" name="Rectangle 26"/>
          <p:cNvSpPr/>
          <p:nvPr/>
        </p:nvSpPr>
        <p:spPr>
          <a:xfrm>
            <a:off x="5826240" y="1081080"/>
            <a:ext cx="1280880" cy="4586400"/>
          </a:xfrm>
          <a:prstGeom prst="rect">
            <a:avLst/>
          </a:prstGeom>
          <a:solidFill>
            <a:srgbClr val="fdeada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omination of the national institution responsible for the completion of the surv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9"/>
          <p:cNvSpPr/>
          <p:nvPr/>
        </p:nvSpPr>
        <p:spPr>
          <a:xfrm>
            <a:off x="3063960" y="1676520"/>
            <a:ext cx="1828800" cy="336600"/>
          </a:xfrm>
          <a:prstGeom prst="rect">
            <a:avLst/>
          </a:prstGeom>
          <a:solidFill>
            <a:srgbClr val="fdeada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onal Commission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4" name="Straight Arrow Connector 30"/>
          <p:cNvCxnSpPr/>
          <p:nvPr/>
        </p:nvCxnSpPr>
        <p:spPr>
          <a:xfrm>
            <a:off x="8115120" y="4293720"/>
            <a:ext cx="1080" cy="1955160"/>
          </a:xfrm>
          <a:prstGeom prst="straightConnector1">
            <a:avLst/>
          </a:prstGeom>
          <a:ln w="158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45" name="Straight Arrow Connector 38"/>
          <p:cNvCxnSpPr/>
          <p:nvPr/>
        </p:nvCxnSpPr>
        <p:spPr>
          <a:xfrm>
            <a:off x="3284280" y="4714560"/>
            <a:ext cx="1080" cy="432360"/>
          </a:xfrm>
          <a:prstGeom prst="straightConnector1">
            <a:avLst/>
          </a:prstGeom>
          <a:ln w="158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6" name="Rectangle 11"/>
          <p:cNvSpPr/>
          <p:nvPr/>
        </p:nvSpPr>
        <p:spPr>
          <a:xfrm>
            <a:off x="3063960" y="1295280"/>
            <a:ext cx="1828800" cy="381240"/>
          </a:xfrm>
          <a:prstGeom prst="rect">
            <a:avLst/>
          </a:prstGeom>
          <a:solidFill>
            <a:srgbClr val="fdeada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manent Delegation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46"/>
          <p:cNvSpPr/>
          <p:nvPr/>
        </p:nvSpPr>
        <p:spPr>
          <a:xfrm>
            <a:off x="7391520" y="2581200"/>
            <a:ext cx="1447560" cy="1712880"/>
          </a:xfrm>
          <a:prstGeom prst="rect">
            <a:avLst/>
          </a:prstGeom>
          <a:solidFill>
            <a:srgbClr val="ddd9c3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-survey complete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nominated national institu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Straight Connector 56"/>
          <p:cNvSpPr/>
          <p:nvPr/>
        </p:nvSpPr>
        <p:spPr>
          <a:xfrm>
            <a:off x="2593800" y="1676520"/>
            <a:ext cx="0" cy="9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9" name="Straight Arrow Connector 59"/>
          <p:cNvCxnSpPr/>
          <p:nvPr/>
        </p:nvCxnSpPr>
        <p:spPr>
          <a:xfrm>
            <a:off x="2593800" y="1676160"/>
            <a:ext cx="442080" cy="1080"/>
          </a:xfrm>
          <a:prstGeom prst="straightConnector1">
            <a:avLst/>
          </a:prstGeom>
          <a:ln w="158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50" name="Rectangle 67"/>
          <p:cNvSpPr/>
          <p:nvPr/>
        </p:nvSpPr>
        <p:spPr>
          <a:xfrm>
            <a:off x="4452840" y="3255840"/>
            <a:ext cx="1254240" cy="8240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ss t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ign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-surv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ectangle 70"/>
          <p:cNvSpPr/>
          <p:nvPr/>
        </p:nvSpPr>
        <p:spPr>
          <a:xfrm>
            <a:off x="4460760" y="2619360"/>
            <a:ext cx="1238400" cy="2764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fficial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ectangle 73"/>
          <p:cNvSpPr/>
          <p:nvPr/>
        </p:nvSpPr>
        <p:spPr>
          <a:xfrm>
            <a:off x="2432160" y="3724200"/>
            <a:ext cx="1546200" cy="914400"/>
          </a:xfrm>
          <a:prstGeom prst="rect">
            <a:avLst/>
          </a:prstGeom>
          <a:noFill/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3" name="Straight Arrow Connector 81"/>
          <p:cNvCxnSpPr>
            <a:endCxn id="1054" idx="2"/>
          </p:cNvCxnSpPr>
          <p:nvPr/>
        </p:nvCxnSpPr>
        <p:spPr>
          <a:xfrm flipV="1">
            <a:off x="1176480" y="5310000"/>
            <a:ext cx="8640" cy="938880"/>
          </a:xfrm>
          <a:prstGeom prst="straightConnector1">
            <a:avLst/>
          </a:prstGeom>
          <a:ln w="158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5" name="Straight Arrow Connector 85"/>
          <p:cNvCxnSpPr/>
          <p:nvPr/>
        </p:nvCxnSpPr>
        <p:spPr>
          <a:xfrm>
            <a:off x="541440" y="3358800"/>
            <a:ext cx="1891440" cy="1080"/>
          </a:xfrm>
          <a:prstGeom prst="straightConnector1">
            <a:avLst/>
          </a:prstGeom>
          <a:ln w="158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56" name="Rectangle 87"/>
          <p:cNvSpPr/>
          <p:nvPr/>
        </p:nvSpPr>
        <p:spPr>
          <a:xfrm>
            <a:off x="2476440" y="5881680"/>
            <a:ext cx="4646520" cy="2764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UNESCO communicates  results to the working group for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ectangle 3"/>
          <p:cNvSpPr/>
          <p:nvPr/>
        </p:nvSpPr>
        <p:spPr>
          <a:xfrm>
            <a:off x="380880" y="2290680"/>
            <a:ext cx="1608120" cy="1433520"/>
          </a:xfrm>
          <a:prstGeom prst="rect">
            <a:avLst/>
          </a:prstGeom>
          <a:solidFill>
            <a:srgbClr val="ebf1de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urvey prepar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-selection criteria of 20-25 cou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ine survey developed and sent to UNES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8" name="Straight Arrow Connector 89"/>
          <p:cNvCxnSpPr/>
          <p:nvPr/>
        </p:nvCxnSpPr>
        <p:spPr>
          <a:xfrm flipV="1">
            <a:off x="4114440" y="4739400"/>
            <a:ext cx="1080" cy="381960"/>
          </a:xfrm>
          <a:prstGeom prst="straightConnector1">
            <a:avLst/>
          </a:prstGeom>
          <a:ln w="158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54" name="Rectangle 97"/>
          <p:cNvSpPr/>
          <p:nvPr/>
        </p:nvSpPr>
        <p:spPr>
          <a:xfrm>
            <a:off x="380880" y="3876840"/>
            <a:ext cx="1608120" cy="1433520"/>
          </a:xfrm>
          <a:prstGeom prst="rect">
            <a:avLst/>
          </a:prstGeom>
          <a:solidFill>
            <a:srgbClr val="ebf1de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urvey analys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ing group members analyz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s receives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s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9" name="Straight Arrow Connector 103"/>
          <p:cNvCxnSpPr/>
          <p:nvPr/>
        </p:nvCxnSpPr>
        <p:spPr>
          <a:xfrm>
            <a:off x="5333760" y="1676160"/>
            <a:ext cx="1080" cy="905400"/>
          </a:xfrm>
          <a:prstGeom prst="straightConnector1">
            <a:avLst/>
          </a:prstGeom>
          <a:ln w="158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60" name="Straight Connector 136"/>
          <p:cNvSpPr/>
          <p:nvPr/>
        </p:nvSpPr>
        <p:spPr>
          <a:xfrm flipH="1">
            <a:off x="1174680" y="6248520"/>
            <a:ext cx="6940800" cy="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Rectangle 141"/>
          <p:cNvSpPr/>
          <p:nvPr/>
        </p:nvSpPr>
        <p:spPr>
          <a:xfrm>
            <a:off x="721440" y="457200"/>
            <a:ext cx="927360" cy="276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ch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ectangle 142"/>
          <p:cNvSpPr/>
          <p:nvPr/>
        </p:nvSpPr>
        <p:spPr>
          <a:xfrm>
            <a:off x="2596320" y="457200"/>
            <a:ext cx="819360" cy="276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ril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144"/>
          <p:cNvSpPr/>
          <p:nvPr/>
        </p:nvSpPr>
        <p:spPr>
          <a:xfrm>
            <a:off x="4770000" y="457200"/>
            <a:ext cx="1149840" cy="276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ril/Ma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147"/>
          <p:cNvSpPr/>
          <p:nvPr/>
        </p:nvSpPr>
        <p:spPr>
          <a:xfrm>
            <a:off x="7429680" y="457200"/>
            <a:ext cx="1143720" cy="276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/Jun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148"/>
          <p:cNvSpPr/>
          <p:nvPr/>
        </p:nvSpPr>
        <p:spPr>
          <a:xfrm>
            <a:off x="4257000" y="6324480"/>
            <a:ext cx="1105920" cy="276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ne/Jul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151"/>
          <p:cNvSpPr/>
          <p:nvPr/>
        </p:nvSpPr>
        <p:spPr>
          <a:xfrm>
            <a:off x="2432160" y="2587680"/>
            <a:ext cx="1842840" cy="990720"/>
          </a:xfrm>
          <a:prstGeom prst="rect">
            <a:avLst/>
          </a:prstGeom>
          <a:noFill/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7" name="Straight Arrow Connector 155"/>
          <p:cNvCxnSpPr/>
          <p:nvPr/>
        </p:nvCxnSpPr>
        <p:spPr>
          <a:xfrm>
            <a:off x="4876560" y="1671480"/>
            <a:ext cx="950040" cy="5760"/>
          </a:xfrm>
          <a:prstGeom prst="straightConnector1">
            <a:avLst/>
          </a:prstGeom>
          <a:ln w="1584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B7D151-91B7-4E70-AA2C-35ACF16EB73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Survey (a.k.a.“the typology”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"/>
          <p:cNvSpPr txBox="1"/>
          <p:nvPr/>
        </p:nvSpPr>
        <p:spPr>
          <a:xfrm>
            <a:off x="2743200" y="1447920"/>
            <a:ext cx="5989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1. ISO-3166-1 Alpha 2 cod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What is your country’s / territory’s two-letter representation in the International Organization for Standardization’s (ISO) 3166-1 list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Explanat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Basis for ccTL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Agreed, commonly used repres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22:18:10Z</dcterms:created>
  <dc:creator>Paul Szyndler</dc:creator>
  <dc:description/>
  <dc:language>en-US</dc:language>
  <cp:lastModifiedBy>PS</cp:lastModifiedBy>
  <dcterms:modified xsi:type="dcterms:W3CDTF">2012-03-09T04:15:18Z</dcterms:modified>
  <cp:revision>48</cp:revision>
  <dc:subject/>
  <dc:title>C&amp;TNSG - San Jose</dc:title>
</cp:coreProperties>
</file>