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70915-4D1E-4038-A406-4A5A5CCED2B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85A0C-32C3-47DB-8005-FC7CD791639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35B0A-D655-4305-A371-3B9543C0DE0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298D3-CB97-4791-891B-93B1957B583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CB368-5E56-46C3-86EA-8B0FA535D35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B12ED-339D-4E6E-8ED8-6615375476E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D4ABF-AE94-46AA-84E4-2C84164FE4D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7438C-7371-47F5-9B33-4B729DA3E02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9CFFB-6D4F-4CFA-8C8B-742172C6087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85ACAE-97FB-4599-941D-388F1143D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DDF045-FDFC-4313-85D2-216B698E64E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BE2E4F-0235-4004-A1CD-914E8DC9AFB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4EA384-839D-4AA7-ABEE-E3D67054C32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288F88-F0BC-425B-A208-EF5A7CE4CF1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03A0B5-7E76-42D7-813D-2451A97B801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C8BB3-2719-40AF-AA54-79B00CF6684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8A8346-FD29-497F-9F69-91B22FA09D6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0DEEBD-5E44-4547-84C2-005D809464F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C74EB-1BED-4B6A-A2F5-260DE6D58EA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6C54DC-8A43-405C-97D2-A9ACD3C26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B51BC6-3BB3-41B8-BB2D-CDF6BF71157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EE6DBD-5CF6-4C13-B863-4C2BAB9EF63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F28FAF-5F74-4B93-A1F0-D44863F300B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9BBED2-54AB-4F0A-A3F3-36F1E013876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653574-3CA8-4F4B-94C2-8614F0B4F92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D9B210-3FD1-46E1-A1A1-9C31BEBB377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D9428-987D-400A-B33C-7C5C6664EBA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74E2A-F367-4940-A9FF-1B8B2D23917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26F3F-EBAD-4542-A590-25141D83816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B85D6-2060-40B7-9887-AE7AF167B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D1A552-961D-4E8F-8D01-7427B1286A5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F4FEC-EB22-46C3-9AF1-E7FBBDD364B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99F5A2-D1FF-4008-92CF-CFD14893CFC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52978-ADED-4509-9898-11FC5A4B5AF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CFAD5-6463-48FD-BF91-734AE000389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5E0DD-9B77-40D7-B71E-BDA6772BF17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374A-434F-4524-B9B7-DB2D2113685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A6977-CBD1-4E3F-A2DA-B2B579E9C07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62B70-1FBE-4106-9DB3-01FCDB6C777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55CFE-E928-47FD-A5D5-C016B843BA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158EB-D175-45AF-91E4-D26EB9A6F11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258B4-8867-44B3-8340-9EC90910FA4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59B8B-375C-434F-BB3E-D01913E7509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B28BF-EECD-422F-AA16-8E06CE91FBB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772F-843F-40BE-AC08-34EDA12BC21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C39C97-80C0-4446-86F7-9C6954874FB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96223C-9F5B-4BA9-8CC8-33EB3D0497E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2EC53F-8EEB-422D-B923-DAA274DBF4D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BC2D10-8EDE-453E-B98A-4434B3AC6E0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DE84A6-5637-4E9A-9837-52FEEF18CD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DAE95F-B72C-4353-9B29-49AE456CFA9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174C13-5D2F-4640-AB0C-B52D3B4790F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405C1C-771F-4CBC-BD9C-B2691125FBE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5B83DB-3B1F-46F9-AD4D-7E49DB24B4B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B61B6B-80B6-4CED-A388-517A65C7A42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B427ED-3E85-4EDB-B213-3B986ECCC60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0B32F9-0D92-4BD4-990B-DEA054ED8FC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347F5-DD44-42C8-8A4E-928C69C3416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6B6392-4F2A-43B7-BDA0-AFB20B9A9FA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A7DFB-EE13-4056-9CF5-109D25288C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300BD-E606-4E77-B928-4A710B1AD13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CC73E-666C-4641-B389-852FB9F60E8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E96B6-BDF7-4E2E-8D9B-D7F47C9A91F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B40C5-B36D-4064-B217-39925D29094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F1FB7-51D2-4313-9D49-DB39A6ECF6C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9F24A-C905-48B1-BEA9-02C05E68E3A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849BB-DC6D-4580-85A9-FB75E7C3D3F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A9948-8B0E-404C-AC17-4D76BA9B78C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A7047-EC8B-4636-A45A-E91EE19AC88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CCC041-3984-4403-AF20-12DE251B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90D92-95C9-4B68-91B9-525D7FE5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81BC8-170C-4B70-8A75-A9BD05C3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98962-749B-4241-BD28-D8EEDEA0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530D37-FBE5-44BB-A157-0FC5AECD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B57C09-1671-467A-BD79-462D93C0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C14BF8-29A0-4263-969D-B8638F30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F1926-72AA-47DF-ADF8-6993B5BB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922A3C-2048-4456-BCD3-DD508642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2573CA-AE9B-4163-8428-83D58426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61AE6-37B5-4D50-8296-38268FE5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5C917-6F0F-4B99-A8EA-B988D675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D43E93-41E7-4D67-8CC4-30DB560C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5BF7F-5FB1-41C5-B199-7C8B3F74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DC535-A81D-4171-8D09-A53E5A43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827C9C-D5EA-4BF4-830B-957157A3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86D82-261C-4564-82B4-82248711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5E4F8C-F969-4A87-9F3B-202C64BB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6B3964-4749-4443-B5E3-CF2D6898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AA156-E3F0-436B-A907-1E965DA2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68660-7786-40D1-B3BD-AF63B3B9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6CCAB8-9ED4-4C5F-B04A-89E8C1BF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FF35C6-1FA1-4F6C-AA62-2DB6C769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4522A-B54D-4423-A460-B32A7CA4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F4FBD5-C610-41D5-91C4-9536F244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5DEE50-7DF3-4DEE-9423-B75E23BE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DEE4E1-8156-4B17-8A98-E244D45E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579594-FA9B-4CBA-A6FD-4DE781C1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88CC19-921C-41DE-A83D-FE199D17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0B6A56-375E-459F-A871-308EF5CA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B6F7CF-1E26-4DFC-93BB-A41DA8D4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B089B7-47D3-4195-BD45-DD7D321B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6B2F8B-C9B7-43F0-B9AE-51A0874A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CF8409-25BC-4025-9E2A-4B594B47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A5DE37-731B-4C6B-BF82-0BD94441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7AA5B5-3064-46CD-AD66-55777FB5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9AF29D-E916-488C-A77E-E28B4B37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A465E7-B165-4B7D-93D5-0E820D8E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A0BDF1-373C-4D4A-B656-9FD33A62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789BCA-A52F-4B00-97A5-DE29BC8A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02E8B7-A23C-4E6B-BBF3-5DDBDDA8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C2C8FC-6664-47DD-AD7A-D5E80F2E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1E7DA5-3A7D-45B8-B1FC-395DE241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F4D7C7-4432-456E-9523-CD031F6A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918626-455C-4ED0-BF72-3D7CE5FB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0EB870-18EC-4A05-B7DC-49EE02CF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864440-8385-4B95-AD46-8FC7F7A2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CDD795-4DC9-4F3B-AA91-8E7344A5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873344-2E2E-4DD0-98CA-CFC9DB3C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617968-161C-4517-8CDC-AC2F1769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987C80-804E-4B8F-90B8-661246E2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6F5ECA-BB92-42B4-AF3B-79768AE9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0A2194-5F2E-416E-ACA0-88361BE2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5CC162-72AE-41A4-9D21-0282D343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F64E06-FCB6-43AD-BEA7-9EA04FEF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40FB1A-C004-4470-87B2-C4BF8011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ECAFFA-879E-4F4F-85F8-CB9AAA3E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F55629-5C52-4F1A-A5AA-130EE811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BEDADE-86BE-4365-93B3-8566FFC3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14E617-74C7-4368-A8ED-D4E08143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32FFAF-DF61-407F-BCC4-19C8AFF5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A8ED3C-0B7B-4787-9BD6-E9776B38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2CDD4E-1117-471F-8D56-E0B3A65F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34B624-5B77-4925-9620-F67DEFF4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167015-D220-44B0-8A53-97723929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9D392C-6A68-4A4A-B265-FCEE1BCF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80111E-6268-4645-B776-726842A6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BA92E2-93FE-4A94-BDF9-6D3C4ED5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5D3C4A-DE8F-445E-BE1D-B6C971AC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ADECEA-15DF-4763-9154-B5EA684A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96F802-2F94-4C6D-8E25-00F623A9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A940B9-8596-4ADA-B3FE-4AD9085D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D0BA06-4F70-4DB9-9098-E02E5C6E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3ABDE7-4351-417A-AC1A-F176B55A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E3CCA2-1D33-4B58-AFC8-574F9DAD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55895C-BE3B-430D-9FA1-BC212197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473B21-66C6-425C-A4F9-B1E5EE28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503F53-D006-47D0-93DC-92655986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BB3395-0CDE-4FD2-90F8-739CCF1D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E99EF7-166E-4356-9A06-0BEBC052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7CD094-E2E5-4329-815A-FB64095B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CFA5C3-741C-4BA0-8EFE-475CD849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B98AF4-AF23-43C2-AD24-BDB0EE26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C0E356-AADD-4AEF-9D17-1D25E370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3445ED-F13E-42F5-8001-ADF9297D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80471B-DE35-44E8-B53E-37A0372B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CBC056-12E8-4EC6-89BA-89AC01D3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B17DBD-B34E-4ECF-AA6D-20FA978D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BDF114-71ED-4A2E-9BBB-76A66462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DFF3EB-ECC8-46EB-9401-BE40BC17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E4A706-A477-4C43-9089-005E2A1B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BD8727-5F20-4CA2-90CA-9550673F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F71F1A-3626-4401-A7BC-2A4126CE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0CBA25-6966-459B-8534-5D54AFD8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D86520-76FC-42B4-9635-3D0B4B73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CAEECA-6B0F-4DB0-8D7E-EBA02E3A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0F3003-1FAE-44D0-A815-85BF804E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909D3B-C08F-442F-8B78-35337D0A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D234DA-9537-4552-8704-3D2EA8F7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D0330A-CF33-45C4-ADD5-24111546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CE11D8-880E-4CBC-9C03-C96180E0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597AA6-345C-42F1-9A3E-8F0952AA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4B615F-DEB4-4C46-87BC-3DBDE871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79BAE7-A93D-48B5-8517-EE188B14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756306-C751-4325-85C1-3FC9D3DF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1C2DBB-C047-4F3A-B975-878A25D4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6D646A-27EE-45E9-A0F4-CB0E3622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C621F0-EFDD-46BD-A990-F0D274D9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28E0B9-35C4-4E9D-B3FC-9EF495EF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CE2630-B0ED-4883-B934-04D7E6E5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93F2E9-3833-4F21-A546-ADD8E7AF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1971D5-5B52-4AA7-AE20-04D9A7E5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277DA1-53C0-43ED-B0B0-4EF984A0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1C4109-3806-4583-A8DE-943C4BEA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F45111-9140-437A-AB42-F6F4CBE7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6B0514-28D9-4F72-AD34-37381E7D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F556D9-EB5D-438F-B9F1-96B6DD5D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B2C849-9131-4A06-B904-852350F8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093E0C-141F-472D-A7F5-E0154361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B2CBE0-8DEE-4909-9507-37275BF2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7B13868-29E8-47EF-B16A-98DAE314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2ABCE70-133C-499A-A13A-FC2CC804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53C3D9D-9D82-4573-9420-03554291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FC8EFC-6F8F-4E7B-B7E1-21576732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A64C280-C810-413F-B98A-9AF33CBB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2A02F89-DAA4-42CE-9760-66F3E3C1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7973B0-8DC5-4F8D-B858-6E1FB8F2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185F7D-2688-4215-BA59-5B3E8799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1FE6C0-5B42-4B90-B65B-940C1C8E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56130D-1225-453F-9966-2FAAC855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0B2E5A-279C-4EF9-9647-1032560F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6137DF-8502-4664-9EFA-FEFA212B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471-2F8A-43C2-BE16-FF9A17D5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90F-E75B-4B74-9382-CDD56118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6E6-58AA-4908-B422-F8E93080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05E-57CC-4A12-A0E6-6790E62B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237-C0B7-4D09-AD80-B7DE3B7F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38E-387F-470C-88B6-31945562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E89-1CA6-4A43-8895-D4497BCE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1D3-0F7B-415B-B6D6-2C7445D3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E9E-3CC5-4F0C-AC4A-75E2C74C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3DD-C52D-4931-98C9-0C1C0F82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243-EAC0-4DA8-9C62-E28BC07A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817-0A76-4940-98D6-74DC9AFC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BA0E-BD56-4BC3-AB44-9471F4D4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FD88-CAB0-4A3A-A8AA-A854A8D5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E31A-5EFD-4F3A-AF6D-137860D9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7E4E-B46D-4045-A3C4-E8868FBE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DE9E-F281-4D98-8A0B-900E8FBF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EA3F-69BE-43B7-8380-DB82C13E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7DC3-E958-44F3-8F33-32F77ED4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DC9C-A65E-41F6-BF2D-2100F294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78AD-B5C3-4DA7-AA59-8C8269D9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1FCD-95FE-4840-A064-39F34FBD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6A99-3512-4E95-A863-C5F0DEE1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FA03-05D1-4159-A4DE-BCA63848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95AD89-5247-4E21-B8D9-803EA4D1B58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9B3F9-0AE7-4608-B1DA-DF8BEB5B3B2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70EB3C-1B48-4151-875A-9D2FC3FCF13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FC93E4-D9A6-4E99-B54C-3779162ED13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4CC018-7577-47DA-AA8E-AE1AB78C4D6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D4B845-3D31-4AB0-A2B4-54303F55529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BD5EE8-EBF0-4AFE-B6E9-810000A77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CF425D-992B-4880-A5CC-04E8E7BF9F6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221DE-A86C-4247-BADD-BD694E30A2B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3E2813-4D9F-41EB-8018-C739D9F621C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F3EA0D-A525-449D-A9B0-2CCEC4268BB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88874B-09A7-4BAD-B6CC-A3E643F1056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7FCD1-045A-4487-A391-716F2227182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F3927-C1DC-4450-89E8-A22CD826CBC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602CB-1160-4CB7-AF87-27CED9D5CC4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61DEA-9AD8-4175-BDFB-876A1C4F410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63897-6654-41A1-BFCD-0ABBA41DC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94489-8844-4E2E-A820-D45D88413CE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5965E-1E12-4972-8640-F1BB686327C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5C454-D208-4B73-9273-5F38AFE4DC2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F1AFC-B819-40C9-9243-7261448955C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0DE59-4C6F-4A71-B40E-7CAAE3225D1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373CC-1708-471F-A94C-B7A84975A00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A13AC-FF58-4396-9BA2-04790EA275B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B71B-FC9F-4CD6-A602-DB4EA634EDF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B9F3-E73E-461A-9569-C3929F13FD6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56EB-DD4F-42A5-AF70-A5B3FD0AF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43-CR-Logo-rev_small.png"/>
          <p:cNvPicPr/>
          <p:nvPr/>
        </p:nvPicPr>
        <p:blipFill>
          <a:blip r:embed="rId3"/>
          <a:stretch/>
        </p:blipFill>
        <p:spPr>
          <a:xfrm>
            <a:off x="0" y="4170240"/>
            <a:ext cx="4114800" cy="268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43-CR-Logo-Final-11Jan12_small.png"/>
          <p:cNvPicPr/>
          <p:nvPr/>
        </p:nvPicPr>
        <p:blipFill>
          <a:blip r:embed="rId4"/>
          <a:stretch/>
        </p:blipFill>
        <p:spPr>
          <a:xfrm>
            <a:off x="0" y="4724280"/>
            <a:ext cx="3267000" cy="21337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0FC81-0A8E-4583-BBB1-23B5047129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43-CR-Logo-Final-11Jan12_small.png"/>
          <p:cNvPicPr/>
          <p:nvPr/>
        </p:nvPicPr>
        <p:blipFill>
          <a:blip r:embed="rId4"/>
          <a:stretch/>
        </p:blipFill>
        <p:spPr>
          <a:xfrm>
            <a:off x="0" y="4724280"/>
            <a:ext cx="3267000" cy="21337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D2250-B5BE-4178-87F0-ADC66D4668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43-CR-Logo-Final-11Jan12_small.png"/>
          <p:cNvPicPr/>
          <p:nvPr/>
        </p:nvPicPr>
        <p:blipFill>
          <a:blip r:embed="rId4"/>
          <a:stretch/>
        </p:blipFill>
        <p:spPr>
          <a:xfrm>
            <a:off x="0" y="4724280"/>
            <a:ext cx="3267000" cy="21337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52866-A221-4A4E-88EA-8346E38048A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43-CR-Logo-Final-11Jan12_small.png"/>
          <p:cNvPicPr/>
          <p:nvPr/>
        </p:nvPicPr>
        <p:blipFill>
          <a:blip r:embed="rId4"/>
          <a:stretch/>
        </p:blipFill>
        <p:spPr>
          <a:xfrm>
            <a:off x="0" y="4724280"/>
            <a:ext cx="3267000" cy="2133720"/>
          </a:xfrm>
          <a:prstGeom prst="rect">
            <a:avLst/>
          </a:prstGeom>
          <a:ln w="0">
            <a:noFill/>
          </a:ln>
        </p:spPr>
      </p:pic>
      <p:sp>
        <p:nvSpPr>
          <p:cNvPr id="48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B4DE5-3F4C-41F5-A130-2E49710094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43-CR-Logo-Final-11Jan12_small.png"/>
          <p:cNvPicPr/>
          <p:nvPr/>
        </p:nvPicPr>
        <p:blipFill>
          <a:blip r:embed="rId3"/>
          <a:stretch/>
        </p:blipFill>
        <p:spPr>
          <a:xfrm>
            <a:off x="0" y="5164200"/>
            <a:ext cx="2590920" cy="169236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2A636-8389-471B-8233-C5C5C30D7E3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DAE25-8F55-4557-B994-2B0F30FB473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8262E-3A79-4F5F-A716-27C3DD4EAB3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C0EA6-8259-4E19-A56D-54CEFC30AA5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DEA5A-37EF-47E0-A1E1-EC6797C9C6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8DCF0-83C3-45F7-BF39-B6FBC2DE4CA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9F995-2723-41B0-96B7-1962006A32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24560-B506-4126-996A-1363402F76D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569CB-9553-4371-8555-686A966B76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82ADF-C7A9-48DA-BA35-D8E9A55299C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85F76-303D-4FA5-A022-8EC65BEAF6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838080" y="2743200"/>
            <a:ext cx="1009800" cy="20574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6" descr="43-CR-Logo-Final-11Jan12_small.png"/>
          <p:cNvPicPr/>
          <p:nvPr/>
        </p:nvPicPr>
        <p:blipFill>
          <a:blip r:embed="rId4"/>
          <a:stretch/>
        </p:blipFill>
        <p:spPr>
          <a:xfrm>
            <a:off x="-41400" y="4740120"/>
            <a:ext cx="3241800" cy="211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F651B-976B-4CF2-A947-63EAFA836EB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D57F9-84F9-498D-8D4D-B398E03344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AB950-0400-498F-9051-94BB36CCBC6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E1160-6735-4DBE-8C84-AA29DC9D57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85791-1B49-4634-89F2-1F8A12F5FBB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F47F4-6BFC-4514-84E7-5807944D89C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859EF-347B-4F6C-BC3C-C7CDE7CBD37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E6B73-9E11-4CCB-AC32-B2FB3D9F447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CE27F-AC65-436A-AF60-1CB0C20A0F3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F615A-B612-4996-9E36-30AADDCD7C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E6B00-48D4-4FCB-B017-28E4B597B2E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EB517-F9A4-4030-99FC-E7FA6820AF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43-CR-Logo-Final-11Jan12_small.png"/>
          <p:cNvPicPr/>
          <p:nvPr/>
        </p:nvPicPr>
        <p:blipFill>
          <a:blip r:embed="rId4"/>
          <a:stretch/>
        </p:blipFill>
        <p:spPr>
          <a:xfrm>
            <a:off x="0" y="4724280"/>
            <a:ext cx="3267000" cy="213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43-CR-Logo-Final-11Jan12_small.png"/>
          <p:cNvPicPr/>
          <p:nvPr/>
        </p:nvPicPr>
        <p:blipFill>
          <a:blip r:embed="rId3"/>
          <a:stretch/>
        </p:blipFill>
        <p:spPr>
          <a:xfrm>
            <a:off x="0" y="5164200"/>
            <a:ext cx="2590920" cy="16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3F09A-2E8A-42E2-B2B7-151C002D43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AD65D-32DF-444A-9FBC-4CB520812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81B0-7EF3-426D-AE9E-B638FA324D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B7CC-60AD-4B27-8FB1-173B0EB9D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838080" y="2743200"/>
            <a:ext cx="1009800" cy="2057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43-CR-Logo-Final-11Jan12_small.png"/>
          <p:cNvPicPr/>
          <p:nvPr/>
        </p:nvPicPr>
        <p:blipFill>
          <a:blip r:embed="rId4"/>
          <a:stretch/>
        </p:blipFill>
        <p:spPr>
          <a:xfrm>
            <a:off x="-41400" y="4740120"/>
            <a:ext cx="3241800" cy="21178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sldNum" idx="7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07078-FB56-4257-A459-3A18DD75EB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43-CR-Logo-Final-11Jan12_small.png"/>
          <p:cNvPicPr/>
          <p:nvPr/>
        </p:nvPicPr>
        <p:blipFill>
          <a:blip r:embed="rId4"/>
          <a:stretch/>
        </p:blipFill>
        <p:spPr>
          <a:xfrm>
            <a:off x="0" y="4724280"/>
            <a:ext cx="3267000" cy="21337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07AE7-ED7A-4220-B573-4E97EBC12C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43-CR-Logo-Final-11Jan12_small.png"/>
          <p:cNvPicPr/>
          <p:nvPr/>
        </p:nvPicPr>
        <p:blipFill>
          <a:blip r:embed="rId4"/>
          <a:stretch/>
        </p:blipFill>
        <p:spPr>
          <a:xfrm>
            <a:off x="0" y="4724280"/>
            <a:ext cx="3267000" cy="21337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4552C-7176-487C-982A-7DB354D05D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Country and Territory Names Study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Calibri"/>
              </a:rPr>
              <a:t>12 March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Calibri"/>
              </a:rPr>
              <a:t>San Jose, Costa 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01EE2-A4AF-49AF-9080-15FF5F9569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2. ISO-3166-1 Alpha 3 c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at is your country’s / territory’s three-letter representation in the International Organization for Standardization’s (ISO) 3166-1 list? </a:t>
            </a: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Used in App Guidebook to define “country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3-letter codes (such as AUS, NZL or DEU) are commonly used within a range of activities –international sporting events and postal and transport indust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6EC3F-0F30-487C-B81C-414BDFD739B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3. Other common abbrevi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Are there any other commonly-used abbreviations for your country or territory? Please provide examples and cite referen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Range of other 3-letter code lists: not all align with ISO3166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Trying to assess if there are “other” abbrevi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5C002-7D32-4389-8B5D-E780844719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290988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4. Official / formal Long-form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at is your country or territory’s “official” long-form name? This may also be referred to as a “formal” name, “principal” name or “name used for administrative purposes”.</a:t>
            </a:r>
            <a:r>
              <a:rPr b="0" i="1" lang="en-A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If this is in multiple “designated” languages or scripts, please include all examples and cite references.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Acknowledge not all C&amp;Ts have “official” name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, but this term has meaning to mo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Used “designated” not “official” languages for consistency with the IDN ccPDP WG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6E4B1-93C1-4055-8EF7-FF2B849807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5. Official / formal short-form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at is your country’s / territory’s “official” short-form name? This may also be referred to as a “formal” name, “principal” name or “name used for administrative purposes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If this is in multiple “designated” languages or scripts, please include all examples and cite references.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Same as Q4: An example is: “Australia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t using term “conventional” name…this tends to mean name in Englis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69BAB-22E9-4C98-A435-9A12A8C872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6. Country and territory name in the six official languages of the U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Please provide both the long and short form name of your country / territory in the six official languages of the United Nations - Arabic, Chinese (Mandarin), English, French, Russian, Spanis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roducing concept of country name in non local / official / common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Link to UNGEGN materials provides guidance for those unfamiliar with Chinese / Arabic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916A1-D1E8-4D86-B889-C81B867D8F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7. Names of other respondents in official / administrative language/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Please provide the long and short form names of the other participants in this survey (listed below &lt;to be inserted&gt;) in your designated language/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ansion of name in “unofficial” languages concep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Your name in unofficial / all other languages” is to vague and bro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288D6-2012-4BC3-ADCE-2120F65C6B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8. Examples of other commonly used or local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Please provide examples of any other commonly-used or local representations of your country / territory name. For example: “Holland”. If possible, please provide references or citations for these representations. 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Question that captures other re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Again, “proof” or explanation required to substantiate clai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98628-053B-4966-8410-104685037FF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9. Examples of country / territory name in minority or indigenous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Please provide examples of indigenous or minority representations of your country / territory name. If possible, please provide references or citations for these representati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Important to capture indigenous / regional nam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Names used by migrant populations are also importan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89876-B11F-4602-A1E1-C1BCAC4DBF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10. Examples of name in non-official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Please provide examples of any other representations of your country / territory name that may not have been captured by the above categories. If possible, please provide explanation and references or citations for these representati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is is the horribly broad “catch all” question, though phrased as “any others?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By placing it at the end, most significant representations should already be cover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1A195-9661-4118-999E-80B3639568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304632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istribution of surv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ntinued briefing of constitu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evelopment of “issues paper” to outline process and progress to d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Public consultation well before Pra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nalysis of new gTLD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nalysis of survey respo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ossible secondary survey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raft Report for consul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inal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3048120" y="152388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oll-call &amp; ap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rief Recap </a:t>
            </a:r>
            <a:br>
              <a:rPr sz="32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- purpose and scope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- workplan  / sched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Finalisation of survey</a:t>
            </a:r>
            <a:br>
              <a:rPr sz="3200"/>
            </a:br>
            <a:r>
              <a:rPr b="0" lang="en-AU" sz="2800" spc="-1" strike="noStrike" u="sng">
                <a:solidFill>
                  <a:srgbClr val="000000"/>
                </a:solidFill>
                <a:uFillTx/>
                <a:latin typeface="Calibri"/>
              </a:rPr>
              <a:t>- Background and question-by-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next? (time allow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E4F92-4351-4C3E-88C6-2A6DD94D12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1"/>
          <p:cNvSpPr/>
          <p:nvPr/>
        </p:nvSpPr>
        <p:spPr>
          <a:xfrm>
            <a:off x="427680" y="2057400"/>
            <a:ext cx="1648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7f7f7f"/>
                </a:solidFill>
                <a:latin typeface="Trebuchet MS"/>
              </a:rPr>
              <a:t>Go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7f7f7f"/>
                </a:solidFill>
                <a:latin typeface="Trebuchet MS"/>
              </a:rPr>
              <a:t>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7f7f7f"/>
                </a:solidFill>
                <a:latin typeface="Trebuchet MS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F2E66-3BE1-40F2-B518-6B259B3D96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urpose and s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057120" y="1412640"/>
            <a:ext cx="56847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Trebuchet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ok at current (and proposed) landscap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Trebuchet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Trebuchet MS"/>
                <a:ea typeface="Trebuchet MS"/>
              </a:rPr>
              <a:t>Look at the different representations of Countries and Territorie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Trebuchet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rovide overview of what happens when we apply policies to these name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Liaise with relevant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ort to ccNSO Counc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Right Arrow 1"/>
          <p:cNvSpPr/>
          <p:nvPr/>
        </p:nvSpPr>
        <p:spPr>
          <a:xfrm>
            <a:off x="2133720" y="2666880"/>
            <a:ext cx="1143000" cy="304920"/>
          </a:xfrm>
          <a:prstGeom prst="rightArrow">
            <a:avLst>
              <a:gd name="adj1" fmla="val 50000"/>
              <a:gd name="adj2" fmla="val 4998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6"/>
          <p:cNvSpPr/>
          <p:nvPr/>
        </p:nvSpPr>
        <p:spPr>
          <a:xfrm>
            <a:off x="152280" y="212868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7f7f7f"/>
                </a:solidFill>
                <a:latin typeface="Trebuchet MS"/>
              </a:rPr>
              <a:t>Current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ight Arrow 2"/>
          <p:cNvSpPr/>
          <p:nvPr/>
        </p:nvSpPr>
        <p:spPr>
          <a:xfrm rot="2548800">
            <a:off x="1239840" y="4043160"/>
            <a:ext cx="2130480" cy="212400"/>
          </a:xfrm>
          <a:prstGeom prst="rightArrow">
            <a:avLst>
              <a:gd name="adj1" fmla="val 50000"/>
              <a:gd name="adj2" fmla="val 501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365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11E01-0948-48B2-ACB1-15CF424FE2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Outside of purpose &amp; s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895120" y="1599840"/>
            <a:ext cx="583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efining what is and isn’t a ccT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rvening in first round of new gTLDs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Judging previous policy approa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Making recommendations for additional protections for C&amp;T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eveloping a definitive recommendation for how C&amp;T names should be tr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Rectangle 1"/>
          <p:cNvSpPr/>
          <p:nvPr/>
        </p:nvSpPr>
        <p:spPr>
          <a:xfrm>
            <a:off x="228600" y="1600200"/>
            <a:ext cx="2128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7f7f7f"/>
                </a:solidFill>
                <a:latin typeface="Trebuchet MS"/>
              </a:rPr>
              <a:t>The elements that are outside of the Study Group’s mandate are being made clear to all stakehol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7f7f7f"/>
                </a:solidFill>
                <a:latin typeface="Trebuchet MS"/>
              </a:rPr>
              <a:t>This includes survey particip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1FAA7-D073-4B1A-AAED-E53E43E383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plan &amp; 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2895480" y="1599840"/>
            <a:ext cx="5989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evelop policy overview  </a:t>
            </a:r>
            <a:r>
              <a:rPr b="1" lang="en-AU" sz="2400" spc="-1" strike="noStrike">
                <a:solidFill>
                  <a:srgbClr val="c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Trebuchet MS"/>
                <a:ea typeface="Trebuchet MS"/>
              </a:rPr>
              <a:t>Develop scope of typology – Nea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UNESCO survey – March to J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G discussion of issues – March to J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ssues Paper – Consultation – Pra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urther survey work </a:t>
            </a:r>
            <a:r>
              <a:rPr b="0" lang="en-AU" sz="2400" spc="-1" strike="noStrike">
                <a:solidFill>
                  <a:srgbClr val="c00000"/>
                </a:solidFill>
                <a:latin typeface="Trebuchet MS"/>
                <a:ea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inal round community consultation &amp; briefing – Toronto, Oct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inal Report – End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823D8-4567-42AF-B2D4-990C30E1AC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04560" y="-1526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</a:t>
            </a:r>
            <a:r>
              <a:rPr b="0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 (a.k.a.“the typology”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2971440" y="12949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greement by UNESCO to assist in Sept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Trebuchet MS"/>
                <a:ea typeface="Trebuchet MS"/>
              </a:rPr>
              <a:t>At least</a:t>
            </a: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a sampling of 20-25 Member St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ormulation by this S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tates selected with geographic diversity in mi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8 – 12 week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48131-17B3-4255-A13D-9A0F2A58F5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2921040" y="1282320"/>
            <a:ext cx="5989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Gathering info but also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Trebuchet MS"/>
                <a:ea typeface="Trebuchet MS"/>
              </a:rPr>
              <a:t>testing th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rvey repeatedly asks for examples / references / citations of clai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ossibility, time allowing, of refinement and broader secondary surv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lso circulated to wider ICANN community (e.g. NGOs thru ALA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13"/>
          <p:cNvSpPr/>
          <p:nvPr/>
        </p:nvSpPr>
        <p:spPr>
          <a:xfrm>
            <a:off x="2476440" y="5095800"/>
            <a:ext cx="1828800" cy="571680"/>
          </a:xfrm>
          <a:prstGeom prst="rect">
            <a:avLst/>
          </a:prstGeom>
          <a:solidFill>
            <a:srgbClr val="dce6f2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interested bodies, including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8"/>
          <p:cNvSpPr/>
          <p:nvPr/>
        </p:nvSpPr>
        <p:spPr>
          <a:xfrm>
            <a:off x="2432160" y="2581200"/>
            <a:ext cx="1828800" cy="2133720"/>
          </a:xfrm>
          <a:prstGeom prst="rect">
            <a:avLst/>
          </a:prstGeom>
          <a:solidFill>
            <a:srgbClr val="dce6f2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ESCO responsib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icial letter -in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I Newslet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other countr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ll interested in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0" name="Straight Arrow Connector 24"/>
          <p:cNvCxnSpPr/>
          <p:nvPr/>
        </p:nvCxnSpPr>
        <p:spPr>
          <a:xfrm flipH="1">
            <a:off x="4260600" y="2955600"/>
            <a:ext cx="1566000" cy="108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1" name="Straight Arrow Connector 25"/>
          <p:cNvCxnSpPr/>
          <p:nvPr/>
        </p:nvCxnSpPr>
        <p:spPr>
          <a:xfrm flipV="1">
            <a:off x="4210200" y="3577680"/>
            <a:ext cx="3116880" cy="108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2" name="Rectangle 26"/>
          <p:cNvSpPr/>
          <p:nvPr/>
        </p:nvSpPr>
        <p:spPr>
          <a:xfrm>
            <a:off x="5826240" y="1081080"/>
            <a:ext cx="1280880" cy="4586400"/>
          </a:xfrm>
          <a:prstGeom prst="rect">
            <a:avLst/>
          </a:prstGeom>
          <a:solidFill>
            <a:srgbClr val="fdeada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mination of the national institution responsible for the completion of the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9"/>
          <p:cNvSpPr/>
          <p:nvPr/>
        </p:nvSpPr>
        <p:spPr>
          <a:xfrm>
            <a:off x="3063960" y="1676520"/>
            <a:ext cx="1828800" cy="336600"/>
          </a:xfrm>
          <a:prstGeom prst="rect">
            <a:avLst/>
          </a:prstGeom>
          <a:solidFill>
            <a:srgbClr val="fdeada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Commissio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4" name="Straight Arrow Connector 30"/>
          <p:cNvCxnSpPr/>
          <p:nvPr/>
        </p:nvCxnSpPr>
        <p:spPr>
          <a:xfrm>
            <a:off x="8115120" y="4293720"/>
            <a:ext cx="1080" cy="19551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5" name="Straight Arrow Connector 38"/>
          <p:cNvCxnSpPr/>
          <p:nvPr/>
        </p:nvCxnSpPr>
        <p:spPr>
          <a:xfrm>
            <a:off x="3284280" y="4714560"/>
            <a:ext cx="1080" cy="4323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6" name="Rectangle 11"/>
          <p:cNvSpPr/>
          <p:nvPr/>
        </p:nvSpPr>
        <p:spPr>
          <a:xfrm>
            <a:off x="3063960" y="1295280"/>
            <a:ext cx="1828800" cy="381240"/>
          </a:xfrm>
          <a:prstGeom prst="rect">
            <a:avLst/>
          </a:prstGeom>
          <a:solidFill>
            <a:srgbClr val="fdeada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manent Delegatio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46"/>
          <p:cNvSpPr/>
          <p:nvPr/>
        </p:nvSpPr>
        <p:spPr>
          <a:xfrm>
            <a:off x="7391520" y="2581200"/>
            <a:ext cx="1447560" cy="1712880"/>
          </a:xfrm>
          <a:prstGeom prst="rect">
            <a:avLst/>
          </a:prstGeom>
          <a:solidFill>
            <a:srgbClr val="ddd9c3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-survey complete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nominated national instit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traight Connector 56"/>
          <p:cNvSpPr/>
          <p:nvPr/>
        </p:nvSpPr>
        <p:spPr>
          <a:xfrm>
            <a:off x="2593800" y="1676520"/>
            <a:ext cx="0" cy="9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9" name="Straight Arrow Connector 59"/>
          <p:cNvCxnSpPr/>
          <p:nvPr/>
        </p:nvCxnSpPr>
        <p:spPr>
          <a:xfrm>
            <a:off x="2593800" y="1676160"/>
            <a:ext cx="442080" cy="108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50" name="Rectangle 67"/>
          <p:cNvSpPr/>
          <p:nvPr/>
        </p:nvSpPr>
        <p:spPr>
          <a:xfrm>
            <a:off x="4452840" y="3255840"/>
            <a:ext cx="1254240" cy="824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surv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70"/>
          <p:cNvSpPr/>
          <p:nvPr/>
        </p:nvSpPr>
        <p:spPr>
          <a:xfrm>
            <a:off x="4460760" y="2619360"/>
            <a:ext cx="123840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icial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73"/>
          <p:cNvSpPr/>
          <p:nvPr/>
        </p:nvSpPr>
        <p:spPr>
          <a:xfrm>
            <a:off x="2432160" y="3724200"/>
            <a:ext cx="1546200" cy="914400"/>
          </a:xfrm>
          <a:prstGeom prst="rect">
            <a:avLst/>
          </a:prstGeom>
          <a:noFill/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3" name="Straight Arrow Connector 81"/>
          <p:cNvCxnSpPr>
            <a:endCxn id="1054" idx="2"/>
          </p:cNvCxnSpPr>
          <p:nvPr/>
        </p:nvCxnSpPr>
        <p:spPr>
          <a:xfrm flipV="1">
            <a:off x="1176480" y="5310000"/>
            <a:ext cx="8640" cy="93888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5" name="Straight Arrow Connector 85"/>
          <p:cNvCxnSpPr/>
          <p:nvPr/>
        </p:nvCxnSpPr>
        <p:spPr>
          <a:xfrm>
            <a:off x="541440" y="3358800"/>
            <a:ext cx="1891440" cy="108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56" name="Rectangle 87"/>
          <p:cNvSpPr/>
          <p:nvPr/>
        </p:nvSpPr>
        <p:spPr>
          <a:xfrm>
            <a:off x="2476440" y="5881680"/>
            <a:ext cx="4646520" cy="2764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NESCO communicates  results to the working group for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3"/>
          <p:cNvSpPr/>
          <p:nvPr/>
        </p:nvSpPr>
        <p:spPr>
          <a:xfrm>
            <a:off x="380880" y="2290680"/>
            <a:ext cx="1608120" cy="1433520"/>
          </a:xfrm>
          <a:prstGeom prst="rect">
            <a:avLst/>
          </a:prstGeom>
          <a:solidFill>
            <a:srgbClr val="ebf1de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rvey prepa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selection criteria of 20-25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survey developed and sent to UNE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Straight Arrow Connector 89"/>
          <p:cNvCxnSpPr/>
          <p:nvPr/>
        </p:nvCxnSpPr>
        <p:spPr>
          <a:xfrm flipV="1">
            <a:off x="4114440" y="4739400"/>
            <a:ext cx="1080" cy="3819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54" name="Rectangle 97"/>
          <p:cNvSpPr/>
          <p:nvPr/>
        </p:nvSpPr>
        <p:spPr>
          <a:xfrm>
            <a:off x="380880" y="3876840"/>
            <a:ext cx="1608120" cy="1433520"/>
          </a:xfrm>
          <a:prstGeom prst="rect">
            <a:avLst/>
          </a:prstGeom>
          <a:solidFill>
            <a:srgbClr val="ebf1de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rvey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group members analy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receive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s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9" name="Straight Arrow Connector 103"/>
          <p:cNvCxnSpPr/>
          <p:nvPr/>
        </p:nvCxnSpPr>
        <p:spPr>
          <a:xfrm>
            <a:off x="5333760" y="1676160"/>
            <a:ext cx="1080" cy="90540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60" name="Straight Connector 136"/>
          <p:cNvSpPr/>
          <p:nvPr/>
        </p:nvSpPr>
        <p:spPr>
          <a:xfrm flipH="1">
            <a:off x="1174680" y="6248520"/>
            <a:ext cx="6940800" cy="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141"/>
          <p:cNvSpPr/>
          <p:nvPr/>
        </p:nvSpPr>
        <p:spPr>
          <a:xfrm>
            <a:off x="721440" y="457200"/>
            <a:ext cx="927360" cy="276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142"/>
          <p:cNvSpPr/>
          <p:nvPr/>
        </p:nvSpPr>
        <p:spPr>
          <a:xfrm>
            <a:off x="2596320" y="457200"/>
            <a:ext cx="819360" cy="276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ri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44"/>
          <p:cNvSpPr/>
          <p:nvPr/>
        </p:nvSpPr>
        <p:spPr>
          <a:xfrm>
            <a:off x="4770000" y="457200"/>
            <a:ext cx="1149840" cy="276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ril/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47"/>
          <p:cNvSpPr/>
          <p:nvPr/>
        </p:nvSpPr>
        <p:spPr>
          <a:xfrm>
            <a:off x="7429680" y="457200"/>
            <a:ext cx="1143720" cy="276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/Jun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48"/>
          <p:cNvSpPr/>
          <p:nvPr/>
        </p:nvSpPr>
        <p:spPr>
          <a:xfrm>
            <a:off x="4257000" y="6324480"/>
            <a:ext cx="1105920" cy="276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/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1"/>
          <p:cNvSpPr/>
          <p:nvPr/>
        </p:nvSpPr>
        <p:spPr>
          <a:xfrm>
            <a:off x="2432160" y="2587680"/>
            <a:ext cx="1842840" cy="990720"/>
          </a:xfrm>
          <a:prstGeom prst="rect">
            <a:avLst/>
          </a:prstGeom>
          <a:noFill/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7" name="Straight Arrow Connector 155"/>
          <p:cNvCxnSpPr/>
          <p:nvPr/>
        </p:nvCxnSpPr>
        <p:spPr>
          <a:xfrm>
            <a:off x="4876560" y="1671480"/>
            <a:ext cx="950040" cy="57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23E27-6368-47E8-9828-7873709C5F0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1. ISO-3166-1 Alpha 2 c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at is your country’s / territory’s two-letter representation in the International Organization for Standardization’s (ISO) 3166-1 lis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Basis for cc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Agreed, commonly used re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22:18:10Z</dcterms:created>
  <dc:creator>Paul Szyndler</dc:creator>
  <dc:description/>
  <dc:language>en-US</dc:language>
  <cp:lastModifiedBy>PS</cp:lastModifiedBy>
  <dcterms:modified xsi:type="dcterms:W3CDTF">2012-03-09T04:15:18Z</dcterms:modified>
  <cp:revision>48</cp:revision>
  <dc:subject/>
  <dc:title>C&amp;TNSG - San Jose</dc:title>
</cp:coreProperties>
</file>